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41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29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3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272-D330-4049-8482-92D6345A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CF8-C9AF-4B56-BBE2-F1635EA1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DB1-9B2F-47A6-823F-B80A242F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63B-26C5-4B05-8D85-312E31CB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40516-7EE3-4B4A-AE8A-2F664A57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9595D-85C8-430D-B2D7-78C7483C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AAE27-4856-4422-9B10-C417F36B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6DE47-42BB-40B7-8885-4CB7FC9D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C51BD-E4DA-43E3-9CA8-4BC883E2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6A625-1C4A-4688-BB6F-4D6695D2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F7553-9286-46EE-A820-04B9CA1B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0B1-9E8D-4589-8287-C457A37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EE066-6B9F-445E-B6B6-CD86784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33AEF-1D74-4DF0-855B-3F26706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FC60D-E80A-45A8-9FE6-0CFC615D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D2D3E-205E-4CBA-9F94-F3C328A1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11820-5789-4AB6-B1AD-FE4D3818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61463-BDDA-44BA-A228-8EDC5AF0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0FB5-8D57-4D27-A174-FEF234B0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E1F6-C129-46C3-9830-06C6FCBF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E011-C7C4-43CF-9BFE-617A3668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C60F-F2E6-4C59-9775-C64A08DD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5FD-17D6-4818-A865-D31728F3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71EC-9E38-4809-9D70-2568DC9E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BB64-8F96-4772-9426-609FF539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BBEB-2DF5-4CF6-8E4D-66350148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7CC4-08C0-4CB4-BBC9-F562924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A69E-783D-4DAB-BCF5-93DE1CE2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97EE-E6DD-49BA-80C9-4B979874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D124-ABA8-46C4-876D-5EA0BEDA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70D7B-C3AA-4A3B-BAEA-120E90BA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4DD62-718A-4D30-B3ED-CCA7CAF9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CEC8E-C7DA-4A67-BF75-8F186808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9D6-E025-4A41-B557-F8155E65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833E9F-C96F-407D-95AD-3C673EFF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83A64-7AF9-467D-BD6C-16A0F7B1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BAD7C-5863-46EF-A4AD-AE3A8275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AB2F6-2287-4214-8F6F-68626962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F9F5A-89AF-4003-A77D-FE5CD49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6637E-3CE3-4EF4-A72A-B1F4397D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1B92E7-4572-4CD0-BE9C-7F68A0F7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A7C5E-125B-487E-918A-593D18FE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270FC-51DA-4C6B-A0CD-0A006ABF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7D9CD-993B-4A38-BE76-B01B720A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9BD-04FC-4B82-AD95-C0E2D33F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BD28D-AA5F-416E-A9B6-625C4628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0F427-BD3A-4684-840C-294596EB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C6419-1C9B-4E65-BF46-82E7C973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14834-EADA-44AA-A0AC-24BA4DDD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3162B-0297-42D4-B141-5EBF07E5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0F120-738B-429A-921C-098789E2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A090E-C890-4106-92F9-957CFD55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610B9-6B1C-497C-8EDC-AFF4B32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D4321-9B58-46A4-BB62-77590D8B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6DCEA-932B-47F5-9AD3-AEDC6696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DD7-2A5A-4D13-90C3-93BB547F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89C15-70D9-4AE4-AA1E-4B669CBD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82D49-87FC-4CD4-AD5D-A0304143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859CD-C4B1-4D61-9160-76533516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FDF13-46BB-484D-939B-194F40B1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DFA72-5F33-4A12-A1F3-81AB6730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DDCEB-B52B-48A3-BB14-840DF49E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3E4C5-0C90-4AB1-ACCA-FCD03C5B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9AC06-EBFD-4FA6-9C29-C7BD1A1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8C39E-54C7-412E-82E5-C498143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B6422-D332-4563-97D6-C60C85D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DF4-8DE6-44C2-8420-37FA893A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EF001-0BD7-49B1-A906-F8CA0471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A70EC-276C-49D3-9BB7-817DF61E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1AF88-90B2-474C-B658-014D80EE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CC7-5C22-44F8-AE07-3CE4B05B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E87-99C4-40C6-B2D5-7F6A897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2F33-5E1E-4374-A92F-FE0E7B0921F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99FC-22DB-4FFA-9AF4-6ABAC412DCC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DADB-91CA-460E-95AD-75250670852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CCC7-9482-4DA3-9BC2-EC1348F244B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BC7C-6976-41D9-8CDC-7ED395EA346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63F6-438D-4FA5-AD33-0EE97CF1088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1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714480" y="3571920"/>
            <a:ext cx="40575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Выполнил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Учитель МОУ ООШ №2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г. Б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Саблукова Е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г. Б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536400" y="457200"/>
            <a:ext cx="8485200" cy="290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5643360" y="2356920"/>
            <a:ext cx="3500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очитание богов – покровителей плодород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:\Documents and Settings\ADMIN\Мои документы\Мои рисунки\f261f69b6b88a23f2ac48b93e6fb8b71.jpg"/>
          <p:cNvPicPr/>
          <p:nvPr/>
        </p:nvPicPr>
        <p:blipFill>
          <a:blip r:embed="rId2"/>
          <a:stretch/>
        </p:blipFill>
        <p:spPr>
          <a:xfrm>
            <a:off x="357120" y="1428840"/>
            <a:ext cx="2765520" cy="38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1" name="Picture 3" descr="C:\Documents and Settings\ADMIN\Мои документы\Мои рисунки\3b5a11b991c5e3a67d57bee3d82.jpg"/>
          <p:cNvPicPr/>
          <p:nvPr/>
        </p:nvPicPr>
        <p:blipFill>
          <a:blip r:embed="rId3"/>
          <a:stretch/>
        </p:blipFill>
        <p:spPr>
          <a:xfrm>
            <a:off x="1285920" y="1643040"/>
            <a:ext cx="267660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Picture 2" descr="C:\Documents and Settings\ADMIN\Мои документы\Мои рисунки\98f32e7fe9b0.jpg"/>
          <p:cNvPicPr/>
          <p:nvPr/>
        </p:nvPicPr>
        <p:blipFill>
          <a:blip r:embed="rId4"/>
          <a:stretch/>
        </p:blipFill>
        <p:spPr>
          <a:xfrm>
            <a:off x="2000160" y="2000160"/>
            <a:ext cx="280836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3" name="Picture 4" descr="C:\Documents and Settings\ADMIN\Мои документы\Мои рисунки\3d282-5878cb824a67.jpg"/>
          <p:cNvPicPr/>
          <p:nvPr/>
        </p:nvPicPr>
        <p:blipFill>
          <a:blip r:embed="rId5"/>
          <a:stretch/>
        </p:blipFill>
        <p:spPr>
          <a:xfrm>
            <a:off x="2857680" y="2357280"/>
            <a:ext cx="3000240" cy="392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143680" y="1143000"/>
            <a:ext cx="36432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ru-RU" sz="3600" spc="-1" strike="noStrike">
                <a:solidFill>
                  <a:srgbClr val="fefac9"/>
                </a:solidFill>
                <a:latin typeface="Comic Sans MS"/>
              </a:rPr>
              <a:t>Преклонение перед тем или иным растением, восприятие его как священного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240760" cy="897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Documents and Settings\ADMIN\Мои документы\Мои рисунки\44810241_073208_558.jpg"/>
          <p:cNvPicPr/>
          <p:nvPr/>
        </p:nvPicPr>
        <p:blipFill>
          <a:blip r:embed="rId2"/>
          <a:stretch/>
        </p:blipFill>
        <p:spPr>
          <a:xfrm>
            <a:off x="428760" y="1214280"/>
            <a:ext cx="2286000" cy="32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4" descr="C:\Documents and Settings\ADMIN\Мои документы\Мои рисунки\3223835_large.jpg"/>
          <p:cNvPicPr/>
          <p:nvPr/>
        </p:nvPicPr>
        <p:blipFill>
          <a:blip r:embed="rId3"/>
          <a:stretch/>
        </p:blipFill>
        <p:spPr>
          <a:xfrm>
            <a:off x="3071880" y="1143000"/>
            <a:ext cx="20718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Picture 5" descr="C:\Documents and Settings\ADMIN\Мои документы\Мои рисунки\quararibea_blossom_maya.jpg"/>
          <p:cNvPicPr/>
          <p:nvPr/>
        </p:nvPicPr>
        <p:blipFill>
          <a:blip r:embed="rId4"/>
          <a:stretch/>
        </p:blipFill>
        <p:spPr>
          <a:xfrm>
            <a:off x="428760" y="4643280"/>
            <a:ext cx="4857480" cy="20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643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Фетишизм - вера в магические свойства предметов: куски дерева, различные фигурки, камни, амулеты и т. п.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Documents and Settings\ADMIN\Мои документы\Старые документы\Мои документы\Лена\Религии России\картинки\Drevnii_Hudojnik.jpg"/>
          <p:cNvPicPr/>
          <p:nvPr/>
        </p:nvPicPr>
        <p:blipFill>
          <a:blip r:embed="rId2"/>
          <a:stretch/>
        </p:blipFill>
        <p:spPr>
          <a:xfrm>
            <a:off x="357120" y="1857240"/>
            <a:ext cx="306720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857320" y="1213920"/>
            <a:ext cx="607212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fac9"/>
                </a:solidFill>
                <a:latin typeface="Comic Sans MS"/>
              </a:rPr>
              <a:t>Фетиш – </a:t>
            </a:r>
            <a:r>
              <a:rPr b="1" lang="ru-RU" sz="2400" spc="-1" strike="noStrike">
                <a:solidFill>
                  <a:srgbClr val="fefac9"/>
                </a:solidFill>
                <a:latin typeface="Comic Sans MS"/>
              </a:rPr>
              <a:t>это предмет, наделенный человеком таинственной  сверхъестественной силой. Древний человек верил в то, что фетиш может защищать от болезней, нечистой силы, приносить удачу, победу. Фетишем мог стать любой предмет, с которым человеку однажды пришла удача. Фетиш мог иметь не только личный, но и общественный характер (гора, дерево, валун и др.), он оберегал и защищал все племя, целый народ. Позднее стали создавать искусственные фетиш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Documents and Settings\ADMIN\Мои документы\Старые документы\Мои документы\Лена\Религии России\картинки\f65eaec0f850.jpg"/>
          <p:cNvPicPr/>
          <p:nvPr/>
        </p:nvPicPr>
        <p:blipFill>
          <a:blip r:embed="rId2"/>
          <a:stretch/>
        </p:blipFill>
        <p:spPr>
          <a:xfrm>
            <a:off x="285840" y="4143240"/>
            <a:ext cx="264312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5" name="Picture 4" descr="C:\Documents and Settings\ADMIN\Мои документы\Старые документы\Мои документы\Лена\Религии России\картинки\letkam4.jpg"/>
          <p:cNvPicPr/>
          <p:nvPr/>
        </p:nvPicPr>
        <p:blipFill>
          <a:blip r:embed="rId3"/>
          <a:stretch/>
        </p:blipFill>
        <p:spPr>
          <a:xfrm>
            <a:off x="214200" y="1357200"/>
            <a:ext cx="264348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214520" y="1523520"/>
            <a:ext cx="4714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Предметы, обладающие магической силой, стали называться </a:t>
            </a:r>
            <a:r>
              <a:rPr b="1" i="1" lang="ru-RU" sz="2600" spc="-1" strike="noStrike">
                <a:solidFill>
                  <a:srgbClr val="fefac9"/>
                </a:solidFill>
                <a:latin typeface="Comic Sans MS"/>
              </a:rPr>
              <a:t>амулетами (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от латинского «отстранять», «отвращать»), которые  оберегали своего хозяина от бед и несчасти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ADMIN\Мои документы\Старые документы\Мои документы\Лена\Религии России\картинки\1267832849315810034.jpg"/>
          <p:cNvPicPr/>
          <p:nvPr/>
        </p:nvPicPr>
        <p:blipFill>
          <a:blip r:embed="rId2"/>
          <a:srcRect l="0" t="0" r="0" b="14764"/>
          <a:stretch/>
        </p:blipFill>
        <p:spPr>
          <a:xfrm>
            <a:off x="357120" y="1571760"/>
            <a:ext cx="3522600" cy="43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714480" y="1523520"/>
            <a:ext cx="542916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Способность предотвращать беду и приносить удачу приписывали и </a:t>
            </a:r>
            <a:r>
              <a:rPr b="1" i="1" lang="ru-RU" sz="2600" spc="-1" strike="noStrike">
                <a:solidFill>
                  <a:srgbClr val="fefac9"/>
                </a:solidFill>
                <a:latin typeface="Comic Sans MS"/>
              </a:rPr>
              <a:t>талисманам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 (греч. «посвящение»). Различие заключалось в том, что амулеты носили открыто, а талисманы прятали от посторонних глаз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Documents and Settings\ADMIN\Мои документы\Старые документы\Мои документы\Лена\Религии России\картинки\pl03.jpg"/>
          <p:cNvPicPr/>
          <p:nvPr/>
        </p:nvPicPr>
        <p:blipFill>
          <a:blip r:embed="rId2"/>
          <a:stretch/>
        </p:blipFill>
        <p:spPr>
          <a:xfrm>
            <a:off x="571680" y="1571760"/>
            <a:ext cx="3214440" cy="44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3600" spc="-1" strike="noStrike">
                <a:solidFill>
                  <a:srgbClr val="f3a447"/>
                </a:solidFill>
                <a:latin typeface="Comic Sans MS"/>
              </a:rPr>
              <a:t>Задачи урок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Выяснить, что такое анимизм, тотемизм, фетишиз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Узнать, что такое первобытные культы, как они появилис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667720" cy="208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285800" y="1599840"/>
            <a:ext cx="46436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ервобытные верования – первая ступень в развитии религий. Как разнообразна природа и занятия людей, так разнообразны и причудливы верования первобытных люде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08080" y="146160"/>
            <a:ext cx="8485200" cy="123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ADMIN\Мои документы\Старые документы\Мои документы\Лена\Религии России\картинки\ohota.jpg"/>
          <p:cNvPicPr/>
          <p:nvPr/>
        </p:nvPicPr>
        <p:blipFill>
          <a:blip r:embed="rId2">
            <a:lum bright="-26000"/>
          </a:blip>
          <a:stretch/>
        </p:blipFill>
        <p:spPr>
          <a:xfrm>
            <a:off x="214200" y="1785960"/>
            <a:ext cx="314352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9" name="Picture 2" descr="C:\Documents and Settings\ADMIN\Мои документы\Старые документы\Мои документы\Лена\Религии России\картинки\drevn.gif"/>
          <p:cNvPicPr/>
          <p:nvPr/>
        </p:nvPicPr>
        <p:blipFill>
          <a:blip r:embed="rId3"/>
          <a:stretch/>
        </p:blipFill>
        <p:spPr>
          <a:xfrm>
            <a:off x="1357200" y="3714840"/>
            <a:ext cx="267012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5776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Тотемизм – это обряды и верования, связанные с поклонением древнего человека животным и растениям как своим мифическим предкам и защитника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240760" cy="897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:\Documents and Settings\ADMIN\Мои документы\Старые документы\Мои документы\Лена\Религии России\картинки\f_15414243.jpg"/>
          <p:cNvPicPr/>
          <p:nvPr/>
        </p:nvPicPr>
        <p:blipFill>
          <a:blip r:embed="rId2"/>
          <a:stretch/>
        </p:blipFill>
        <p:spPr>
          <a:xfrm>
            <a:off x="357120" y="1428840"/>
            <a:ext cx="3286080" cy="392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Picture 3" descr="C:\Documents and Settings\ADMIN\Мои документы\Старые документы\Мои документы\Лена\Религии России\картинки\totem.jpg"/>
          <p:cNvPicPr/>
          <p:nvPr/>
        </p:nvPicPr>
        <p:blipFill>
          <a:blip r:embed="rId3"/>
          <a:stretch/>
        </p:blipFill>
        <p:spPr>
          <a:xfrm>
            <a:off x="1928880" y="3929040"/>
            <a:ext cx="198576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00360" y="1643040"/>
            <a:ext cx="415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Анимизм – это обряды и верования, основанные на вере в существование духов и душ, населяющих ми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Documents and Settings\ADMIN\Мои документы\Старые документы\Мои документы\Лена\Религии России\картинки\анимизм.JPG"/>
          <p:cNvPicPr/>
          <p:nvPr/>
        </p:nvPicPr>
        <p:blipFill>
          <a:blip r:embed="rId2"/>
          <a:stretch/>
        </p:blipFill>
        <p:spPr>
          <a:xfrm>
            <a:off x="214200" y="1785960"/>
            <a:ext cx="385776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7" name="Picture 3" descr="C:\Documents and Settings\ADMIN\Мои документы\Старые документы\Мои документы\Лена\Религии России\картинки\Dusha.jpg"/>
          <p:cNvPicPr/>
          <p:nvPr/>
        </p:nvPicPr>
        <p:blipFill>
          <a:blip r:embed="rId3"/>
          <a:srcRect l="7086" t="5670" r="7086" b="5670"/>
          <a:stretch/>
        </p:blipFill>
        <p:spPr>
          <a:xfrm>
            <a:off x="2714760" y="4214880"/>
            <a:ext cx="1857240" cy="239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928760" y="1214280"/>
            <a:ext cx="40006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ытаясь защитить себя от грозных сил природы, неудач человек создает культы – обряды и верования, в основе которых лежит почитание какого-либо объе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086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C:\Documents and Settings\ADMIN\Мои документы\Мои рисунки\image.jpg"/>
          <p:cNvPicPr/>
          <p:nvPr/>
        </p:nvPicPr>
        <p:blipFill>
          <a:blip r:embed="rId2"/>
          <a:stretch/>
        </p:blipFill>
        <p:spPr>
          <a:xfrm>
            <a:off x="285840" y="1285920"/>
            <a:ext cx="278604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Picture 3" descr="C:\Documents and Settings\ADMIN\Мои документы\Мои рисунки\0a259c4295f3307cf4dcb2d4631d1d01.jpeg"/>
          <p:cNvPicPr/>
          <p:nvPr/>
        </p:nvPicPr>
        <p:blipFill>
          <a:blip r:embed="rId3"/>
          <a:stretch/>
        </p:blipFill>
        <p:spPr>
          <a:xfrm>
            <a:off x="2357280" y="3714840"/>
            <a:ext cx="2786400" cy="29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C:\Documents and Settings\ADMIN\Мои документы\Мои рисунки\1215424189_3.jpg"/>
          <p:cNvPicPr/>
          <p:nvPr/>
        </p:nvPicPr>
        <p:blipFill>
          <a:blip r:embed="rId4"/>
          <a:stretch/>
        </p:blipFill>
        <p:spPr>
          <a:xfrm>
            <a:off x="3286080" y="1285920"/>
            <a:ext cx="178596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2" descr="C:\Documents and Settings\ADMIN\Мои документы\Мои рисунки\3b5a11b991c5e3a67d57bee3d82.jpg"/>
          <p:cNvPicPr/>
          <p:nvPr/>
        </p:nvPicPr>
        <p:blipFill>
          <a:blip r:embed="rId5"/>
          <a:stretch/>
        </p:blipFill>
        <p:spPr>
          <a:xfrm>
            <a:off x="285840" y="3714840"/>
            <a:ext cx="185724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929200" y="1523880"/>
            <a:ext cx="32148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Обряды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верования, связанны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с погребением умерших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ADMIN\Мои документы\Мои рисунки\ancient-tomb-5.jpg"/>
          <p:cNvPicPr/>
          <p:nvPr/>
        </p:nvPicPr>
        <p:blipFill>
          <a:blip r:embed="rId2"/>
          <a:stretch/>
        </p:blipFill>
        <p:spPr>
          <a:xfrm>
            <a:off x="3357720" y="1500120"/>
            <a:ext cx="2657160" cy="478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7" name="Picture 4" descr="C:\Documents and Settings\ADMIN\Мои документы\Мои рисунки\1556157.jpg"/>
          <p:cNvPicPr/>
          <p:nvPr/>
        </p:nvPicPr>
        <p:blipFill>
          <a:blip r:embed="rId3"/>
          <a:stretch/>
        </p:blipFill>
        <p:spPr>
          <a:xfrm>
            <a:off x="285840" y="4000680"/>
            <a:ext cx="2928960" cy="2288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C:\Documents and Settings\ADMIN\Мои документы\Мои рисунки\image.jpg"/>
          <p:cNvPicPr/>
          <p:nvPr/>
        </p:nvPicPr>
        <p:blipFill>
          <a:blip r:embed="rId4"/>
          <a:stretch/>
        </p:blipFill>
        <p:spPr>
          <a:xfrm>
            <a:off x="357120" y="1500120"/>
            <a:ext cx="2714760" cy="22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714560" y="1523880"/>
            <a:ext cx="3971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Обряды и поверья, связанные с охотничьим и рыболовным промысло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Documents and Settings\ADMIN\Мои документы\Мои рисунки\0a259c4295f3307cf4dcb2d4631d1d01.jpeg"/>
          <p:cNvPicPr/>
          <p:nvPr/>
        </p:nvPicPr>
        <p:blipFill>
          <a:blip r:embed="rId2"/>
          <a:stretch/>
        </p:blipFill>
        <p:spPr>
          <a:xfrm>
            <a:off x="357120" y="1357200"/>
            <a:ext cx="385776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C:\Documents and Settings\ADMIN\Мои документы\Мои рисунки\etn3.jpg"/>
          <p:cNvPicPr/>
          <p:nvPr/>
        </p:nvPicPr>
        <p:blipFill>
          <a:blip r:embed="rId3"/>
          <a:stretch/>
        </p:blipFill>
        <p:spPr>
          <a:xfrm>
            <a:off x="2786040" y="4714920"/>
            <a:ext cx="292896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785840" y="1214280"/>
            <a:ext cx="3900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оклонение тем или иным животным, вера в их особую связь с миром духов и бого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Documents and Settings\ADMIN\Мои документы\Мои рисунки\21c6edda1f82.jpg"/>
          <p:cNvPicPr/>
          <p:nvPr/>
        </p:nvPicPr>
        <p:blipFill>
          <a:blip r:embed="rId2"/>
          <a:stretch/>
        </p:blipFill>
        <p:spPr>
          <a:xfrm>
            <a:off x="5000760" y="4500720"/>
            <a:ext cx="357192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6" name="Picture 4" descr="C:\Documents and Settings\ADMIN\Мои документы\Мои рисунки\1240829271_rrrs.jpg"/>
          <p:cNvPicPr/>
          <p:nvPr/>
        </p:nvPicPr>
        <p:blipFill>
          <a:blip r:embed="rId3"/>
          <a:stretch/>
        </p:blipFill>
        <p:spPr>
          <a:xfrm>
            <a:off x="357120" y="1285920"/>
            <a:ext cx="207180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2" descr="C:\Documents and Settings\ADMIN\Мои документы\Мои рисунки\1215424189_3.jpg"/>
          <p:cNvPicPr/>
          <p:nvPr/>
        </p:nvPicPr>
        <p:blipFill>
          <a:blip r:embed="rId4"/>
          <a:stretch/>
        </p:blipFill>
        <p:spPr>
          <a:xfrm>
            <a:off x="2643120" y="2071800"/>
            <a:ext cx="221472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25T19:10:28Z</dcterms:modified>
  <cp:revision>95</cp:revision>
  <dc:subject/>
  <dc:title>Религиозные представления первобытной эпохи. Тотемизм. Анимизм. Фетишизм.</dc:title>
</cp:coreProperties>
</file>