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28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.png" ContentType="image/png"/>
  <Override PartName="/ppt/media/image17.jpeg" ContentType="image/jpeg"/>
  <Override PartName="/ppt/media/image41.jpeg" ContentType="image/jpeg"/>
  <Override PartName="/ppt/media/image39.jpeg" ContentType="image/jpeg"/>
  <Override PartName="/ppt/media/image8.png" ContentType="image/png"/>
  <Override PartName="/ppt/media/image11.jpeg" ContentType="image/jpeg"/>
  <Override PartName="/ppt/media/image40.png" ContentType="image/png"/>
  <Override PartName="/ppt/media/image36.jpeg" ContentType="image/jpeg"/>
  <Override PartName="/ppt/media/image30.png" ContentType="image/png"/>
  <Override PartName="/ppt/media/image31.png" ContentType="image/png"/>
  <Override PartName="/ppt/media/image6.png" ContentType="image/png"/>
  <Override PartName="/ppt/media/image32.jpeg" ContentType="image/jpeg"/>
  <Override PartName="/ppt/media/image5.jpeg" ContentType="image/jpeg"/>
  <Override PartName="/ppt/media/image35.png" ContentType="image/png"/>
  <Override PartName="/ppt/media/image43.jpeg" ContentType="image/jpeg"/>
  <Override PartName="/ppt/media/image38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26.jpeg" ContentType="image/jpeg"/>
  <Override PartName="/ppt/media/image42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16E5-2450-411B-A900-84D9C9D0A4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EB83-3D37-4279-868F-0B31489D986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D44-7B8C-4E18-A3B2-06908E95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82F-8252-46D4-80C8-B348A182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B99-D72C-4F9A-8F5F-3A6E491D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3AE-42A2-4457-AC8B-3B79B688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B002-18B9-4501-9FE1-A681EB1B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AAD2-B26E-4DD4-8EE3-27558684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0828-70F5-41C3-921B-2DD16B8B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AB1B-B0CE-4DB5-873D-A5DB9555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0402-FB80-43D5-B22C-8617E7FF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470F-FF3A-4C79-8270-D794B6F1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FD14-9CC6-48D9-A306-4F5D619C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5AB-C95B-4991-B55C-81703DD9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84EC-38E9-4F67-9E27-49F46349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DCEB-6CF6-4E6E-8C36-50437424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8D14-0CC0-41C0-92DA-190C1C93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7004-4191-49D9-BA0A-46DEA612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8356-6C7E-4667-8C14-737672A1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5474-9A51-47A0-BAAD-D6F9229F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91E-8350-4A8E-A907-82F3C53B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797B-BBE3-48D2-9C55-61629B65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862B-7E4E-4004-ACF3-EE1B8D96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8E35-1DFA-43F6-8324-A4A41B4A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8A4-2785-4F3F-98E4-EF71EAF1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626-6410-4C1F-9D10-2476DDD4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3B44-FB5D-4E99-BBB4-3FB5BAFF300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5D06-8779-4676-A8A6-FDD21A32F1F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9156600" cy="2859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286160" y="3286080"/>
            <a:ext cx="41436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 Black"/>
              </a:rPr>
              <a:t>Выполнил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 Black"/>
              </a:rPr>
              <a:t>учитель МОУ ООШ №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 Black"/>
              </a:rPr>
              <a:t>г. Бо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 Black"/>
              </a:rPr>
              <a:t>Саблукова Е.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 Black"/>
              </a:rPr>
              <a:t>г. Бо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 Black"/>
              </a:rPr>
              <a:t>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1042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642840" y="1213920"/>
            <a:ext cx="52866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          </a:t>
            </a: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Древнеславянское божество зла, вражды и смерти это Мара (Марена). Мара – нечисть, дьявол в женском облике. Злое божество с таким или похожим именем есть у многих индоевропейских народов (от корня мар - мор пошло, например, французское слово кошмар). Согласно буддийскому мифу, ведический дьявол Мара с огромным полчищем духов искушал и пытался сокрушить Будду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2" descr="C:\Documents and Settings\ADMIN\Мои документы\Мои рисунки\1215796569_647.jpg"/>
          <p:cNvPicPr/>
          <p:nvPr/>
        </p:nvPicPr>
        <p:blipFill>
          <a:blip r:embed="rId2"/>
          <a:stretch/>
        </p:blipFill>
        <p:spPr>
          <a:xfrm>
            <a:off x="214200" y="1285920"/>
            <a:ext cx="3786480" cy="528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712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857760" y="1428840"/>
            <a:ext cx="492912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Верховным богом Киевской Руси дохристианского периода стал громовержец Перун, он же бог войны и символ княжеской власти. Когда князь Владимир принял христианство, то велел изрубить все изображения языческих богов.  Но Перуна так боялись, что с его идолом поступили иначе: свергнув с пьедестала, оттащили к реке и отправили свободно плыть по течению.  Иногда Перун выступал в паре со Сварогом или просто  заменял его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" descr="C:\Documents and Settings\ADMIN\Мои документы\Мои рисунки\i_060.jpg"/>
          <p:cNvPicPr/>
          <p:nvPr/>
        </p:nvPicPr>
        <p:blipFill>
          <a:blip r:embed="rId2"/>
          <a:stretch/>
        </p:blipFill>
        <p:spPr>
          <a:xfrm>
            <a:off x="285840" y="1714680"/>
            <a:ext cx="3571920" cy="492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071600" y="1213920"/>
            <a:ext cx="47862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Славяне обожествляли леса, поля,  горы, реки, деревья, камни, живых существ и всю природу, которая их окружала. Мир, в их представлении, был населен духами и сказочными существами. В воде жили старики – водяные, девушки – русалки, кикиморы и другие существа. Домашнее хозяйство находилось под покровительством домовых, банников, овинн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" descr="C:\Documents and Settings\ADMIN\Мои документы\Мои рисунки\0_3094c_bce4234f_XL.jpeg"/>
          <p:cNvPicPr/>
          <p:nvPr/>
        </p:nvPicPr>
        <p:blipFill>
          <a:blip r:embed="rId2"/>
          <a:stretch/>
        </p:blipFill>
        <p:spPr>
          <a:xfrm>
            <a:off x="285840" y="1357200"/>
            <a:ext cx="4214880" cy="507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104112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3" descr=""/>
          <p:cNvPicPr/>
          <p:nvPr/>
        </p:nvPicPr>
        <p:blipFill>
          <a:blip r:embed="rId2"/>
          <a:stretch/>
        </p:blipFill>
        <p:spPr>
          <a:xfrm>
            <a:off x="384120" y="1212840"/>
            <a:ext cx="8521920" cy="557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1476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57120" y="1714680"/>
          <a:ext cx="8215560" cy="4386240"/>
        </p:xfrm>
        <a:graphic>
          <a:graphicData uri="http://schemas.openxmlformats.org/drawingml/2006/table">
            <a:tbl>
              <a:tblPr/>
              <a:tblGrid>
                <a:gridCol w="3714840"/>
                <a:gridCol w="450072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Название божес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Что  символизиру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Домовой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банник,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овин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Упыр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Кощей Бессмертный, Баба Яг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Чу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Леш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042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142880" y="1142640"/>
            <a:ext cx="4714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        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В домах, по мнению славян, жили домовые, в овинах – овинники,  в банях – банники. Домовые походили на старых дедов  и любили греть кости около печек. Домовые – это хранители дома, к которым относились с почтением. Иногда эти существа проявляли старческий сварливый характер и могли шалить: щекотать спящих, стучать дверьми, запутывать гривы лошадя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" descr="C:\Documents and Settings\ADMIN\Мои документы\Мои рисунки\2b888c16bff55f2cd4f9c4ec309b65fd.jpg"/>
          <p:cNvPicPr/>
          <p:nvPr/>
        </p:nvPicPr>
        <p:blipFill>
          <a:blip r:embed="rId2"/>
          <a:stretch/>
        </p:blipFill>
        <p:spPr>
          <a:xfrm>
            <a:off x="244440" y="1301760"/>
            <a:ext cx="4327560" cy="534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042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286160" y="1285920"/>
            <a:ext cx="45720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Из сказок мы  узнаем о поклонении славян деревьям и всей растительности. В особом почете был дуб. В лесах совершались многие языческие ритуалы. Дед с длинной седой бородой, который нередко «шутил» с человеком, сбивая его с пути,  назывался лешим. У него была синяя кровь,  и он никогда не отбрасывал тен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2" descr="C:\Documents and Settings\ADMIN\Мои документы\Мои рисунки\leshij.jpg"/>
          <p:cNvPicPr/>
          <p:nvPr/>
        </p:nvPicPr>
        <p:blipFill>
          <a:blip r:embed="rId2"/>
          <a:stretch/>
        </p:blipFill>
        <p:spPr>
          <a:xfrm>
            <a:off x="285840" y="1285920"/>
            <a:ext cx="4286160" cy="535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042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214520" y="1214280"/>
            <a:ext cx="47149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Многие персонажи олицетворяли злые разрушительные силы. Например, упыри, которые представлялись нашим предкам человекоподобными существами с красными лицами.  Они жили в могилах и по ночам покидали  свои убежища, чтобы сосать кровь людей. Орудием против нечистой силы считался осиновый кол, который следовало воткнуть в могилу человека, слывшего при жизни колдун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2" descr="C:\Documents and Settings\ADMIN\Мои документы\Мои рисунки\upior-korolkowa-1215873927_9a.jpg"/>
          <p:cNvPicPr/>
          <p:nvPr/>
        </p:nvPicPr>
        <p:blipFill>
          <a:blip r:embed="rId2"/>
          <a:stretch/>
        </p:blipFill>
        <p:spPr>
          <a:xfrm>
            <a:off x="214200" y="1285920"/>
            <a:ext cx="4429080" cy="535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285840" y="-109440"/>
            <a:ext cx="8669160" cy="1712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3929040" y="1599840"/>
            <a:ext cx="4757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Смерть олицетворял Кощей (от слова «кость»). Он слыл бессмертным, хотя и сам представлялся мертвецом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         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Другой излюбленный персонаж «потустороннего мира» - Баба – яга («костяная нога»)-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</a:rPr>
              <a:t>старуха-чародейка, наделённая магической силой, ведунья, оборотень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. «Яга», как считают некоторые филологи,  значит «злая», «дурная», а слово это восходит к древнему индоевропейскому корню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2" descr="C:\Documents and Settings\ADMIN\Мои документы\Мои рисунки\0_56ee_15c37b41_XL.jpeg"/>
          <p:cNvPicPr/>
          <p:nvPr/>
        </p:nvPicPr>
        <p:blipFill>
          <a:blip r:embed="rId2"/>
          <a:stretch/>
        </p:blipFill>
        <p:spPr>
          <a:xfrm>
            <a:off x="214200" y="1643040"/>
            <a:ext cx="3500640" cy="464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Picture 3" descr="C:\Documents and Settings\ADMIN\Мои документы\Мои рисунки\009300.jpg"/>
          <p:cNvPicPr/>
          <p:nvPr/>
        </p:nvPicPr>
        <p:blipFill>
          <a:blip r:embed="rId3"/>
          <a:stretch/>
        </p:blipFill>
        <p:spPr>
          <a:xfrm>
            <a:off x="1071720" y="2286000"/>
            <a:ext cx="3357360" cy="42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332920" cy="1042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3785760" y="1213920"/>
            <a:ext cx="507204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Как и все древние народы, славяне поклонялись душам умерших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          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Во время игр дети часто говорят загадочное слово «чур», но мало кто знает, что это не что иное, как древнее заклинание, которое буквально обозначает – «храни меня предок». Ведь, чур (или щур) – божество, а точнее, дух умершего  предка. Однокоренное слово «пращур» означает «далекий предок». От этого же корня происходит наречие «чересчур», т. е. сверх меры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2" descr="C:\Documents and Settings\ADMIN\Мои документы\Мои рисунки\b10257ed728b.jpg"/>
          <p:cNvPicPr/>
          <p:nvPr/>
        </p:nvPicPr>
        <p:blipFill>
          <a:blip r:embed="rId2"/>
          <a:stretch/>
        </p:blipFill>
        <p:spPr>
          <a:xfrm>
            <a:off x="285840" y="1214280"/>
            <a:ext cx="3857400" cy="521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195120" y="-85680"/>
            <a:ext cx="8845560" cy="1878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</a:rPr>
              <a:t>Задачи урока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c66"/>
                </a:solidFill>
                <a:latin typeface="Arial Black"/>
              </a:rPr>
              <a:t>- </a:t>
            </a: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Познакомиться с древнейшими главными божествами  славя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- Классификация (высшие боги  и низшие божества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- Выяснить, что олицетворяли или символизировали   боги древних славян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-Указать на тот факт, что вся жизнь славянина  была связана  с миром сверхъестественных существ, за которыми стояли силы природ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1476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57120" y="1143000"/>
          <a:ext cx="8215560" cy="5173560"/>
        </p:xfrm>
        <a:graphic>
          <a:graphicData uri="http://schemas.openxmlformats.org/drawingml/2006/table">
            <a:tbl>
              <a:tblPr/>
              <a:tblGrid>
                <a:gridCol w="3429000"/>
                <a:gridCol w="4786560"/>
              </a:tblGrid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Название божес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Что  символизиру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Домово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бан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овин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</a:rPr>
                        <a:t>хранитель до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</a:rPr>
                        <a:t>хранитель бан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</a:rPr>
                        <a:t>хранитель ов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Упыр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</a:rPr>
                        <a:t>злой дух загробного царс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Кощей Бессмертный, Баба Яг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олицетворял смер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</a:rPr>
                        <a:t>старуха-чародейка, наделённая магической силой, ведунья, оборотень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Чу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</a:rPr>
                        <a:t>дух умершего, покровитель ро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  <a:ea typeface="Arial"/>
                        </a:rPr>
                        <a:t>Леш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56525"/>
                          </a:solidFill>
                          <a:latin typeface="Arial"/>
                        </a:rPr>
                        <a:t>Покровитель лес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450720" y="-55440"/>
            <a:ext cx="8242560" cy="106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0" y="4071600"/>
            <a:ext cx="88581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2" descr="C:\Documents and Settings\ADMIN\Мои документы\Мои рисунки\poselok.jpg"/>
          <p:cNvPicPr/>
          <p:nvPr/>
        </p:nvPicPr>
        <p:blipFill>
          <a:blip r:embed="rId2"/>
          <a:stretch/>
        </p:blipFill>
        <p:spPr>
          <a:xfrm>
            <a:off x="1571760" y="1000080"/>
            <a:ext cx="6072120" cy="29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Прямоугольник 4"/>
          <p:cNvSpPr/>
          <p:nvPr/>
        </p:nvSpPr>
        <p:spPr>
          <a:xfrm>
            <a:off x="1500120" y="428616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Вся жизнь славянина  была связана  с миром сверхъестественных существ, за которыми стояли силы прир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042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643280" y="1285560"/>
            <a:ext cx="450072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Религиозные воззрения славян получили название язычества. Язычество – вера во множество богов. Древние славяне обожествляли все силы природы. У них не сложилось системы, определенной соподчиненности богов. Каждый раз на первое место выходило то божество, которое было востребовано в данный момен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3" descr="C:\Documents and Settings\ADMIN\Мои документы\Мои рисунки\slavyane.jpg"/>
          <p:cNvPicPr/>
          <p:nvPr/>
        </p:nvPicPr>
        <p:blipFill>
          <a:blip r:embed="rId2"/>
          <a:stretch/>
        </p:blipFill>
        <p:spPr>
          <a:xfrm>
            <a:off x="214200" y="1285920"/>
            <a:ext cx="4857840" cy="514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-66600" y="-92160"/>
            <a:ext cx="9515520" cy="2384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-360" y="2000160"/>
            <a:ext cx="40006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cc66"/>
                </a:solidFill>
                <a:uFillTx/>
                <a:latin typeface="Arial"/>
                <a:ea typeface="Arial"/>
              </a:rPr>
              <a:t>Высшие бог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Даждьбог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Хорс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Мокошь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Лад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Веле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Род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Рожаниц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Мар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Перу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57520" y="2143080"/>
            <a:ext cx="3328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cc66"/>
                </a:solidFill>
                <a:uFillTx/>
                <a:latin typeface="Arial"/>
                <a:ea typeface="Arial"/>
              </a:rPr>
              <a:t>Низшие боже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леш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кикимор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домово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банни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овинни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русал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берегин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Arial"/>
                <a:ea typeface="Arial"/>
              </a:rPr>
              <a:t>чу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104112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3" descr=""/>
          <p:cNvPicPr/>
          <p:nvPr/>
        </p:nvPicPr>
        <p:blipFill>
          <a:blip r:embed="rId2"/>
          <a:stretch/>
        </p:blipFill>
        <p:spPr>
          <a:xfrm>
            <a:off x="384120" y="1212840"/>
            <a:ext cx="8521920" cy="557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225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286160" y="13572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Даждьбог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олицетворение солнечного тепла и жара. Он сын бога небесного огня Сварога, «отпирает и запирает» землю на лето и зим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      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Женское божество Мокошь  символизировало землю, растительность, урожай. Плодородие и изобилие олицетворяла богиня Лада. Она покровительствовала браку, семье, домашнему очаг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C:\Documents and Settings\ADMIN\Мои документы\Мои рисунки\dajbog.jpg"/>
          <p:cNvPicPr/>
          <p:nvPr/>
        </p:nvPicPr>
        <p:blipFill>
          <a:blip r:embed="rId2"/>
          <a:stretch/>
        </p:blipFill>
        <p:spPr>
          <a:xfrm>
            <a:off x="142920" y="1214280"/>
            <a:ext cx="3143160" cy="464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3" descr="C:\Documents and Settings\ADMIN\Мои документы\Мои рисунки\1253322011_svarog 8.jpg"/>
          <p:cNvPicPr/>
          <p:nvPr/>
        </p:nvPicPr>
        <p:blipFill>
          <a:blip r:embed="rId3"/>
          <a:stretch/>
        </p:blipFill>
        <p:spPr>
          <a:xfrm>
            <a:off x="642960" y="1571760"/>
            <a:ext cx="3071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Picture 4" descr="C:\Documents and Settings\ADMIN\Мои документы\Мои рисунки\3d282-5878cb824a67.jpg"/>
          <p:cNvPicPr/>
          <p:nvPr/>
        </p:nvPicPr>
        <p:blipFill>
          <a:blip r:embed="rId4"/>
          <a:stretch/>
        </p:blipFill>
        <p:spPr>
          <a:xfrm>
            <a:off x="1071720" y="2000160"/>
            <a:ext cx="321444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Picture 5" descr="C:\Documents and Settings\ADMIN\Мои документы\Мои рисунки\2576.jpg"/>
          <p:cNvPicPr/>
          <p:nvPr/>
        </p:nvPicPr>
        <p:blipFill>
          <a:blip r:embed="rId5"/>
          <a:stretch/>
        </p:blipFill>
        <p:spPr>
          <a:xfrm>
            <a:off x="1571760" y="2428920"/>
            <a:ext cx="3143160" cy="42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-6480" y="-182520"/>
            <a:ext cx="9156960" cy="1712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071960" y="1599840"/>
            <a:ext cx="4857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Славяне занимались не только земледелием, но и скотоводством. Отсюда возникло почитание  бога Велеса – покровителя домашнего скота, а в более ранние времена – хозяина потустороннего мира.. После принятия христианства культ Велеса совместился в народном сознании с культом святого Власия (в день памяти этого святого в деревне было принято кропить домашнюю скотину  святой водой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2" descr="C:\Documents and Settings\ADMIN\Мои документы\Мои рисунки\127729657805002460.jpg"/>
          <p:cNvPicPr/>
          <p:nvPr/>
        </p:nvPicPr>
        <p:blipFill>
          <a:blip r:embed="rId2"/>
          <a:stretch/>
        </p:blipFill>
        <p:spPr>
          <a:xfrm>
            <a:off x="285840" y="1571760"/>
            <a:ext cx="3929040" cy="507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-6480" y="-49320"/>
            <a:ext cx="8699760" cy="1712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643200" y="1000080"/>
            <a:ext cx="55008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  <a:ea typeface="Arial"/>
              </a:rPr>
              <a:t>У славян были боги, олицетворявшие Вселенную. Один из этих богов – Род. Это мужской бог – творец, давший жизнь всему живому.  Понятие рода как сообщества людей, происходящих от одного корня, связано именно с ним. Рядом с Родом находились Рожаницы – девы,  покровительницы плодородия и женской силы. Считалось, что они определяли судьбу родившегося ребен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C:\Documents and Settings\ADMIN\Мои документы\Мои рисунки\08.jpg"/>
          <p:cNvPicPr/>
          <p:nvPr/>
        </p:nvPicPr>
        <p:blipFill>
          <a:blip r:embed="rId2"/>
          <a:stretch/>
        </p:blipFill>
        <p:spPr>
          <a:xfrm>
            <a:off x="214200" y="1714680"/>
            <a:ext cx="3643560" cy="489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071960" y="1071720"/>
            <a:ext cx="485784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Солнечный диск, само светило,  олицетворял  бог Хорс, От имени этого бога некоторые историки языка  выводят  привычное русское слово  «хорошо», которое (если предположение верно)  когда-то буквально означало «солнечно»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            </a:t>
            </a:r>
            <a:r>
              <a:rPr b="1" lang="ru-RU" sz="2200" spc="-1" strike="noStrike">
                <a:solidFill>
                  <a:srgbClr val="ffcc66"/>
                </a:solidFill>
                <a:latin typeface="Arial"/>
                <a:ea typeface="Arial"/>
              </a:rPr>
              <a:t>С солнцем было связано и много славянских божеств. Бог Ярило олицетворял весеннее солнце и период весеннего равноденствия,  Купала – летнее солнцестояние, а Коляда – зимнее, когда начинает прибывать ден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2" descr="C:\Documents and Settings\ADMIN\Мои документы\Мои рисунки\45336372_Hors.jpg"/>
          <p:cNvPicPr/>
          <p:nvPr/>
        </p:nvPicPr>
        <p:blipFill>
          <a:blip r:embed="rId2"/>
          <a:stretch/>
        </p:blipFill>
        <p:spPr>
          <a:xfrm>
            <a:off x="214200" y="1214280"/>
            <a:ext cx="32860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Picture 3" descr="C:\Documents and Settings\ADMIN\Мои документы\Мои рисунки\w-korolkow-jarylo-27-6.jpg"/>
          <p:cNvPicPr/>
          <p:nvPr/>
        </p:nvPicPr>
        <p:blipFill>
          <a:blip r:embed="rId3"/>
          <a:stretch/>
        </p:blipFill>
        <p:spPr>
          <a:xfrm>
            <a:off x="571680" y="1500120"/>
            <a:ext cx="32144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Picture 4" descr="C:\Documents and Settings\ADMIN\Мои документы\Мои рисунки\8815624b268c1d74b01bf357ab84c53c.jpg"/>
          <p:cNvPicPr/>
          <p:nvPr/>
        </p:nvPicPr>
        <p:blipFill>
          <a:blip r:embed="rId4"/>
          <a:stretch/>
        </p:blipFill>
        <p:spPr>
          <a:xfrm>
            <a:off x="1000080" y="1857240"/>
            <a:ext cx="3071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Picture 5" descr="C:\Documents and Settings\ADMIN\Мои документы\Мои рисунки\3_14.jpg"/>
          <p:cNvPicPr/>
          <p:nvPr/>
        </p:nvPicPr>
        <p:blipFill>
          <a:blip r:embed="rId5"/>
          <a:stretch/>
        </p:blipFill>
        <p:spPr>
          <a:xfrm>
            <a:off x="1357200" y="2214720"/>
            <a:ext cx="300060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25T18:35:51Z</dcterms:modified>
  <cp:revision>60</cp:revision>
  <dc:subject/>
  <dc:title>Боги древних  славян</dc:title>
</cp:coreProperties>
</file>