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8317-AB96-4E01-8EAB-463F6D4C3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6C07-3ECB-4BAE-B52C-C900EBAC4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FC13-CECA-468F-81CC-C69FE962C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76F9-9347-431D-8092-E1574908B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B15B7-CBE4-405B-91DF-4DEF63679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E985B-AA55-49E4-880A-523F5925B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89AA5-589F-4DC5-8C4C-53EA05F2F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BD428-8CFA-43A2-9F1B-4C8B3AD2D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36FBF-C0AC-4F55-B378-BA220BC6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9AEC0-D764-4FF4-9D13-AA1F2D288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9A404-968F-4C6B-BDBD-DA3E00F6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6C06-8224-43B4-A49E-3F0533BCB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A50E9-04B8-4FA9-BAB1-4EFD96A4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BCEC2-F820-4A3F-B794-F60B7712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04356-0854-480D-A666-B5EB8E399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91AE1-923D-419F-BB20-ABF32E2F7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11197-8B64-433B-AF15-5538DCF8E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310F-03FC-4A6E-BC0F-30FB6E17F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5DFD-8B66-42E5-89D7-F4379BFEA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E542-CB2E-45C5-B9F5-61D1A7CEB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F638-1F71-4756-A751-134006592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9EF4-B4D8-4D3C-A675-3C3B9942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9D4E-AAB5-4912-A00E-F3E88569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A830-4811-45FA-87A3-49B13035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6C01B-70B7-4BBF-9D66-92E20D3E80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9EBFE-E580-4663-B216-4E33D89BFD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rdowling.com/(&#1089;&#1080;&#1084;&#1074;&#1086;&#1083;&#1099;" TargetMode="External"/><Relationship Id="rId3" Type="http://schemas.openxmlformats.org/officeDocument/2006/relationships/hyperlink" Target="http://www.mrdowling.com/(&#1089;&#1080;&#1084;&#1074;&#1086;&#1083;&#1099;" TargetMode="External"/><Relationship Id="rId4" Type="http://schemas.openxmlformats.org/officeDocument/2006/relationships/hyperlink" Target="http://www.mrdowling.com/(&#1089;&#1080;&#1084;&#1074;&#1086;&#1083;&#1099;" TargetMode="External"/><Relationship Id="rId5" Type="http://schemas.openxmlformats.org/officeDocument/2006/relationships/hyperlink" Target="http://reficula.do.am/publ/7-1-0-13" TargetMode="External"/><Relationship Id="rId6" Type="http://schemas.openxmlformats.org/officeDocument/2006/relationships/hyperlink" Target="http://nataliabaranova.livejournal.com/164772.html" TargetMode="External"/><Relationship Id="rId7" Type="http://schemas.openxmlformats.org/officeDocument/2006/relationships/hyperlink" Target="http://blezzy-bounce.narod.ru/rasta/paskha.html" TargetMode="External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5ec2c"/>
                </a:solidFill>
                <a:latin typeface="Arial"/>
              </a:rPr>
              <a:t>Исторические условия возникновения иудаизма</a:t>
            </a:r>
            <a:r>
              <a:rPr b="0" lang="en-US" sz="4000" spc="-1" strike="noStrike">
                <a:solidFill>
                  <a:srgbClr val="55ec2c"/>
                </a:solidFill>
                <a:latin typeface="Arial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300360" y="4941360"/>
            <a:ext cx="259236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ec2c"/>
                </a:solidFill>
                <a:latin typeface="Arial"/>
              </a:rPr>
              <a:t>Учитель истории Максимович Л.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ec2c"/>
                </a:solidFill>
                <a:latin typeface="Arial"/>
              </a:rPr>
              <a:t>МОУ СОШ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ec2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55ec2c"/>
                </a:solidFill>
                <a:latin typeface="Arial"/>
              </a:rPr>
              <a:t>г.Бо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ec2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55ec2c"/>
                </a:solidFill>
                <a:latin typeface="Arial"/>
              </a:rPr>
              <a:t>2010 г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93040" y="189000"/>
            <a:ext cx="65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ec2c"/>
                </a:solidFill>
                <a:latin typeface="Arial"/>
              </a:rPr>
              <a:t>Муниципальное образовательное учреждение СОШ №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51040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5ec2c"/>
                </a:solidFill>
                <a:latin typeface="Arial"/>
              </a:rPr>
              <a:t>Иудаизм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050920" y="1052640"/>
            <a:ext cx="4875480" cy="28098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5280" y="4437000"/>
            <a:ext cx="854064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елигия еврейского народ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 его почве впоследствии выросло христиан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ермин «иудаизм» происходит от названия еврейского племенного объединения – иу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ыходцы из племени иуды основали царскую династию в древнем Израильско-Иудейском царств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ногда эту религию называют религией Моисе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32000" y="386064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оисей получает скрижали с заповедя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5ec2c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огда и где зародился иудаизм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оследить историю становления и развития иудаиз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427640" y="1700280"/>
            <a:ext cx="438768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5104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5ec2c"/>
                </a:solidFill>
                <a:latin typeface="Arial"/>
              </a:rPr>
              <a:t>Территория расселения еврейских племен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11280" y="836640"/>
            <a:ext cx="7705800" cy="50403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700360" y="3284640"/>
            <a:ext cx="1150920" cy="792000"/>
          </a:xfrm>
          <a:prstGeom prst="ellipse">
            <a:avLst/>
          </a:prstGeom>
          <a:solidFill>
            <a:srgbClr val="ff0000">
              <a:alpha val="24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42920" y="6165720"/>
            <a:ext cx="74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602136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. до н.э.(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еселение к берегам Р.Иордан, создание Израильско-иудейского государства, политеизм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6920" y="5300280"/>
            <a:ext cx="804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ec2c"/>
                </a:solidFill>
                <a:latin typeface="Arial"/>
              </a:rPr>
              <a:t>X </a:t>
            </a:r>
            <a:r>
              <a:rPr b="1" lang="ru-RU" sz="2000" spc="-1" strike="noStrike">
                <a:solidFill>
                  <a:srgbClr val="55ec2c"/>
                </a:solidFill>
                <a:latin typeface="Arial"/>
              </a:rPr>
              <a:t>–</a:t>
            </a:r>
            <a:r>
              <a:rPr b="1" lang="en-US" sz="2000" spc="-1" strike="noStrike">
                <a:solidFill>
                  <a:srgbClr val="55ec2c"/>
                </a:solidFill>
                <a:latin typeface="Arial"/>
              </a:rPr>
              <a:t> VII</a:t>
            </a:r>
            <a:r>
              <a:rPr b="1" lang="ru-RU" sz="2000" spc="-1" strike="noStrike">
                <a:solidFill>
                  <a:srgbClr val="55ec2c"/>
                </a:solidFill>
                <a:latin typeface="Arial"/>
              </a:rPr>
              <a:t> вв.до н.э. </a:t>
            </a:r>
            <a:r>
              <a:rPr b="0" lang="ru-RU" sz="2000" spc="-1" strike="noStrike">
                <a:solidFill>
                  <a:srgbClr val="55ec2c"/>
                </a:solidFill>
                <a:latin typeface="Arial"/>
              </a:rPr>
              <a:t>(выделяется культа бога Яхве среди других богов, со временем другие боги запрещены)</a:t>
            </a:r>
            <a:r>
              <a:rPr b="1" lang="ru-RU" sz="2000" spc="-1" strike="noStrike">
                <a:solidFill>
                  <a:srgbClr val="55ec2c"/>
                </a:solidFill>
                <a:latin typeface="Arial"/>
              </a:rPr>
              <a:t>  </a:t>
            </a:r>
            <a:br>
              <a:rPr sz="2000"/>
            </a:b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700360" y="1773360"/>
            <a:ext cx="4270320" cy="32194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39640" y="1773360"/>
            <a:ext cx="676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260280"/>
            <a:ext cx="86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5ec2c"/>
                </a:solidFill>
                <a:latin typeface="Arial"/>
              </a:rPr>
              <a:t>Иерусалимский храм (</a:t>
            </a:r>
            <a:r>
              <a:rPr b="1" lang="en-US" sz="4000" spc="-1" strike="noStrike">
                <a:solidFill>
                  <a:srgbClr val="55ec2c"/>
                </a:solidFill>
                <a:latin typeface="Arial"/>
              </a:rPr>
              <a:t>945г.)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99"/>
                </a:solidFill>
                <a:latin typeface="Arial"/>
              </a:rPr>
              <a:t>Стена Плач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4863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авилонское царств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нач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.до н.э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с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конец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.до н.э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имская импер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.до н.э.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. н.э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788000" y="2133720"/>
            <a:ext cx="396072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99"/>
                </a:solidFill>
                <a:latin typeface="Arial"/>
              </a:rPr>
              <a:t>Современный Израиль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2491920"/>
            <a:ext cx="419400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вв.н.э. евреи расселяются по всему мир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948г.-восстановление государства Израи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826920" y="1484280"/>
            <a:ext cx="3529080" cy="50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5ec2c"/>
                </a:solidFill>
                <a:latin typeface="Arial"/>
              </a:rPr>
              <a:t>Основные выводы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удаизм национально-государственная религия еврейского нар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рмин иудаизм происходит от названия древнего еврейского племени «иуд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ругое название религии- «религия Моисея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дна из древнейших религий, сохранившихся до наших дн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сле потери евреями государственности, иудаизм стал идейной основой борьбы евреев за восстановление государ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5ec2c"/>
                </a:solidFill>
                <a:latin typeface="Arial"/>
              </a:rPr>
              <a:t>Использованные источник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www.mrdowling.com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  <a:hlinkClick r:id="rId4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символы иудаизма)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  <a:hlinkClick r:id="rId5"/>
              </a:rPr>
              <a:t>reficula.do.am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(Иерусалимский храм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  <a:hlinkClick r:id="rId6"/>
              </a:rPr>
              <a:t>nataliabaranova.livejournal.com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(скрижали с заповедями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  <a:hlinkClick r:id="rId7"/>
              </a:rPr>
              <a:t>blezzy-bounce.narod.ru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(Моисей получает от Бога скрижали с заповедями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5T17:12:23Z</dcterms:created>
  <dc:creator>Сергей</dc:creator>
  <dc:description/>
  <dc:language>en-US</dc:language>
  <cp:lastModifiedBy>папа</cp:lastModifiedBy>
  <dcterms:modified xsi:type="dcterms:W3CDTF">2011-03-16T12:51:15Z</dcterms:modified>
  <cp:revision>25</cp:revision>
  <dc:subject/>
  <dc:title>Всемирный потоп Древо познаний Запретный плод сладок Земля обетованная </dc:title>
</cp:coreProperties>
</file>