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6E3-0365-4A6D-98AB-AA34974E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BDC-B80F-40C0-BD5E-7FCEF27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0F2-DA79-4DA5-96F6-AC9656A0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B9E-E61A-4CC6-AD6B-31893311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B2A-9B65-4BC7-B364-2790D2A5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64BB-2C12-43D9-947D-C08C81C1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901A-04E5-4DCB-99D7-82A21EC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2F61-8F94-42B2-A51F-0A3A53F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2005-6947-4C24-AB39-E3A81320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39D-67A1-49F3-8C18-F492C363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ED6-F3D6-486C-A376-6C8F436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4B6-7BEF-47C1-AE4E-B81455F5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0C3-F917-486A-84F4-65A6DB9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F38E-DD40-479A-8807-1E00F48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F894-5B6B-4AD3-8D0F-D5A5E88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679-7460-4EF9-B138-4C1C8990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CB43-23B4-427B-A3BD-8EACF4AA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208-2B0A-409F-A185-3705C68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562-D1CB-4E08-ABED-FD5D841A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5FC-2CE4-4FC9-B82B-52B0ED3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6F1-176F-4016-933F-03AD1DCF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7F1-4510-4E38-A195-4404BFF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888-C33C-4C0A-975B-12FF4B7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636-D19E-43E1-A88A-639A817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7056-AE99-45E3-8F01-47DB5F909F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65C7-F2BD-49BA-9159-45CD8FC75F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Священные книги иудеев. Вероуче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6360" y="4941360"/>
            <a:ext cx="2736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Учитель истории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4680" y="33336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7e7ff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Где появился иудаизм 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99308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e7ff"/>
                </a:solidFill>
                <a:latin typeface="Arial"/>
              </a:rPr>
              <a:t>Как связаны с иудаизмом слова, выражения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вре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. до н.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емля обетованна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ле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ис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Иор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409080" cy="4761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265800" cy="5213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Что представлено на слайде,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Tahoma"/>
              </a:rPr>
              <a:t> как изображение связано с иудаиз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260280"/>
            <a:ext cx="8171640" cy="5774760"/>
            <a:chOff x="324000" y="260280"/>
            <a:chExt cx="8171640" cy="5774760"/>
          </a:xfrm>
        </p:grpSpPr>
        <p:cxnSp>
          <p:nvCxnSpPr>
            <p:cNvPr id="95" name="_s52258"/>
            <p:cNvCxnSpPr>
              <a:stCxn id="96" idx="1"/>
              <a:endCxn id="97" idx="2"/>
            </p:cNvCxnSpPr>
            <p:nvPr/>
          </p:nvCxnSpPr>
          <p:spPr>
            <a:xfrm rot="10800000">
              <a:off x="577116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52256"/>
            <p:cNvCxnSpPr>
              <a:stCxn id="99" idx="1"/>
              <a:endCxn id="97" idx="2"/>
            </p:cNvCxnSpPr>
            <p:nvPr/>
          </p:nvCxnSpPr>
          <p:spPr>
            <a:xfrm rot="10800000">
              <a:off x="577116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52254"/>
            <p:cNvCxnSpPr>
              <a:stCxn id="101" idx="3"/>
              <a:endCxn id="102" idx="2"/>
            </p:cNvCxnSpPr>
            <p:nvPr/>
          </p:nvCxnSpPr>
          <p:spPr>
            <a:xfrm flipV="1">
              <a:off x="2658600" y="2322360"/>
              <a:ext cx="389520" cy="330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52"/>
            <p:cNvCxnSpPr>
              <a:stCxn id="104" idx="3"/>
              <a:endCxn id="102" idx="2"/>
            </p:cNvCxnSpPr>
            <p:nvPr/>
          </p:nvCxnSpPr>
          <p:spPr>
            <a:xfrm flipV="1">
              <a:off x="2658600" y="2322000"/>
              <a:ext cx="389520" cy="206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52250"/>
            <p:cNvCxnSpPr>
              <a:stCxn id="106" idx="3"/>
              <a:endCxn id="102" idx="2"/>
            </p:cNvCxnSpPr>
            <p:nvPr/>
          </p:nvCxnSpPr>
          <p:spPr>
            <a:xfrm flipV="1">
              <a:off x="2658600" y="2322000"/>
              <a:ext cx="389520" cy="82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52245"/>
            <p:cNvCxnSpPr>
              <a:stCxn id="97" idx="0"/>
              <a:endCxn id="108" idx="2"/>
            </p:cNvCxnSpPr>
            <p:nvPr/>
          </p:nvCxnSpPr>
          <p:spPr>
            <a:xfrm flipV="1" rot="16200000">
              <a:off x="4884120" y="609120"/>
              <a:ext cx="412920" cy="136296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52244"/>
            <p:cNvCxnSpPr>
              <a:stCxn id="102" idx="0"/>
              <a:endCxn id="108" idx="2"/>
            </p:cNvCxnSpPr>
            <p:nvPr/>
          </p:nvCxnSpPr>
          <p:spPr>
            <a:xfrm flipH="1" flipV="1" rot="5400000">
              <a:off x="3522240" y="609840"/>
              <a:ext cx="412920" cy="1362240"/>
            </a:xfrm>
            <a:prstGeom prst="bentConnector3">
              <a:avLst>
                <a:gd name="adj1" fmla="val 380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52240"/>
            <p:cNvSpPr/>
            <p:nvPr/>
          </p:nvSpPr>
          <p:spPr>
            <a:xfrm>
              <a:off x="3242160" y="26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Священные  книг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ook Antiqua"/>
                </a:rPr>
                <a:t>иудее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41"/>
            <p:cNvSpPr/>
            <p:nvPr/>
          </p:nvSpPr>
          <p:spPr>
            <a:xfrm>
              <a:off x="188028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АНА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42"/>
            <p:cNvSpPr/>
            <p:nvPr/>
          </p:nvSpPr>
          <p:spPr>
            <a:xfrm>
              <a:off x="4604400" y="1497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Book Antiqua"/>
                </a:rPr>
                <a:t>ТАЛМУД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2249"/>
            <p:cNvSpPr/>
            <p:nvPr/>
          </p:nvSpPr>
          <p:spPr>
            <a:xfrm>
              <a:off x="32400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Т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51"/>
            <p:cNvSpPr/>
            <p:nvPr/>
          </p:nvSpPr>
          <p:spPr>
            <a:xfrm>
              <a:off x="32400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РОРО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52253"/>
            <p:cNvSpPr/>
            <p:nvPr/>
          </p:nvSpPr>
          <p:spPr>
            <a:xfrm>
              <a:off x="324000" y="5210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ПИС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52255"/>
            <p:cNvSpPr/>
            <p:nvPr/>
          </p:nvSpPr>
          <p:spPr>
            <a:xfrm>
              <a:off x="6161040" y="273528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МИШ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52257"/>
            <p:cNvSpPr/>
            <p:nvPr/>
          </p:nvSpPr>
          <p:spPr>
            <a:xfrm>
              <a:off x="6161040" y="3972600"/>
              <a:ext cx="2334600" cy="8247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ГЕРМА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огматы (основы вероучения) иудаизм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19280" y="1557000"/>
            <a:ext cx="554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единого Бога Яхв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Иегова)-творец и властитель всего. Бессмертен, веч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месс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сланец Бога, призванный установить на земле справедливос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конец с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воскреснут умершие, будет совершен суд над живыми и мертв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Вера в богоизбран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еврейского нар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Бог через Моисея предложил иудеям союз и дал ему Закон(Тору), который должен выполня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3276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Десять заповедей - Декалог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392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Почитать единого Б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создавать себе ку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поминать имени Бога без необх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субб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Уважать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уби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Воздерживаться от лиш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кр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лжесвидетельс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7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Не желать того, что принадлежит друг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2800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12:23Z</dcterms:created>
  <dc:creator>Сергей</dc:creator>
  <dc:description/>
  <dc:language>en-US</dc:language>
  <cp:lastModifiedBy>папа</cp:lastModifiedBy>
  <dcterms:modified xsi:type="dcterms:W3CDTF">2011-03-16T17:51:57Z</dcterms:modified>
  <cp:revision>21</cp:revision>
  <dc:subject/>
  <dc:title>Всемирный потоп Древо познаний Запретный плод сладок Земля обетованная </dc:title>
</cp:coreProperties>
</file>