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544-E4AC-4B0A-8CEF-3F80000F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2A1-E165-4FF0-B321-814B8CDF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92C-178B-4A6A-A733-06EC7344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A5D-0880-4D3D-B65D-9936AEEE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3C46-B0DF-4DB2-B25E-AB82812E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ADD1-9D75-4B2A-9417-CC98707F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CC08-1150-481B-A178-BB50632F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F289-9C1E-490F-BAAE-BC0F4932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6EE-96C1-4E29-B12B-DE5A84D6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DA94-8D4A-4ED5-ACF6-779F5740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96B5-1A43-4C89-BCD6-9245B3E1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FEF-A10E-4CA9-968F-7FBB5DB5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3C1-D803-40B4-9FA7-F996076A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E5DB-3A0C-47F2-B799-1413A0EC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1C47-5F1A-4410-98FD-AB594DA1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284B-49BB-46F8-A952-87C3857B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D87D-35DC-4A55-B2A4-5EB8FF37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E55-A0A9-47D5-A2B8-15B6ABF5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75F-4A76-4F66-95CD-047B1BFE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68C-2C41-40A8-BF0B-C1F1064F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4D4-E4E2-4279-82CC-1BDB6BFE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6CF-7711-4E6A-8F8E-1CAF506A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4C5-6E71-4A78-86DE-4D419A1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75B-B48C-42B7-A191-C39AAE01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FCBA-56EF-4B66-85F4-CF11B9AB0D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7FA3-6699-45E7-B8C9-7E50BA5E0D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ОШ №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13880" y="2428560"/>
            <a:ext cx="75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Буддизм в Росс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143240" y="57150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1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пре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38320" cy="453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4788000" y="2133720"/>
            <a:ext cx="364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буддийского духовенства подверглось репрессиям: было арестовано, сослано в ГУЛАГ, расстреляно, тысячи буддийских священнослуж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зрождение буддизма в 1990 год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043520" cy="4751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4859280" y="2060640"/>
            <a:ext cx="324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1990 года начинается новый период в истории буддизма в России. Возрождаются буддийские храмы в Бурятии, Туве и Калмыкии. А в 1994 году состоялось торжественное открытие главного храма в Бурят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Даши-Доржо Итиге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1571760" y="1341360"/>
            <a:ext cx="6215040" cy="4098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116000" y="59421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им из известных Хамбо-ламой был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аши-Доржо Итиге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мерть Даши-Доржо Итиге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052880" cy="4530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468360" y="2060640"/>
            <a:ext cx="352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2003 году сенсационным событием для верющих буддистов стала смерть Даши-Доржо Итигелова, который ушел из жизни в 1927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999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знания учащихся по теме          «Вероучение и культ буддизма»; изучить появление буддизма в России и его положение в разные исторические эпо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Распространение буддизма в Ро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Прямая со стрелкой 4"/>
          <p:cNvCxnSpPr/>
          <p:nvPr/>
        </p:nvCxnSpPr>
        <p:spPr>
          <a:xfrm flipH="1">
            <a:off x="1499400" y="1285920"/>
            <a:ext cx="1143720" cy="107208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69" name="Прямая со стрелкой 6"/>
          <p:cNvCxnSpPr/>
          <p:nvPr/>
        </p:nvCxnSpPr>
        <p:spPr>
          <a:xfrm flipH="1">
            <a:off x="3712320" y="1357200"/>
            <a:ext cx="2520" cy="121536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0" name="Прямая со стрелкой 8"/>
          <p:cNvCxnSpPr/>
          <p:nvPr/>
        </p:nvCxnSpPr>
        <p:spPr>
          <a:xfrm flipH="1">
            <a:off x="5214600" y="1285560"/>
            <a:ext cx="2160" cy="121500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1" name="Прямая со стрелкой 10"/>
          <p:cNvCxnSpPr/>
          <p:nvPr/>
        </p:nvCxnSpPr>
        <p:spPr>
          <a:xfrm>
            <a:off x="6429240" y="1285560"/>
            <a:ext cx="929520" cy="114372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sp>
        <p:nvSpPr>
          <p:cNvPr id="172" name="TextBox 11"/>
          <p:cNvSpPr/>
          <p:nvPr/>
        </p:nvSpPr>
        <p:spPr>
          <a:xfrm>
            <a:off x="428760" y="2571840"/>
            <a:ext cx="171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рят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2857680" y="264312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ы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4857840" y="264312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алмык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7000920" y="2571840"/>
            <a:ext cx="192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абайкальский край, Иркут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зонхав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основатель школы гелук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143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214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41 г. –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каз Елизаветы Петровны, по которому буддизм в Бурятии признан в статусе государственной религии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3" descr="1293691003_elizaveta-petrovna.jpg"/>
          <p:cNvPicPr/>
          <p:nvPr/>
        </p:nvPicPr>
        <p:blipFill>
          <a:blip r:embed="rId2"/>
          <a:stretch/>
        </p:blipFill>
        <p:spPr>
          <a:xfrm>
            <a:off x="500040" y="2143080"/>
            <a:ext cx="3500640" cy="4357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4214880" y="4572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ы правления Елизаветы Петров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2120" y="328680"/>
            <a:ext cx="807876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амба-Даржа Зая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000680" y="1643040"/>
            <a:ext cx="4705200" cy="4657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50920" y="1628640"/>
            <a:ext cx="309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764 году настоятель Цонгольского дацан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амба-Даржа Заяе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ыл утвержден в звани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андито- хамбо ламы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есть главного духовного руководителя всех дацанов.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амба- Даржа Заяев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ервый бурятский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Хамбо-лама,  видный буддийский деятель, получивший образование в Тиб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гван Доржиев (1853-193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751280" cy="4525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68360" y="2060640"/>
            <a:ext cx="281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гван Доржие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 одним из высокообразован-ных лам, получившим образование в Тибете и обладавшим выдающимся дипломатическим да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дийский храм в Питере, построенный Агваном Доржиевым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645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итическая деятельность Агвана Доржие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143240" y="1785960"/>
            <a:ext cx="4362480" cy="4670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84360" y="2276640"/>
            <a:ext cx="266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революции 1917 года, Агван Доржиев посвятил себя политической и религиозно-реформаторск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1:50:52Z</dcterms:created>
  <dc:creator>XTreme</dc:creator>
  <dc:description/>
  <dc:language>en-US</dc:language>
  <cp:lastModifiedBy>Екатерина</cp:lastModifiedBy>
  <dcterms:modified xsi:type="dcterms:W3CDTF">2011-05-04T06:09:41Z</dcterms:modified>
  <cp:revision>8</cp:revision>
  <dc:subject/>
  <dc:title>Муниципальное образовательное учреждение</dc:title>
</cp:coreProperties>
</file>