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C5A-D7A1-4A68-9F9B-8154A9DD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366B-3612-4998-8C0C-664A8AF0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EB26-C379-4C96-846D-591E9655B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2921-0C9E-40B5-8E94-D842914E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D7D6-2F0F-420C-920E-4D91B3E7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F2AC-80A0-4028-AD42-48E2F19A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365A-060A-4736-8F67-984ADBAF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307B-4392-4FDD-BE32-5249A26A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EB25-2063-4C1A-833A-F1DCF62E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0CEE-8B29-4A3F-8925-E16A867F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1A0D-C475-4F75-8118-F19614FE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50E-4714-4EDB-9D6D-BF210577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4568-2F59-4E65-BDDC-4A069DCE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0121-BA16-4F7B-860E-8D0AE116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EF9F-0F16-42C9-8819-80AA3A32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BDC4-462D-4569-9618-0796313C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0D07-0AB0-485F-88E3-FFE962D7C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65B-FB1F-40E0-8C0D-AD7A555D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E11B-6A16-4C37-ACA6-02747606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48D3-816F-4C4A-ABE4-CE4A2FEA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E068-CF61-45D1-983B-FB064784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D74-72E7-4E15-BDB9-441E563C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82D5-39FC-42D4-BD1D-0B58B36A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DAD4-B3BA-44C1-81DC-8F86D943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F533-B346-4795-BB9E-49D7E65A9F8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894F-986D-4FD9-B8FF-F1A193EB518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2205000"/>
            <a:ext cx="87854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Возникновение христианства. </a:t>
            </a:r>
            <a:br>
              <a:rPr sz="3600"/>
            </a:b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Основные христианские источники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32720" y="5013360"/>
            <a:ext cx="208728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учитель истории и обществ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Максимович Л.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92680" y="333360"/>
            <a:ext cx="725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Муниципальное образовательное учреждение СОШ №1 г.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5445000"/>
            <a:ext cx="180000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г.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МОУ 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Христианств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871236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дна из мировых религ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ервоначально являлась единой религи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годня разделена на три ветви: католицизм, православие, протестантиз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х христиан объединяет вера в Иисуса Хрис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егодня в мире насчитываетс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коло 1,5 -2 млрд. христи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404640"/>
            <a:ext cx="2590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ложение №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50920" y="476280"/>
            <a:ext cx="8566920" cy="5614920"/>
            <a:chOff x="250920" y="476280"/>
            <a:chExt cx="8566920" cy="5614920"/>
          </a:xfrm>
        </p:grpSpPr>
        <p:cxnSp>
          <p:nvCxnSpPr>
            <p:cNvPr id="94" name="_s22542"/>
            <p:cNvCxnSpPr>
              <a:stCxn id="95" idx="0"/>
              <a:endCxn id="96" idx="2"/>
            </p:cNvCxnSpPr>
            <p:nvPr/>
          </p:nvCxnSpPr>
          <p:spPr>
            <a:xfrm flipV="1" rot="16200000">
              <a:off x="5472000" y="1783800"/>
              <a:ext cx="1123200" cy="2999160"/>
            </a:xfrm>
            <a:prstGeom prst="bentConnector3">
              <a:avLst>
                <a:gd name="adj1" fmla="val 83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2541"/>
            <p:cNvCxnSpPr>
              <a:stCxn id="98" idx="0"/>
              <a:endCxn id="96" idx="2"/>
            </p:cNvCxnSpPr>
            <p:nvPr/>
          </p:nvCxnSpPr>
          <p:spPr>
            <a:xfrm flipV="1">
              <a:off x="4534200" y="2721960"/>
              <a:ext cx="3240" cy="112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2540"/>
            <p:cNvCxnSpPr>
              <a:stCxn id="100" idx="0"/>
              <a:endCxn id="96" idx="2"/>
            </p:cNvCxnSpPr>
            <p:nvPr/>
          </p:nvCxnSpPr>
          <p:spPr>
            <a:xfrm flipH="1" flipV="1" rot="5400000">
              <a:off x="2473200" y="1783800"/>
              <a:ext cx="1123200" cy="2999160"/>
            </a:xfrm>
            <a:prstGeom prst="bentConnector3">
              <a:avLst>
                <a:gd name="adj1" fmla="val 833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6" name="_s22536"/>
            <p:cNvSpPr/>
            <p:nvPr/>
          </p:nvSpPr>
          <p:spPr>
            <a:xfrm>
              <a:off x="3249360" y="476280"/>
              <a:ext cx="2570040" cy="22460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Условия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возникновения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христианств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2537"/>
            <p:cNvSpPr/>
            <p:nvPr/>
          </p:nvSpPr>
          <p:spPr>
            <a:xfrm>
              <a:off x="250920" y="3845160"/>
              <a:ext cx="2570040" cy="22460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Религиозны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исток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иудейское сектантств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(ессеи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2538"/>
            <p:cNvSpPr/>
            <p:nvPr/>
          </p:nvSpPr>
          <p:spPr>
            <a:xfrm>
              <a:off x="3249360" y="3845160"/>
              <a:ext cx="2570040" cy="22460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Исторически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условия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риз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имской импе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2539"/>
            <p:cNvSpPr/>
            <p:nvPr/>
          </p:nvSpPr>
          <p:spPr>
            <a:xfrm>
              <a:off x="6247800" y="3845160"/>
              <a:ext cx="2570040" cy="22460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Идейны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предпосылки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идеи иудаизма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древних восточных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религий,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античные философск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воззрения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589800" y="333360"/>
            <a:ext cx="2374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ложение №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669780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516720" y="351000"/>
            <a:ext cx="2448000" cy="34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ложение №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Источники христианств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ибл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нонические книги Ветхого заве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еканонические сочинения («Еваенелие от Николая», «Учение 12 апостолов..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чинения Отцов церкви раннехристианские мыслители (Юстиниан Мученик, Татиан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60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33"/>
                </a:solidFill>
                <a:latin typeface="Garamond"/>
              </a:rPr>
              <a:t>Библия- Священное Писание, главная книга христиан.</a:t>
            </a:r>
            <a:endParaRPr b="0" lang="en-US" sz="26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26920" y="907920"/>
            <a:ext cx="7968960" cy="4608000"/>
            <a:chOff x="826920" y="907920"/>
            <a:chExt cx="7968960" cy="4608000"/>
          </a:xfrm>
        </p:grpSpPr>
        <p:cxnSp>
          <p:nvCxnSpPr>
            <p:cNvPr id="108" name="_s30773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4885200" y="3272040"/>
              <a:ext cx="419400" cy="2391840"/>
            </a:xfrm>
            <a:prstGeom prst="bentConnector3">
              <a:avLst>
                <a:gd name="adj1" fmla="val 241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30771"/>
            <p:cNvCxnSpPr>
              <a:stCxn id="112" idx="0"/>
              <a:endCxn id="110" idx="2"/>
            </p:cNvCxnSpPr>
            <p:nvPr/>
          </p:nvCxnSpPr>
          <p:spPr>
            <a:xfrm flipV="1" rot="16200000">
              <a:off x="4088880" y="4068360"/>
              <a:ext cx="419400" cy="799200"/>
            </a:xfrm>
            <a:prstGeom prst="bentConnector3">
              <a:avLst>
                <a:gd name="adj1" fmla="val 241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30769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3292920" y="4070880"/>
              <a:ext cx="419400" cy="794520"/>
            </a:xfrm>
            <a:prstGeom prst="bentConnector3">
              <a:avLst>
                <a:gd name="adj1" fmla="val 241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30767"/>
            <p:cNvCxnSpPr>
              <a:stCxn id="116" idx="0"/>
              <a:endCxn id="110" idx="2"/>
            </p:cNvCxnSpPr>
            <p:nvPr/>
          </p:nvCxnSpPr>
          <p:spPr>
            <a:xfrm flipH="1" flipV="1" rot="5400000">
              <a:off x="2495160" y="3273120"/>
              <a:ext cx="419400" cy="2390040"/>
            </a:xfrm>
            <a:prstGeom prst="bentConnector3">
              <a:avLst>
                <a:gd name="adj1" fmla="val 241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30765"/>
            <p:cNvCxnSpPr>
              <a:stCxn id="118" idx="1"/>
              <a:endCxn id="119" idx="2"/>
            </p:cNvCxnSpPr>
            <p:nvPr/>
          </p:nvCxnSpPr>
          <p:spPr>
            <a:xfrm rot="10800000">
              <a:off x="7202880" y="3001680"/>
              <a:ext cx="226440" cy="83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30763"/>
            <p:cNvCxnSpPr>
              <a:stCxn id="110" idx="3"/>
              <a:endCxn id="119" idx="2"/>
            </p:cNvCxnSpPr>
            <p:nvPr/>
          </p:nvCxnSpPr>
          <p:spPr>
            <a:xfrm flipV="1">
              <a:off x="4582440" y="3001680"/>
              <a:ext cx="2621160" cy="83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30747"/>
            <p:cNvCxnSpPr>
              <a:stCxn id="119" idx="0"/>
              <a:endCxn id="122" idx="2"/>
            </p:cNvCxnSpPr>
            <p:nvPr/>
          </p:nvCxnSpPr>
          <p:spPr>
            <a:xfrm flipV="1" rot="16200000">
              <a:off x="5569560" y="529920"/>
              <a:ext cx="419400" cy="2849040"/>
            </a:xfrm>
            <a:prstGeom prst="bentConnector3">
              <a:avLst>
                <a:gd name="adj1" fmla="val 241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30745"/>
            <p:cNvCxnSpPr>
              <a:stCxn id="124" idx="0"/>
              <a:endCxn id="122" idx="2"/>
            </p:cNvCxnSpPr>
            <p:nvPr/>
          </p:nvCxnSpPr>
          <p:spPr>
            <a:xfrm flipH="1" flipV="1" rot="5400000">
              <a:off x="2722680" y="531720"/>
              <a:ext cx="419400" cy="2845800"/>
            </a:xfrm>
            <a:prstGeom prst="bentConnector3">
              <a:avLst>
                <a:gd name="adj1" fmla="val 241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2" name="_s30741"/>
            <p:cNvSpPr/>
            <p:nvPr/>
          </p:nvSpPr>
          <p:spPr>
            <a:xfrm>
              <a:off x="3672000" y="90792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ибл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30742"/>
            <p:cNvSpPr/>
            <p:nvPr/>
          </p:nvSpPr>
          <p:spPr>
            <a:xfrm>
              <a:off x="826920" y="216468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Ветхий Зав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30744"/>
            <p:cNvSpPr/>
            <p:nvPr/>
          </p:nvSpPr>
          <p:spPr>
            <a:xfrm>
              <a:off x="6518520" y="216468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Новый Заве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30762"/>
            <p:cNvSpPr/>
            <p:nvPr/>
          </p:nvSpPr>
          <p:spPr>
            <a:xfrm>
              <a:off x="3216600" y="342144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Евангел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30764"/>
            <p:cNvSpPr/>
            <p:nvPr/>
          </p:nvSpPr>
          <p:spPr>
            <a:xfrm>
              <a:off x="7429680" y="342144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3 книг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30766"/>
            <p:cNvSpPr/>
            <p:nvPr/>
          </p:nvSpPr>
          <p:spPr>
            <a:xfrm>
              <a:off x="826920" y="467820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т Матве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768"/>
            <p:cNvSpPr/>
            <p:nvPr/>
          </p:nvSpPr>
          <p:spPr>
            <a:xfrm>
              <a:off x="2421000" y="467820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т Иоан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30770"/>
            <p:cNvSpPr/>
            <p:nvPr/>
          </p:nvSpPr>
          <p:spPr>
            <a:xfrm>
              <a:off x="4015080" y="4678200"/>
              <a:ext cx="13662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т Мар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30772"/>
            <p:cNvSpPr/>
            <p:nvPr/>
          </p:nvSpPr>
          <p:spPr>
            <a:xfrm>
              <a:off x="5609520" y="4678200"/>
              <a:ext cx="1364400" cy="83772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От Лу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900000" y="5805360"/>
            <a:ext cx="2592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еники Иису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5805360"/>
            <a:ext cx="2808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ченики уче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76360" y="5589720"/>
            <a:ext cx="698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916000" y="5589720"/>
            <a:ext cx="142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51664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940360" y="5516640"/>
            <a:ext cx="287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77080" y="260280"/>
            <a:ext cx="19429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ложение №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опрос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ремя возникновения христиан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одина христиан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ичины возникновения христиан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Что такое Библия, Ветхий Завет, Новый Завет, Евангел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4:29:33Z</dcterms:created>
  <dc:creator>Сергей</dc:creator>
  <dc:description/>
  <dc:language>en-US</dc:language>
  <cp:lastModifiedBy>user</cp:lastModifiedBy>
  <dcterms:modified xsi:type="dcterms:W3CDTF">2012-02-29T19:59:59Z</dcterms:modified>
  <cp:revision>24</cp:revision>
  <dc:subject/>
  <dc:title>Возникновение христианства. Основные христианские источники.</dc:title>
</cp:coreProperties>
</file>