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723-547B-4B1B-B939-C22E1858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6AFB-C5A4-4F0D-8006-21D4DCCC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28E-64C6-457A-AB32-DA4B4457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EA9-C57A-4F39-B533-8D10B899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47D8-0A4B-444C-B27E-68A6CAD8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BE29-9BC0-43D7-B1C8-318B7FC0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1E2B-C6C5-48F1-9DF1-BD0CB2DE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82F6-9986-4A5C-96B1-587DA995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EABB-4FE7-482A-8B1C-82DF31E4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1B06-C0CF-428A-BD21-95C7ABF4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E528-C0EF-48AE-87F4-138495F5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168-94AF-4EFC-836B-8544C683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ACDA-07D6-4805-9BB8-B901F3B7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3FC9-7800-4EAB-9AEF-D74C2731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61F0-D832-4C77-B278-0FA131DF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D5AC-C2D0-4224-9AA7-F6918971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1157-2D10-4D1F-B092-8FA0EA8B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C79-CEE5-46CF-B4A4-AC90E42F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A01-3792-4DF9-BED4-C6C5C717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F71-A6C8-48FA-9B49-D3324338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FE05-4063-4459-8DF0-49FCBBC0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BA1-37DF-4607-90C3-69C0C921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B80-B480-4A0C-8E8E-93F048B7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D17-D63C-4924-8231-4B2AA03F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0D6E-3168-4034-90FE-3B346A59A92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6F5C-D483-4FBA-B3EF-A8ABEB17FDA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205000"/>
            <a:ext cx="8785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Иисус Христос и его учение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32720" y="5013360"/>
            <a:ext cx="208728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учитель истории и общ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Максимович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92680" y="333360"/>
            <a:ext cx="725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Муниципальное образовательное учреждение СОШ №1 г.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5445000"/>
            <a:ext cx="180000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г.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МОУ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Вопро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то такой И.Христос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ему учил Иисус Христос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чему его учение стало популярны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Кто такой Иисус Христос (Спасение)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Мифологический под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Исторический подхо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Религиозный под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Сформулируйте ответ на вопрос каждой точки зр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ождение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384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7-3 в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фле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Вифлеемская звезда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уд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осиф, Ма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зарет (назаретяни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716360" y="1268280"/>
            <a:ext cx="374976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рещ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4316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лет -начал странств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оанн Креститель    (Предтеча- предшествовал Иисусу)совершил обряд крещения над Христом в водах реки Иор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омент крещения голос с небес возвестил: «Се есть Сын Мой возлюбленный!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733560" cy="4530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00000" y="623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Вход в Иерусали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айная Вечер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6135840" cy="33195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2 учеников – апостолов: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етр, Андрей, Иаков, Иоанн, Филипп, Варфоломей, Матфей, Фома, Иаков Алфеев, Иуда, Фаддей, Симон Зелот и Иуда Искариот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458136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Учение И.Христа.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юби всех (и близких, и враго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ись прощать. «Не судите, да не судимы будете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упайте с людьми всегда так, как вы хотите, чтобы другие поступали с в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бро делай незаметно, не жди поощр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литься, поститься и каяться нужно непоказ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стремись к богатству,  достаток, богатства и материальное благополучие достигай честным, добрым и нравственным пут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дите всех не по словам, а по дел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вердо стойте на «камне веры»(следуйте своей вере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Использованные источники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images.yande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(рождение Хри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spiritoflife.ru (Тайная Вечеря) Да Вин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arttrans.com.ua (крещение Христа) Да Вин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ход в Иерусалим(фрагмент фил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29:33Z</dcterms:created>
  <dc:creator>Сергей</dc:creator>
  <dc:description/>
  <dc:language>en-US</dc:language>
  <cp:lastModifiedBy>user</cp:lastModifiedBy>
  <dcterms:modified xsi:type="dcterms:W3CDTF">2013-02-19T19:33:13Z</dcterms:modified>
  <cp:revision>30</cp:revision>
  <dc:subject/>
  <dc:title>Возникновение христианства. Основные христианские источники.</dc:title>
</cp:coreProperties>
</file>