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CFE-8B20-454F-8BAE-5C84E60A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085-556C-4071-9122-0D71268E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1CB-9108-4196-9C0F-7FBE2F3F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230-0927-4596-9953-E9A4C4B9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0412-EBE5-4410-8F94-8C893393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BDBD-4B4D-44C4-BB6A-F9712D0A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6682-80FD-4EF8-9CFE-C5871D4D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95AE-A602-4183-8BCB-8159876D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F546-0261-4BE8-8A35-19699694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1AB3-71BB-40D8-A4CA-34C97E5B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20BE-5BA9-4F84-B8E1-DD73E82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C72-C689-4102-A658-886144F2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5D9C-B85C-4F60-9E29-C2309F3D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804F-168D-49F4-B43D-B7D0728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6844-62C2-40F8-A873-1F313F3A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1658-76F4-4CB9-90A5-CFD2C72E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F620-4A64-4FCD-9F77-6CFA875F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261-BE60-461B-8BAD-E3179120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253-11C0-46AF-B269-91B0160E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028-6932-40F4-9651-44D03B74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B73-0472-4747-8841-926D0ECB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8E1-492C-41BF-BB1F-4A1D3EDC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BBB-7B05-4C6D-B985-9D08AB4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C09-2A57-4237-8064-5694BB9F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3ED3-CBE0-42A0-BB49-7FA3F41A41F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504B-DE61-424F-A606-630959EE34C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781200" y="566640"/>
            <a:ext cx="7783200" cy="1884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Христианство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 мировая религия.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тверждение догматики и культ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3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242560" cy="86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вол вер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ткое изложение основных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гматов христианства, состоящее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 12 пун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гмат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ожение не подлежащее изменен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832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714240"/>
          <a:ext cx="8229600" cy="5492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8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ши ассоциации с изучаемой темой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«Христианство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Л НА УРО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70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исус Христ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вангел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тхий За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й За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вед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«Христианство как мировая религия. Утверждение догматики и культ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 вер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ленский соб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гма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 превращения христианства в мировую религи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На тему «Христианство» составить СИНКВЕЙН.                                                                                                 2. Подготовиться к обобщающему уроку по теме «Христианств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523880" y="1397160"/>
          <a:ext cx="6096240" cy="4010040"/>
        </p:xfrm>
        <a:graphic>
          <a:graphicData uri="http://schemas.openxmlformats.org/drawingml/2006/table">
            <a:tbl>
              <a:tblPr/>
              <a:tblGrid>
                <a:gridCol w="2032200"/>
                <a:gridCol w="1015920"/>
                <a:gridCol w="3048120"/>
              </a:tblGrid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buClr>
                          <a:srgbClr val="ffffff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писко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  Краткое изложение основных догма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Кли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, не подлежащее изменени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Догм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единенное жилище»)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иако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Старейшины» общи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598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иря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ее должностное лицо в религиозной иерарх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Монастыр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 верующ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192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Символ вер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ди, помогающие пресвитерам выполнять богослужебные ритуалы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          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ресвите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.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ященнослужите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1"/>
          <p:cNvSpPr/>
          <p:nvPr/>
        </p:nvSpPr>
        <p:spPr>
          <a:xfrm>
            <a:off x="2092680" y="74880"/>
            <a:ext cx="49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: СООТНЕСИТЕ ТЕРМИНЫ С ИХ ЗНАЧЕНИ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ка домашнего задан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                                         2.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учителя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ристианство как мировая религия. Утверждение догматики и куль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»                                                                                                                                      3. Домашнее зад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На тему «Христианство» составить СИНКВЕЙН.                                                                                                 2. Подготовиться к обобщающему уроку по теме «Христианство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41112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571760" y="2214720"/>
          <a:ext cx="6095880" cy="375444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68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ОЧУ УЗНА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Л НА УРОК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000440"/>
          </a:xfrm>
          <a:prstGeom prst="rect">
            <a:avLst/>
          </a:prstGeom>
          <a:ln w="0">
            <a:noFill/>
          </a:ln>
        </p:spPr>
      </p:pic>
      <p:pic>
        <p:nvPicPr>
          <p:cNvPr id="88" name="Содержимое 8" descr=""/>
          <p:cNvPicPr/>
          <p:nvPr/>
        </p:nvPicPr>
        <p:blipFill>
          <a:blip r:embed="rId2"/>
          <a:stretch/>
        </p:blipFill>
        <p:spPr>
          <a:xfrm>
            <a:off x="480960" y="622440"/>
            <a:ext cx="826632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1714680" y="-55440"/>
            <a:ext cx="5643360" cy="6913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9288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" nodeType="afterEffect" fill="hold" presetClass="exit" presetID="5" presetSubtype="10">
                                  <p:stCondLst>
                                    <p:cond delay="1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330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-103320" y="0"/>
            <a:ext cx="93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3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0" y="1143000"/>
            <a:ext cx="64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свитер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«старейшины» общ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0" y="1571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ко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греч. «прислужники»)- люди, помогающие пресвитерам выполнять богослужебные ритуа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0" y="2428920"/>
            <a:ext cx="11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пископ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букв. : «надзиратель») – высшее должностное лиц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7"/>
          <p:cNvSpPr/>
          <p:nvPr/>
        </p:nvSpPr>
        <p:spPr>
          <a:xfrm>
            <a:off x="0" y="2857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ополи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греч. «человек из главного города») – епископы главных городов провинций, за которыми закрепилось право назначать других епископ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0" y="3857760"/>
            <a:ext cx="51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ян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ростые верующ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9"/>
          <p:cNvSpPr/>
          <p:nvPr/>
        </p:nvSpPr>
        <p:spPr>
          <a:xfrm>
            <a:off x="0" y="43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и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греч. «жребий», что может означать особое апостольское призвание, которое дано не каждому) - священнослужит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0" y="500076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ерарх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букв. с греч. – «священная власть»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0" y="5357880"/>
            <a:ext cx="52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от греч. монос) – оди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0" y="578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настыр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от греч. монос – один; букв. «уединенное жилище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6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68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76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72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688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8520"/>
                            </p:stCondLst>
                            <p:childTnLst>
                              <p:par>
                                <p:cTn id="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956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71760" y="0"/>
            <a:ext cx="61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1571760" y="0"/>
            <a:ext cx="6072120" cy="685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1428840" y="0"/>
            <a:ext cx="62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71 -0.01042 L -0.26771 -0.01042 E">
                                      <p:cBhvr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1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9" nodeType="afterEffect" fill="hold" presetClass="exit" presetID="5" presetSubtype="10">
                                  <p:stCondLst>
                                    <p:cond delay="5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428760" y="714240"/>
          <a:ext cx="8072280" cy="5851800"/>
        </p:xfrm>
        <a:graphic>
          <a:graphicData uri="http://schemas.openxmlformats.org/drawingml/2006/table">
            <a:tbl>
              <a:tblPr/>
              <a:tblGrid>
                <a:gridCol w="2714400"/>
                <a:gridCol w="5357880"/>
              </a:tblGrid>
              <a:tr h="80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ра в единого рожденного от Бога-Отца и пришедшего на землю ради спасения всех людей;                                                                                                                  вера в  то, что Христос умер мученической смертью, как человек, принявший страдания за всех людей;                                                                                      вера в  то, что он воскрес на третий день, а затем вознесся на небеса;                         вера в то, что Христос придет на землю во второй раз, чтобы судить живых и мертвых, которые воскреснут, и т.д..                                                                     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Верую во Единаго Бога Отца, Вседержателя, Творца небу и земли, видимым же всем и невидимы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И во Единаго Иисуса Христа, Сына Божия Единороднаго, Иже отОтца рожденнаго прежде всех век. Света от Света, Бога истинна от Бога истинна, рожденна, несотворенна, единосущна Отцу, Им же вся быш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Нас ради человек и нашего ради спасения сшедшаго с небес и воплотившагося от Духа Свята и Марии Девы и вочеловечша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Распятаго же при Понтийстем Пилате, и страдавша, и погребенн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И воскресшаго в третий день по Писанием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И возшедшаго на небеса, и седяща одесную Отц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 И паки грядущаго со славою судити живым и мертвым, Его же Царствию не будет конц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 И в Духа Святаго, Господа Животворящаго, Иже от Отца исходящаго, Иже со Отцем и Сыном споклоняема и сславима, глаголашаго проро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 Во едину Святую, Соборную и Апостольскую Церков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 Исповедую едино крещение во оставление грехов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 Чаю воскресения мертвых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 И жизни будущаго. Амин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0:10:14Z</dcterms:created>
  <dc:creator>Admin</dc:creator>
  <dc:description/>
  <dc:language>en-US</dc:language>
  <cp:lastModifiedBy>Admin</cp:lastModifiedBy>
  <dcterms:modified xsi:type="dcterms:W3CDTF">2011-04-20T12:17:49Z</dcterms:modified>
  <cp:revision>133</cp:revision>
  <dc:subject/>
  <dc:title>ТЕМА УРОКА                                              «ЧТО ТАКОЕ РЕЛИГИЯ?» </dc:title>
</cp:coreProperties>
</file>