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9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20.png" ContentType="image/png"/>
  <Override PartName="/ppt/media/image18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14.jpeg" ContentType="image/jpeg"/>
  <Override PartName="/ppt/media/image12.png" ContentType="image/png"/>
  <Override PartName="/ppt/media/image31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13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D59-F7EF-44A0-BECF-C80BBD5A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A44-983E-40BD-9CB6-3A50F8D5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320-A40F-40E2-9EC3-6F6C6764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263-EB9A-4359-8377-329EEEC7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2D0D-7D08-43C8-9D25-5B5E42A0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01FD-4D72-43AF-A44D-C3012406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4012-C428-489B-8599-F0606666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7B54-D3C8-4E37-B041-D998C5AE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13EB-2C48-43DE-8644-27690213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C536-3716-439F-8FAA-9249D3FB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A1E7-00D7-4EDF-A652-5E64DE64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8AA-FC67-4A57-A5F8-BB59A74D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5BE2-806B-4CBB-A245-1A15BE0F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0038-578C-4F0D-939D-7E3A7352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5B83-904B-40C8-8B70-16113EFE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73F2-3F3D-41D6-BC32-40B2A071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5B8C-0A25-4F56-AFA6-0A1EC706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1D67-EDD9-4305-BAD9-7F918C47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1A503-7FEC-4B09-A70A-8CE7007C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A3611-EF6A-4833-9C7E-F5012EB0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CF216-A68B-4B49-B70C-C010E4B0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3529C-F173-487B-BD22-70FF7BF5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FDB-E73F-4116-A014-C35D3C48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491A8-5CBD-46D4-9467-FF3647E8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0A7B8-CE2C-4DEE-84B7-8CCBB738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8827D-E2D0-4F3E-A141-B0BCCD72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9CA4-8E70-44DD-9095-8A35C6B1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D843F-EA3E-43C3-8D66-4ACD80C1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8FD4C-1F62-4993-8B86-E4C259B1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9299-5D9F-4F01-BA53-55D55CEC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B2DF6-A74E-4B07-8CFB-B30E5A9E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19A3D-F7DA-487F-BAD1-C7F04A55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9CFBC-CAA3-4FBE-A0C3-9A171DB6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433-3226-45C1-AFB8-C58A3926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158D6-841E-4222-8F51-60082316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8BE49-A7EF-41C6-BB5A-0B28C26E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D17C4-8DBB-4D65-91BB-BF15EBD3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9A38B-5E12-41CD-9AEC-09AD5B5B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F9084-7735-4DF7-9B47-5AE9CC0D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6967D-FBFC-468E-AA95-870B270F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68ED1-D7CC-45C4-A343-0D3B87A9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0EB57-7872-48CC-821E-F0B5909D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6008A-124D-4368-BFBC-FA1B8AF7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A6F6E-5A3C-465F-8381-0791A3EF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DD4-E5E4-443B-AFCA-1B8492C9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D6D37-23F3-4945-97D1-33DBE41C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B3057-3A8D-4440-A65C-9C8AB31B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F870D-815D-498F-99CA-7DD3B940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DF5E4-55EE-4788-A9A8-C448BA67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20C5B-D060-4036-BBC3-E34BC07D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0A89C-505A-4ECF-91D6-820F5865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9AD8F-6FEB-4D68-AA7A-1731D31B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9213D-F6DC-4893-8D9A-44E1F4B2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5068C-720E-4B01-8001-0C6F3745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F58A9-35F6-4DFF-892D-84E14AE2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852-3B18-4CAA-B0E3-8E6047A9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67284-F79E-404A-9952-D54B7EDB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BE00D-981A-4B73-843A-31C4E4AD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631C1-A881-4DDB-90DC-7DE70E62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A9A1F-A4D6-41A4-B128-8BB7D3BB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2379A-DCA5-4193-8115-7D35117E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4DA46-9AF2-4AE8-B167-0C266164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4D46B-0222-4E6C-B30E-6A76ADDB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D1890-26A6-4172-8DBF-76EFB9DB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FF136-52E3-4CB7-9F13-ABB7AD69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41E2E-E4F6-49CF-B769-A84FCBB5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4F8D-3851-4CDA-BC5D-5C10821B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CBF16-BFE3-43C9-BAAF-7038457C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002A4-1F1E-4454-BB20-8D905B86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0E261-F570-4A71-8BFF-767D8162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C3AF6-ED54-4FC9-ABD4-F50540FF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76A9B-9FF2-479C-B9F8-606F478C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7C239-B712-4739-9909-DC113C06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7D178-4E4E-4B02-9F75-49072F2B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C69F2-29EB-4191-A38C-230FCA69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1B6D0-B486-4EE0-AC9B-C985F24F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E78C8-CABB-4340-8FDB-3783AB7A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1D08-43DB-4315-947F-27B45E04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24D77-8877-44B9-BB39-A3B354F6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0FECD-BB05-44DD-9A94-1500AFD8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782F1-121E-42C7-AD9B-BF8A4633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C2116-23A7-4FA5-87B9-66CF1D8E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94758-BC60-4C58-8B54-3F2112DE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2E4D7-371A-47C4-A0E2-E84EE167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45411-6FED-46DE-8285-1564AE19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97434-2F2E-4CEC-93EF-B755E548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87AE5-AB61-4462-A360-BE3666B5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F2C21-A789-4686-AD9C-D3B61A02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A2B-419F-4B32-9AB9-70B8FEB5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A6DFE-302C-4D90-90A5-F6E05CE6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E9ED1-B5E1-4741-AD49-68C0B1F9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2577B-3569-4A5C-B1FA-BCFAAAAC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2ED49-9F0B-483F-BD29-A26A4B13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5A5C3-E30E-44C2-91FA-1C86570F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B6C74-59D4-43D8-B7DB-8C404FEF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CADB7-388E-43D0-B7A2-E73F7866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8E17-77B3-4DE7-9611-C86AAD9AFA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ACB9-B60F-4698-9859-C3A417FADBA9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5FA5-6AC4-4DCE-82A1-E38C51D9FA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4EC2-62F4-4A18-98C3-0A8BA3CA3C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EB47-EBA7-4198-8415-B3BFE1D670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3B5B-04FC-4229-9589-0920D56AD3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4EBC-A9B7-4CE3-8317-743B6F934C3E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C1AE-39B9-412F-A5D8-9EC96587E773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00040" y="-30240"/>
            <a:ext cx="8064360" cy="288936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573120" y="5931000"/>
            <a:ext cx="8058240" cy="103032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3" descr="католицизм.jpg"/>
          <p:cNvPicPr/>
          <p:nvPr/>
        </p:nvPicPr>
        <p:blipFill>
          <a:blip r:embed="rId3"/>
          <a:stretch/>
        </p:blipFill>
        <p:spPr>
          <a:xfrm>
            <a:off x="2143080" y="2500200"/>
            <a:ext cx="52149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26960" y="85680"/>
            <a:ext cx="8064720" cy="1206720"/>
          </a:xfrm>
          <a:prstGeom prst="rect">
            <a:avLst/>
          </a:prstGeom>
          <a:ln w="0">
            <a:noFill/>
          </a:ln>
        </p:spPr>
      </p:pic>
      <p:pic>
        <p:nvPicPr>
          <p:cNvPr id="380" name="Подзаголовок 4" descr=""/>
          <p:cNvPicPr/>
          <p:nvPr/>
        </p:nvPicPr>
        <p:blipFill>
          <a:blip r:embed="rId2"/>
          <a:stretch/>
        </p:blipFill>
        <p:spPr>
          <a:xfrm>
            <a:off x="212760" y="5614920"/>
            <a:ext cx="8766000" cy="1133640"/>
          </a:xfrm>
          <a:prstGeom prst="rect">
            <a:avLst/>
          </a:prstGeom>
          <a:ln w="0">
            <a:noFill/>
          </a:ln>
        </p:spPr>
      </p:pic>
      <p:pic>
        <p:nvPicPr>
          <p:cNvPr id="381" name="Содержимое 3" descr="Римско-католический храм непорочного зачатия Пресвятой Девы Марии.jpg"/>
          <p:cNvPicPr/>
          <p:nvPr/>
        </p:nvPicPr>
        <p:blipFill>
          <a:blip r:embed="rId3"/>
          <a:stretch/>
        </p:blipFill>
        <p:spPr>
          <a:xfrm>
            <a:off x="1643040" y="9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212760" y="4211640"/>
            <a:ext cx="3451320" cy="2433600"/>
          </a:xfrm>
          <a:prstGeom prst="rect">
            <a:avLst/>
          </a:prstGeom>
          <a:ln w="0">
            <a:noFill/>
          </a:ln>
        </p:spPr>
      </p:pic>
      <p:pic>
        <p:nvPicPr>
          <p:cNvPr id="383" name="Содержимое 3" descr="c9d96a16bab0.jpg"/>
          <p:cNvPicPr/>
          <p:nvPr/>
        </p:nvPicPr>
        <p:blipFill>
          <a:blip r:embed="rId2"/>
          <a:stretch/>
        </p:blipFill>
        <p:spPr>
          <a:xfrm>
            <a:off x="285840" y="285840"/>
            <a:ext cx="5072040" cy="379548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4" descr="1222408.jpg"/>
          <p:cNvPicPr/>
          <p:nvPr/>
        </p:nvPicPr>
        <p:blipFill>
          <a:blip r:embed="rId3"/>
          <a:stretch/>
        </p:blipFill>
        <p:spPr>
          <a:xfrm>
            <a:off x="3505320" y="3071880"/>
            <a:ext cx="54007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357200"/>
            <a:ext cx="50436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onotype Corsiva"/>
              </a:rPr>
              <a:t>Догмат о филиокве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Monotype Corsiva"/>
              </a:rPr>
              <a:t>Святой Дух исходит не только от Бога-Отца , но и от Бога-Сы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Monotype Corsiva"/>
              </a:rPr>
              <a:t>(согласно православию  Святой Дух  исходит  только  от Бога  Отца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7" name="Рисунок 3" descr="22-10-1b.jpg"/>
          <p:cNvPicPr/>
          <p:nvPr/>
        </p:nvPicPr>
        <p:blipFill>
          <a:blip r:embed="rId2"/>
          <a:stretch/>
        </p:blipFill>
        <p:spPr>
          <a:xfrm>
            <a:off x="5643720" y="1500120"/>
            <a:ext cx="321444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5" descr=""/>
          <p:cNvPicPr/>
          <p:nvPr/>
        </p:nvPicPr>
        <p:blipFill>
          <a:blip r:embed="rId1"/>
          <a:stretch/>
        </p:blipFill>
        <p:spPr>
          <a:xfrm>
            <a:off x="3359160" y="890640"/>
            <a:ext cx="5675400" cy="5473800"/>
          </a:xfrm>
          <a:prstGeom prst="rect">
            <a:avLst/>
          </a:prstGeom>
          <a:ln w="0">
            <a:noFill/>
          </a:ln>
        </p:spPr>
      </p:pic>
      <p:pic>
        <p:nvPicPr>
          <p:cNvPr id="389" name="Содержимое 2" descr=""/>
          <p:cNvPicPr/>
          <p:nvPr/>
        </p:nvPicPr>
        <p:blipFill>
          <a:blip r:embed="rId2"/>
          <a:stretch/>
        </p:blipFill>
        <p:spPr>
          <a:xfrm>
            <a:off x="182520" y="92160"/>
            <a:ext cx="8309160" cy="11761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3" descr="согласно католическому вероучению, место, где....jpg"/>
          <p:cNvPicPr/>
          <p:nvPr/>
        </p:nvPicPr>
        <p:blipFill>
          <a:blip r:embed="rId3"/>
          <a:stretch/>
        </p:blipFill>
        <p:spPr>
          <a:xfrm>
            <a:off x="285840" y="1071720"/>
            <a:ext cx="3214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13840" y="21420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359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Monotype Corsiva"/>
              </a:rPr>
              <a:t>Учение о запасе добрых дел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од  этими делами понимаются молитвы, богослужения, пожертвования в пользу церкви и другие деяния. Церковь  располагает  запасом «сверхдолжностных дел»  за счет деятельност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исуса Христа  и святых  Римско- католической церкви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Церковь  распоряжается  этим запасом добрых дел и по своему  усмотрению распределяет  их  среди  тех, кто в них нуждаетс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219240" y="365040"/>
            <a:ext cx="1128600" cy="59436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34720" y="142920"/>
            <a:ext cx="2438280" cy="61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Monotype Corsiva"/>
              </a:rPr>
              <a:t>Индульгенция- 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это папская грамота, свидетельствующая об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отпущении  грехов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Ее можно было купить за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деньги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Отпущение грехов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происходило путем покупки этих индульгенций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4" name="Содержимое 6" descr="4762.jpg"/>
          <p:cNvPicPr/>
          <p:nvPr/>
        </p:nvPicPr>
        <p:blipFill>
          <a:blip r:embed="rId2"/>
          <a:stretch/>
        </p:blipFill>
        <p:spPr>
          <a:xfrm>
            <a:off x="6000840" y="214200"/>
            <a:ext cx="2933640" cy="426744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7" descr="ind.jpg"/>
          <p:cNvPicPr/>
          <p:nvPr/>
        </p:nvPicPr>
        <p:blipFill>
          <a:blip r:embed="rId3"/>
          <a:stretch/>
        </p:blipFill>
        <p:spPr>
          <a:xfrm>
            <a:off x="3714840" y="1857240"/>
            <a:ext cx="3029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Подзаголовок 5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247240" cy="18460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6" descr="maria_gama.jpg"/>
          <p:cNvPicPr/>
          <p:nvPr/>
        </p:nvPicPr>
        <p:blipFill>
          <a:blip r:embed="rId2"/>
          <a:stretch/>
        </p:blipFill>
        <p:spPr>
          <a:xfrm>
            <a:off x="214200" y="1428840"/>
            <a:ext cx="3714840" cy="523692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7" descr="virgin_mary_000004.jpg"/>
          <p:cNvPicPr/>
          <p:nvPr/>
        </p:nvPicPr>
        <p:blipFill>
          <a:blip r:embed="rId3"/>
          <a:stretch/>
        </p:blipFill>
        <p:spPr>
          <a:xfrm>
            <a:off x="4214880" y="1428840"/>
            <a:ext cx="36241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85480" y="213840"/>
            <a:ext cx="84294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5.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Monotype Corsiva"/>
              </a:rPr>
              <a:t>Учение о верховенстве Папы Римского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Monotype Corsiva"/>
              </a:rPr>
              <a:t>над всеми христианами и его непогрешимост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Глава католической церкви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провозглашается наместни-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ом Христа на Земле.  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Monotype Corsiv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0" name="Рисунок 3" descr="380_3.jpg"/>
          <p:cNvPicPr/>
          <p:nvPr/>
        </p:nvPicPr>
        <p:blipFill>
          <a:blip r:embed="rId1"/>
          <a:stretch/>
        </p:blipFill>
        <p:spPr>
          <a:xfrm>
            <a:off x="428760" y="1857240"/>
            <a:ext cx="32320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26960" y="0"/>
            <a:ext cx="8382240" cy="1200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00008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Принцип целибат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3" name="Рисунок 3" descr="N010-8241.jpg"/>
          <p:cNvPicPr/>
          <p:nvPr/>
        </p:nvPicPr>
        <p:blipFill>
          <a:blip r:embed="rId2"/>
          <a:stretch/>
        </p:blipFill>
        <p:spPr>
          <a:xfrm>
            <a:off x="571680" y="1500120"/>
            <a:ext cx="714348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500040" y="-23760"/>
            <a:ext cx="8229600" cy="1206360"/>
          </a:xfrm>
          <a:prstGeom prst="rect">
            <a:avLst/>
          </a:prstGeom>
          <a:ln w="0">
            <a:noFill/>
          </a:ln>
        </p:spPr>
      </p:pic>
      <p:pic>
        <p:nvPicPr>
          <p:cNvPr id="405" name="Содержимое 3" descr="1225969359_876.jpg"/>
          <p:cNvPicPr/>
          <p:nvPr/>
        </p:nvPicPr>
        <p:blipFill>
          <a:blip r:embed="rId2"/>
          <a:stretch/>
        </p:blipFill>
        <p:spPr>
          <a:xfrm>
            <a:off x="928800" y="1000080"/>
            <a:ext cx="750096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26960" y="12852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28760" y="999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У католиков таинство крещения совершается троекратным обливанием водой головы крещеного, в православии троекратным погружением в воду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8" name="Рисунок 3" descr="католики.jpg"/>
          <p:cNvPicPr/>
          <p:nvPr/>
        </p:nvPicPr>
        <p:blipFill>
          <a:blip r:embed="rId2"/>
          <a:stretch/>
        </p:blipFill>
        <p:spPr>
          <a:xfrm>
            <a:off x="1214280" y="2500200"/>
            <a:ext cx="66042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573120" y="152280"/>
            <a:ext cx="5718240" cy="1103400"/>
          </a:xfrm>
          <a:prstGeom prst="rect">
            <a:avLst/>
          </a:prstGeom>
          <a:ln w="0">
            <a:noFill/>
          </a:ln>
        </p:spPr>
      </p:pic>
      <p:pic>
        <p:nvPicPr>
          <p:cNvPr id="410" name="Подзаголовок 5" descr=""/>
          <p:cNvPicPr/>
          <p:nvPr/>
        </p:nvPicPr>
        <p:blipFill>
          <a:blip r:embed="rId2"/>
          <a:stretch/>
        </p:blipFill>
        <p:spPr>
          <a:xfrm>
            <a:off x="334800" y="1736640"/>
            <a:ext cx="8669520" cy="4835520"/>
          </a:xfrm>
          <a:prstGeom prst="rect">
            <a:avLst/>
          </a:prstGeom>
          <a:ln w="0">
            <a:noFill/>
          </a:ln>
        </p:spPr>
      </p:pic>
      <p:pic>
        <p:nvPicPr>
          <p:cNvPr id="411" name="Содержимое 3" descr="katolik.jpg"/>
          <p:cNvPicPr/>
          <p:nvPr/>
        </p:nvPicPr>
        <p:blipFill>
          <a:blip r:embed="rId3"/>
          <a:stretch/>
        </p:blipFill>
        <p:spPr>
          <a:xfrm>
            <a:off x="428760" y="2714760"/>
            <a:ext cx="4809960" cy="348588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4" descr="DSC_0612.jpg"/>
          <p:cNvPicPr/>
          <p:nvPr/>
        </p:nvPicPr>
        <p:blipFill>
          <a:blip r:embed="rId4"/>
          <a:stretch/>
        </p:blipFill>
        <p:spPr>
          <a:xfrm>
            <a:off x="6786720" y="214200"/>
            <a:ext cx="2151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2840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Раскол христианской церкв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Распространение католицизм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Термин « Католицизм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Догматические особенно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Таинства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Канонические  отличия  католиков  от православных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21392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 возникло христианство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и почему произошел раскол христианской  церкви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источники богатств католической церкви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Рисунок 3" descr="4ad68c1f67f3.jpg"/>
          <p:cNvPicPr/>
          <p:nvPr/>
        </p:nvPicPr>
        <p:blipFill>
          <a:blip r:embed="rId2"/>
          <a:stretch/>
        </p:blipFill>
        <p:spPr>
          <a:xfrm>
            <a:off x="1714680" y="3071880"/>
            <a:ext cx="4857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151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942120" y="1082520"/>
            <a:ext cx="2837160" cy="6426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 Cyr"/>
              </a:rPr>
              <a:t>Разделение церкви прои-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 Cyr"/>
              </a:rPr>
              <a:t>зошло в..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449280" y="2523960"/>
            <a:ext cx="3817800" cy="64260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 Cyr"/>
              </a:rPr>
              <a:t>Византийскую церков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 Cyr"/>
              </a:rPr>
              <a:t>возглавлял..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957960" y="3967200"/>
            <a:ext cx="2809800" cy="6426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 Cyr"/>
              </a:rPr>
              <a:t>Борьбу за усиление церк-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 Cyr"/>
              </a:rPr>
              <a:t>ви начал..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955800" y="5410080"/>
            <a:ext cx="2808000" cy="6426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 Cyr"/>
              </a:rPr>
              <a:t>Грамоты о прощении гр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 Cyr"/>
              </a:rPr>
              <a:t>хов назывались..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5334120" y="609480"/>
            <a:ext cx="3504960" cy="3682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 Cyr"/>
              </a:rPr>
              <a:t>1045 году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5334120" y="1109520"/>
            <a:ext cx="3504960" cy="3682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 Cyr"/>
              </a:rPr>
              <a:t>1094 году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5334120" y="1608120"/>
            <a:ext cx="3504960" cy="3682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 Cyr"/>
              </a:rPr>
              <a:t>1054 году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5334120" y="2106720"/>
            <a:ext cx="3504960" cy="36828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 Cyr"/>
              </a:rPr>
              <a:t>Митрополит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5334120" y="2604960"/>
            <a:ext cx="3504960" cy="36828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 Cyr"/>
              </a:rPr>
              <a:t>Патриарх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5334120" y="3103560"/>
            <a:ext cx="3504960" cy="36828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 Cyr"/>
              </a:rPr>
              <a:t>Пап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5334120" y="3603600"/>
            <a:ext cx="3504960" cy="368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 Cyr"/>
              </a:rPr>
              <a:t>Иннокентий </a:t>
            </a:r>
            <a:r>
              <a:rPr b="1" lang="en-US" sz="1800" spc="-1" strike="noStrike">
                <a:solidFill>
                  <a:srgbClr val="663300"/>
                </a:solidFill>
                <a:latin typeface="Times New Roman Cyr"/>
              </a:rPr>
              <a:t>II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5334120" y="4102200"/>
            <a:ext cx="3504960" cy="368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 Cyr"/>
              </a:rPr>
              <a:t>Генрих</a:t>
            </a:r>
            <a:r>
              <a:rPr b="1" lang="en-US" sz="1800" spc="-1" strike="noStrike">
                <a:solidFill>
                  <a:srgbClr val="663300"/>
                </a:solidFill>
                <a:latin typeface="Times New Roman Cyr"/>
              </a:rPr>
              <a:t> IV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Text Box 15"/>
          <p:cNvSpPr/>
          <p:nvPr/>
        </p:nvSpPr>
        <p:spPr>
          <a:xfrm>
            <a:off x="5334120" y="4600440"/>
            <a:ext cx="3504960" cy="368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 Cyr"/>
              </a:rPr>
              <a:t>Григорий </a:t>
            </a:r>
            <a:r>
              <a:rPr b="1" lang="en-US" sz="1800" spc="-1" strike="noStrike">
                <a:solidFill>
                  <a:srgbClr val="663300"/>
                </a:solidFill>
                <a:latin typeface="Times New Roman Cyr"/>
              </a:rPr>
              <a:t>VI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Text Box 16"/>
          <p:cNvSpPr/>
          <p:nvPr/>
        </p:nvSpPr>
        <p:spPr>
          <a:xfrm>
            <a:off x="5334120" y="5099040"/>
            <a:ext cx="3504960" cy="3682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 Cyr"/>
              </a:rPr>
              <a:t>Реликви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5334120" y="5597640"/>
            <a:ext cx="3504960" cy="3682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 Cyr"/>
              </a:rPr>
              <a:t>Индульгенци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5334120" y="6095880"/>
            <a:ext cx="3504960" cy="3682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 Cyr"/>
              </a:rPr>
              <a:t>Исповед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50004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Термин « католический »  ??????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5368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36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 переводе с греческого означает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«всеобщий, вселенский»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атолической до раскола называли всю христианскую церковь, как западную , так и восточную. Но после раскола это название закрепилось только за западной ветвью христианства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285840" y="20160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375" name="Содержимое 3" descr="карта.png"/>
          <p:cNvPicPr/>
          <p:nvPr/>
        </p:nvPicPr>
        <p:blipFill>
          <a:blip r:embed="rId2"/>
          <a:stretch/>
        </p:blipFill>
        <p:spPr>
          <a:xfrm>
            <a:off x="285840" y="1071720"/>
            <a:ext cx="8501040" cy="42289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285840" y="5429160"/>
            <a:ext cx="885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Католическую веру исповедует не менее 1 млрд. человек, в 50 странах мира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6840" y="357120"/>
            <a:ext cx="847260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88c"/>
                </a:solidFill>
                <a:latin typeface="Century Gothic"/>
              </a:rPr>
              <a:t>Географически католицизм распространен в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-Западной, Центральной, Юго- Восточной Европе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( </a:t>
            </a: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Испания, Италия, Португалия, Франция, Бельгия, Германия, Австрия, Польша, Литва, Чехия, Словакия, Венгрия, часть Украины и Белоруссии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ША и Мексик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-Южная Америк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-Африк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-Азия (</a:t>
            </a: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Филиппины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8" name="Рисунок 3" descr="Moscow_Catholic_church.jpg"/>
          <p:cNvPicPr/>
          <p:nvPr/>
        </p:nvPicPr>
        <p:blipFill>
          <a:blip r:embed="rId1"/>
          <a:stretch/>
        </p:blipFill>
        <p:spPr>
          <a:xfrm>
            <a:off x="4214880" y="3357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9:55:17Z</dcterms:created>
  <dc:creator>user2</dc:creator>
  <dc:description/>
  <dc:language>en-US</dc:language>
  <cp:lastModifiedBy>User</cp:lastModifiedBy>
  <dcterms:modified xsi:type="dcterms:W3CDTF">2013-07-10T09:13:57Z</dcterms:modified>
  <cp:revision>27</cp:revision>
  <dc:subject/>
  <dc:title>Католицизм. Особенности вероучения и культа</dc:title>
</cp:coreProperties>
</file>