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71F1-B9EE-4834-AC15-4AA07277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EB2B-6A2C-4F8F-9242-FFAD2236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EAFF-261A-4639-9A4E-A167BF23E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6765-8B73-4F54-B3A8-A40C8F523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A873-7898-46AC-A594-65AEC4C8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4A13-DB0E-45E1-85CF-FC4FDD7A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D7FD-D9AA-4EC1-8F10-0151FDCE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B63C-A04B-49DD-BFD2-6CBFF6E6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A1A7-224D-4F9C-8D27-929B7DDE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3F50-926C-45CB-92BD-68E3DC64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0FBF-3295-4381-8CBB-743F2B5F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33D1-FB61-4896-B988-92690B9D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B207-09F2-4B8E-9152-2D37BBF5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109A-029F-4742-921C-73975480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655F-4FA9-4CFE-946B-C03BD97C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51DB-15D9-4CA0-9013-40485AAF1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D669-19BD-41DD-A296-8A285E759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9D6B40-73D9-4E44-BE07-729136AFA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383B35-BC0E-48EB-97AC-095FD749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BCEFFD-EF20-4023-8B32-B068ACF4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E51C2D-F601-4049-ADBC-F1874959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9353F9-BA74-4F8A-8C3B-EE824190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041C-08A7-423D-943E-73C95898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8667CB-F018-4BAD-BF5B-2F2F92A5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B99745-0235-43F7-8055-1B9FC8AE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E6AE9F-1AA4-4A21-8B1A-40BBEDA7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6DF242-3480-4326-9409-27F899EE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301B9A-354D-4AEB-80FE-8606E5D7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26A76A-418D-4DE1-8B2F-C3703909E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4DC28E-DA41-40E2-B943-97DA77FC7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F0271-990C-402A-9CA2-8F024DC07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933E4-A485-4130-A3DD-FA6B629C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61D2B-C76E-42E0-8B4B-64281885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1AA7-BA5C-4F3E-B452-690D7B2D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01FD0-F587-46ED-B2E9-13C20548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EA114-9C09-4D4E-9E4C-C5C2C649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F666A-4F1E-417B-9BFD-11FEB1AC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93118-1F54-44A6-87F5-3B47C5FA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CB441-384B-4E9E-A2B9-56CDAE5C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68A9E-0101-4A70-B787-7577F570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9A3D9-FD8D-4A71-96D6-A4F74A31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93B41-BBB9-4B2C-9277-FDF9832D8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6C424-D4CA-4345-96BC-970A0A0C2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36BB-D3BD-4059-876F-0E3CA075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2712-3B05-4B40-B65A-10EDA060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9D6B-819C-4C64-AAA5-D0499E91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B703-C7C7-47E1-9B1E-EBE402F0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9E44-D5FD-47F6-9FDD-1B2250AC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9F8B-7C27-4AD0-B38B-7CA2D2C107C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0B74-B0CE-4CEF-B362-7F072AA413D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DF17-3CB1-47A5-AFBA-DE3AD52B99DF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F5C5-6AA5-4A53-958A-E1ED800ACF9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8400" y="1428480"/>
            <a:ext cx="8458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lang="ru-RU" sz="2900" spc="-1" strike="noStrike">
                <a:solidFill>
                  <a:srgbClr val="ffffff"/>
                </a:solidFill>
                <a:latin typeface="Monotype Corsiva"/>
              </a:rPr>
              <a:t>Тема урока: «Католическая церковная организация»</a:t>
            </a:r>
            <a:endParaRPr b="0" lang="en-US" sz="29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214720" y="4928760"/>
            <a:ext cx="49528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                       </a:t>
            </a: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2011 г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1785960" y="1429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Муниципальное образовательное учреждение  СОШ № 1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438086"/>
                </a:solidFill>
                <a:uFillTx/>
                <a:latin typeface="Monotype Corsiva"/>
              </a:rPr>
              <a:t>Крестовые поход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2" name="Содержимое 3" descr="charge des templiers.jpg"/>
          <p:cNvPicPr/>
          <p:nvPr/>
        </p:nvPicPr>
        <p:blipFill>
          <a:blip r:embed="rId1"/>
          <a:stretch/>
        </p:blipFill>
        <p:spPr>
          <a:xfrm>
            <a:off x="1214280" y="1643040"/>
            <a:ext cx="65725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Monotype Corsiva"/>
              </a:rPr>
              <a:t>Цель урока: проверить знания учащихся по теме          </a:t>
            </a:r>
            <a:br>
              <a:rPr sz="2800"/>
            </a:br>
            <a:r>
              <a:rPr b="0" lang="ru-RU" sz="2800" spc="-1" strike="noStrike">
                <a:solidFill>
                  <a:srgbClr val="424456"/>
                </a:solidFill>
                <a:latin typeface="Monotype Corsiva"/>
              </a:rPr>
              <a:t>« Особенности вероучения и культа»; изучить организацию и управление католической церкви</a:t>
            </a:r>
            <a:br>
              <a:rPr sz="2800"/>
            </a:b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38086"/>
                </a:solidFill>
                <a:latin typeface="Monotype Corsiva"/>
              </a:rPr>
              <a:t>Международный центр управления - Ватикан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9" name="Рисунок 4" descr="99_BaTukaH2.jpg"/>
          <p:cNvPicPr/>
          <p:nvPr/>
        </p:nvPicPr>
        <p:blipFill>
          <a:blip r:embed="rId1"/>
          <a:stretch/>
        </p:blipFill>
        <p:spPr>
          <a:xfrm>
            <a:off x="642960" y="1500120"/>
            <a:ext cx="7786800" cy="4500720"/>
          </a:xfrm>
          <a:prstGeom prst="rect">
            <a:avLst/>
          </a:prstGeom>
          <a:ln w="0">
            <a:noFill/>
          </a:ln>
        </p:spPr>
      </p:pic>
      <p:sp>
        <p:nvSpPr>
          <p:cNvPr id="220" name="TextBox 5"/>
          <p:cNvSpPr/>
          <p:nvPr/>
        </p:nvSpPr>
        <p:spPr>
          <a:xfrm>
            <a:off x="714240" y="6143760"/>
            <a:ext cx="778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атикан- государство с населением 2 тыс.человек, расположенное в центре Рима, занимающее площадь 44 г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38086"/>
                </a:solidFill>
                <a:latin typeface="Monotype Corsiva"/>
              </a:rPr>
              <a:t>Глава католической церкви- Папа Римский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2" name="Рисунок 3" descr="Иоанн Павел II.jpg"/>
          <p:cNvPicPr/>
          <p:nvPr/>
        </p:nvPicPr>
        <p:blipFill>
          <a:blip r:embed="rId1"/>
          <a:stretch/>
        </p:blipFill>
        <p:spPr>
          <a:xfrm>
            <a:off x="1000080" y="1428840"/>
            <a:ext cx="6786720" cy="4848120"/>
          </a:xfrm>
          <a:prstGeom prst="rect">
            <a:avLst/>
          </a:prstGeom>
          <a:ln w="0">
            <a:noFill/>
          </a:ln>
        </p:spPr>
      </p:pic>
      <p:sp>
        <p:nvSpPr>
          <p:cNvPr id="223" name="TextBox 4"/>
          <p:cNvSpPr/>
          <p:nvPr/>
        </p:nvSpPr>
        <p:spPr>
          <a:xfrm>
            <a:off x="2857680" y="6286680"/>
            <a:ext cx="39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8086"/>
                </a:solidFill>
                <a:latin typeface="Monotype Corsiva"/>
              </a:rPr>
              <a:t>Понтифик  Иоанн Павел 2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822960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38086"/>
                </a:solidFill>
                <a:latin typeface="Monotype Corsiva"/>
              </a:rPr>
              <a:t>Папа избирается пожизненно на закрытом собрании кардиналов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5" name="Содержимое 5" descr="kardinaly.jpg"/>
          <p:cNvPicPr/>
          <p:nvPr/>
        </p:nvPicPr>
        <p:blipFill>
          <a:blip r:embed="rId1"/>
          <a:stretch/>
        </p:blipFill>
        <p:spPr>
          <a:xfrm>
            <a:off x="428760" y="1643040"/>
            <a:ext cx="5638680" cy="392904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6" descr="DSC_0612.jpg"/>
          <p:cNvPicPr/>
          <p:nvPr/>
        </p:nvPicPr>
        <p:blipFill>
          <a:blip r:embed="rId2"/>
          <a:stretch/>
        </p:blipFill>
        <p:spPr>
          <a:xfrm>
            <a:off x="4572000" y="3857760"/>
            <a:ext cx="4357800" cy="2917800"/>
          </a:xfrm>
          <a:prstGeom prst="rect">
            <a:avLst/>
          </a:prstGeom>
          <a:ln w="0">
            <a:noFill/>
          </a:ln>
        </p:spPr>
      </p:pic>
      <p:sp>
        <p:nvSpPr>
          <p:cNvPr id="227" name="TextBox 7"/>
          <p:cNvSpPr/>
          <p:nvPr/>
        </p:nvSpPr>
        <p:spPr>
          <a:xfrm>
            <a:off x="6215040" y="1643040"/>
            <a:ext cx="264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Для управления церковью папа имеет систему органов власти- Святой престо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0000"/>
                </a:solidFill>
                <a:uFillTx/>
                <a:latin typeface="Monotype Corsiva"/>
              </a:rPr>
              <a:t>Епархия</a:t>
            </a:r>
            <a:r>
              <a:rPr b="0" lang="ru-RU" sz="2200" spc="-1" strike="noStrike">
                <a:solidFill>
                  <a:srgbClr val="ff0000"/>
                </a:solidFill>
                <a:latin typeface="Trebuchet MS"/>
              </a:rPr>
              <a:t>- </a:t>
            </a:r>
            <a:r>
              <a:rPr b="0" lang="ru-RU" sz="2200" spc="-1" strike="noStrike">
                <a:solidFill>
                  <a:srgbClr val="ff0000"/>
                </a:solidFill>
                <a:latin typeface="Monotype Corsiva"/>
              </a:rPr>
              <a:t>сообщество католиков той или иной территории</a:t>
            </a:r>
            <a:br>
              <a:rPr sz="2200"/>
            </a:br>
            <a:r>
              <a:rPr b="1" lang="ru-RU" sz="2200" spc="-1" strike="noStrike" u="sng">
                <a:solidFill>
                  <a:srgbClr val="ff0000"/>
                </a:solidFill>
                <a:uFillTx/>
                <a:latin typeface="Monotype Corsiva"/>
              </a:rPr>
              <a:t>Митрополия- </a:t>
            </a:r>
            <a:r>
              <a:rPr b="0" lang="ru-RU" sz="2200" spc="-1" strike="noStrike">
                <a:solidFill>
                  <a:srgbClr val="ff0000"/>
                </a:solidFill>
                <a:latin typeface="Monotype Corsiva"/>
              </a:rPr>
              <a:t>объединение нескольких епархий ( возглавляет митрополит)</a:t>
            </a:r>
            <a:endParaRPr b="0" lang="en-US" sz="2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9" name="Содержимое 3" descr="N010-8241.jpg"/>
          <p:cNvPicPr/>
          <p:nvPr/>
        </p:nvPicPr>
        <p:blipFill>
          <a:blip r:embed="rId1"/>
          <a:stretch/>
        </p:blipFill>
        <p:spPr>
          <a:xfrm>
            <a:off x="1143000" y="1857240"/>
            <a:ext cx="6500880" cy="47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50004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991cb"/>
                </a:solidFill>
                <a:latin typeface="Monotype Corsiva"/>
              </a:rPr>
              <a:t>Монашеские ордена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28760" y="16430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991cb"/>
                </a:solidFill>
                <a:latin typeface="Monotype Corsiva"/>
              </a:rPr>
              <a:t>Бенедиктинцы ( орден возник в 6 веке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991cb"/>
                </a:solidFill>
                <a:latin typeface="Monotype Corsiva"/>
              </a:rPr>
              <a:t>Доминиканцы( орден возник  в 12 веке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991cb"/>
                </a:solidFill>
                <a:latin typeface="Monotype Corsiva"/>
              </a:rPr>
              <a:t>Орден иезуитов (основан в 16 век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991cb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c991cb"/>
                </a:solidFill>
                <a:latin typeface="Monotype Corsiva"/>
              </a:rPr>
              <a:t>Игнатием Лойолой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991cb"/>
                </a:solidFill>
                <a:latin typeface="Monotype Corsiva"/>
              </a:rPr>
              <a:t>Тевтонский орден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2" name="Рисунок 3" descr="loyola.jpg"/>
          <p:cNvPicPr/>
          <p:nvPr/>
        </p:nvPicPr>
        <p:blipFill>
          <a:blip r:embed="rId1"/>
          <a:stretch/>
        </p:blipFill>
        <p:spPr>
          <a:xfrm>
            <a:off x="5500800" y="2786040"/>
            <a:ext cx="3286080" cy="3786120"/>
          </a:xfrm>
          <a:prstGeom prst="rect">
            <a:avLst/>
          </a:prstGeom>
          <a:ln w="0">
            <a:noFill/>
          </a:ln>
        </p:spPr>
      </p:pic>
      <p:sp>
        <p:nvSpPr>
          <p:cNvPr id="233" name="Полилиния 4"/>
          <p:cNvSpPr/>
          <p:nvPr/>
        </p:nvSpPr>
        <p:spPr>
          <a:xfrm>
            <a:off x="4433760" y="6299280"/>
            <a:ext cx="932040" cy="176040"/>
          </a:xfrm>
          <a:custGeom>
            <a:avLst/>
            <a:gdLst/>
            <a:ahLst/>
            <a:rect l="l" t="t" r="r" b="b"/>
            <a:pathLst>
              <a:path w="932872" h="175491">
                <a:moveTo>
                  <a:pt x="932872" y="83127"/>
                </a:moveTo>
                <a:cubicBezTo>
                  <a:pt x="926715" y="92363"/>
                  <a:pt x="923636" y="104678"/>
                  <a:pt x="914400" y="110836"/>
                </a:cubicBezTo>
                <a:cubicBezTo>
                  <a:pt x="886842" y="129208"/>
                  <a:pt x="849323" y="115384"/>
                  <a:pt x="822036" y="110836"/>
                </a:cubicBezTo>
                <a:cubicBezTo>
                  <a:pt x="779626" y="47222"/>
                  <a:pt x="833810" y="124573"/>
                  <a:pt x="766618" y="46182"/>
                </a:cubicBezTo>
                <a:cubicBezTo>
                  <a:pt x="759394" y="37754"/>
                  <a:pt x="757381" y="24631"/>
                  <a:pt x="748145" y="18473"/>
                </a:cubicBezTo>
                <a:cubicBezTo>
                  <a:pt x="737583" y="11432"/>
                  <a:pt x="723406" y="12723"/>
                  <a:pt x="711200" y="9236"/>
                </a:cubicBezTo>
                <a:cubicBezTo>
                  <a:pt x="701838" y="6561"/>
                  <a:pt x="692727" y="3079"/>
                  <a:pt x="683490" y="0"/>
                </a:cubicBezTo>
                <a:cubicBezTo>
                  <a:pt x="654225" y="14633"/>
                  <a:pt x="633580" y="22202"/>
                  <a:pt x="609600" y="46182"/>
                </a:cubicBezTo>
                <a:cubicBezTo>
                  <a:pt x="601751" y="54031"/>
                  <a:pt x="597285" y="64655"/>
                  <a:pt x="591127" y="73891"/>
                </a:cubicBezTo>
                <a:cubicBezTo>
                  <a:pt x="581181" y="113673"/>
                  <a:pt x="588336" y="111980"/>
                  <a:pt x="554181" y="138545"/>
                </a:cubicBezTo>
                <a:cubicBezTo>
                  <a:pt x="536656" y="152175"/>
                  <a:pt x="498763" y="175491"/>
                  <a:pt x="498763" y="175491"/>
                </a:cubicBezTo>
                <a:cubicBezTo>
                  <a:pt x="473636" y="169209"/>
                  <a:pt x="452628" y="168359"/>
                  <a:pt x="434109" y="147782"/>
                </a:cubicBezTo>
                <a:cubicBezTo>
                  <a:pt x="413513" y="124897"/>
                  <a:pt x="395768" y="99509"/>
                  <a:pt x="378690" y="73891"/>
                </a:cubicBezTo>
                <a:cubicBezTo>
                  <a:pt x="372533" y="64655"/>
                  <a:pt x="369312" y="52548"/>
                  <a:pt x="360218" y="46182"/>
                </a:cubicBezTo>
                <a:cubicBezTo>
                  <a:pt x="312858" y="13030"/>
                  <a:pt x="295578" y="11549"/>
                  <a:pt x="249381" y="0"/>
                </a:cubicBezTo>
                <a:cubicBezTo>
                  <a:pt x="205181" y="7366"/>
                  <a:pt x="186940" y="6349"/>
                  <a:pt x="147781" y="27709"/>
                </a:cubicBezTo>
                <a:cubicBezTo>
                  <a:pt x="128290" y="38340"/>
                  <a:pt x="92363" y="64655"/>
                  <a:pt x="92363" y="64655"/>
                </a:cubicBezTo>
                <a:cubicBezTo>
                  <a:pt x="86205" y="73891"/>
                  <a:pt x="84034" y="87856"/>
                  <a:pt x="73890" y="92364"/>
                </a:cubicBezTo>
                <a:cubicBezTo>
                  <a:pt x="52129" y="102035"/>
                  <a:pt x="24509" y="101600"/>
                  <a:pt x="0" y="101600"/>
                </a:cubicBezTo>
              </a:path>
            </a:pathLst>
          </a:custGeom>
          <a:noFill/>
          <a:ln w="9360">
            <a:solidFill>
              <a:srgbClr val="5354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TextBox 5"/>
          <p:cNvSpPr/>
          <p:nvPr/>
        </p:nvSpPr>
        <p:spPr>
          <a:xfrm>
            <a:off x="3643200" y="578628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гнатий Лойол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5" name="Picture 6" descr="ben01"/>
          <p:cNvPicPr/>
          <p:nvPr/>
        </p:nvPicPr>
        <p:blipFill>
          <a:blip r:embed="rId2"/>
          <a:stretch/>
        </p:blipFill>
        <p:spPr>
          <a:xfrm>
            <a:off x="142920" y="4857840"/>
            <a:ext cx="3527280" cy="1861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36" name="Picture 7" descr="мон-рь цистерианцев"/>
          <p:cNvPicPr/>
          <p:nvPr/>
        </p:nvPicPr>
        <p:blipFill>
          <a:blip r:embed="rId3"/>
          <a:stretch/>
        </p:blipFill>
        <p:spPr>
          <a:xfrm>
            <a:off x="6500880" y="785880"/>
            <a:ext cx="2158920" cy="1677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37" name="TextBox 8"/>
          <p:cNvSpPr/>
          <p:nvPr/>
        </p:nvSpPr>
        <p:spPr>
          <a:xfrm>
            <a:off x="6357960" y="2428920"/>
            <a:ext cx="25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Монастырь бенедиктинцев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Picture 6" descr="францисканец"/>
          <p:cNvPicPr/>
          <p:nvPr/>
        </p:nvPicPr>
        <p:blipFill>
          <a:blip r:embed="rId4"/>
          <a:stretch/>
        </p:blipFill>
        <p:spPr>
          <a:xfrm>
            <a:off x="3929040" y="3071880"/>
            <a:ext cx="1141560" cy="2071800"/>
          </a:xfrm>
          <a:prstGeom prst="rect">
            <a:avLst/>
          </a:prstGeom>
          <a:ln w="0">
            <a:noFill/>
          </a:ln>
        </p:spPr>
      </p:pic>
      <p:sp>
        <p:nvSpPr>
          <p:cNvPr id="239" name="TextBox 10"/>
          <p:cNvSpPr/>
          <p:nvPr/>
        </p:nvSpPr>
        <p:spPr>
          <a:xfrm>
            <a:off x="3929040" y="5143680"/>
            <a:ext cx="128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Монах францисканец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438086"/>
                </a:solidFill>
                <a:uFillTx/>
                <a:latin typeface="Monotype Corsiva"/>
              </a:rPr>
              <a:t>Инквизиция- </a:t>
            </a:r>
            <a:r>
              <a:rPr b="0" lang="ru-RU" sz="3600" spc="-1" strike="noStrike">
                <a:solidFill>
                  <a:srgbClr val="438086"/>
                </a:solidFill>
                <a:latin typeface="Monotype Corsiva"/>
              </a:rPr>
              <a:t>специальный трибунал для  борьбы с еретикам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1" name="Рисунок 3" descr="67bf24a54c8b.jpg"/>
          <p:cNvPicPr/>
          <p:nvPr/>
        </p:nvPicPr>
        <p:blipFill>
          <a:blip r:embed="rId1"/>
          <a:stretch/>
        </p:blipFill>
        <p:spPr>
          <a:xfrm>
            <a:off x="428760" y="1714680"/>
            <a:ext cx="7072200" cy="43164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800px-Tribunal_de_la_Inquisici%C3%B3n"/>
          <p:cNvPicPr/>
          <p:nvPr/>
        </p:nvPicPr>
        <p:blipFill>
          <a:blip r:embed="rId2"/>
          <a:stretch/>
        </p:blipFill>
        <p:spPr>
          <a:xfrm>
            <a:off x="4500720" y="3956040"/>
            <a:ext cx="4643280" cy="2901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9680" y="1142640"/>
            <a:ext cx="314316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04da3"/>
                </a:solidFill>
                <a:latin typeface="Trebuchet MS"/>
              </a:rPr>
              <a:t>В конце </a:t>
            </a:r>
            <a:r>
              <a:rPr b="1" lang="en-US" sz="1800" spc="-1" strike="noStrike">
                <a:solidFill>
                  <a:srgbClr val="a04da3"/>
                </a:solidFill>
                <a:latin typeface="Trebuchet MS"/>
              </a:rPr>
              <a:t>XI - </a:t>
            </a:r>
            <a:r>
              <a:rPr b="1" lang="ru-RU" sz="1800" spc="-1" strike="noStrike">
                <a:solidFill>
                  <a:srgbClr val="a04da3"/>
                </a:solidFill>
                <a:latin typeface="Trebuchet MS"/>
              </a:rPr>
              <a:t>начале</a:t>
            </a:r>
            <a:r>
              <a:rPr b="1" lang="en-US" sz="1800" spc="-1" strike="noStrike">
                <a:solidFill>
                  <a:srgbClr val="a04da3"/>
                </a:solidFill>
                <a:latin typeface="Trebuchet MS"/>
              </a:rPr>
              <a:t> XII</a:t>
            </a:r>
            <a:r>
              <a:rPr b="1" lang="ru-RU" sz="1800" spc="-1" strike="noStrike">
                <a:solidFill>
                  <a:srgbClr val="a04da3"/>
                </a:solidFill>
                <a:latin typeface="Trebuchet MS"/>
              </a:rPr>
              <a:t> в. папы укрепили свою власть. Попытки некоторых императоров подчинить себе Италию не удались (Фридрих Барбаросса (1152-1190гг.) и его внук Фридрих </a:t>
            </a:r>
            <a:r>
              <a:rPr b="1" lang="en-US" sz="1800" spc="-1" strike="noStrike">
                <a:solidFill>
                  <a:srgbClr val="a04da3"/>
                </a:solidFill>
                <a:latin typeface="Trebuchet MS"/>
              </a:rPr>
              <a:t>II</a:t>
            </a:r>
            <a:r>
              <a:rPr b="1" lang="ru-RU" sz="1800" spc="-1" strike="noStrike">
                <a:solidFill>
                  <a:srgbClr val="a04da3"/>
                </a:solidFill>
                <a:latin typeface="Trebuchet MS"/>
              </a:rPr>
              <a:t> (1212-1250)).</a:t>
            </a:r>
            <a:br>
              <a:rPr sz="3600"/>
            </a:b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Прямая соединительная линия 5"/>
          <p:cNvSpPr/>
          <p:nvPr/>
        </p:nvSpPr>
        <p:spPr>
          <a:xfrm flipH="1">
            <a:off x="569520" y="571680"/>
            <a:ext cx="1800" cy="242856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Прямая соединительная линия 7"/>
          <p:cNvSpPr/>
          <p:nvPr/>
        </p:nvSpPr>
        <p:spPr>
          <a:xfrm>
            <a:off x="571680" y="571680"/>
            <a:ext cx="2786040" cy="144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Прямая соединительная линия 9"/>
          <p:cNvSpPr/>
          <p:nvPr/>
        </p:nvSpPr>
        <p:spPr>
          <a:xfrm flipH="1">
            <a:off x="3355560" y="571680"/>
            <a:ext cx="1800" cy="242856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Прямая соединительная линия 11"/>
          <p:cNvSpPr/>
          <p:nvPr/>
        </p:nvSpPr>
        <p:spPr>
          <a:xfrm>
            <a:off x="571680" y="3000240"/>
            <a:ext cx="2786040" cy="18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8" name="Picture 5" descr="барбаросса"/>
          <p:cNvPicPr/>
          <p:nvPr/>
        </p:nvPicPr>
        <p:blipFill>
          <a:blip r:embed="rId1"/>
          <a:stretch/>
        </p:blipFill>
        <p:spPr>
          <a:xfrm>
            <a:off x="714240" y="3214800"/>
            <a:ext cx="2214720" cy="3409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49" name="TextBox 14"/>
          <p:cNvSpPr/>
          <p:nvPr/>
        </p:nvSpPr>
        <p:spPr>
          <a:xfrm>
            <a:off x="3286080" y="4500720"/>
            <a:ext cx="521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8086"/>
                </a:solidFill>
                <a:latin typeface="Georgia"/>
              </a:rPr>
              <a:t>Самый могущественный из римских пап Иннокентий </a:t>
            </a:r>
            <a:r>
              <a:rPr b="1" lang="en-US" sz="1800" spc="-1" strike="noStrike">
                <a:solidFill>
                  <a:srgbClr val="438086"/>
                </a:solidFill>
                <a:latin typeface="Georgia"/>
              </a:rPr>
              <a:t>III</a:t>
            </a:r>
            <a:r>
              <a:rPr b="1" lang="ru-RU" sz="1800" spc="-1" strike="noStrike">
                <a:solidFill>
                  <a:srgbClr val="438086"/>
                </a:solidFill>
                <a:latin typeface="Georgia"/>
              </a:rPr>
              <a:t> (1198-1216гг) заявлял, что папа – наместник Иисуса Христа на земле, а потому он выше всех властей, церковных и светских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0" name="Picture 6" descr="иннокентий 3"/>
          <p:cNvPicPr/>
          <p:nvPr/>
        </p:nvPicPr>
        <p:blipFill>
          <a:blip r:embed="rId2"/>
          <a:stretch/>
        </p:blipFill>
        <p:spPr>
          <a:xfrm>
            <a:off x="4572000" y="1000080"/>
            <a:ext cx="2944800" cy="3384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1:04:53Z</dcterms:created>
  <dc:creator>Екатерина</dc:creator>
  <dc:description/>
  <dc:language>en-US</dc:language>
  <cp:lastModifiedBy>User</cp:lastModifiedBy>
  <dcterms:modified xsi:type="dcterms:W3CDTF">2013-07-10T09:15:01Z</dcterms:modified>
  <cp:revision>12</cp:revision>
  <dc:subject/>
  <dc:title>Тема урока: «Католическая церковная организация»</dc:title>
</cp:coreProperties>
</file>