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EEF-C30C-43C8-8D72-3A59E115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C12-5373-467B-9649-D6F902BD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312-2ACF-451E-A683-36E34BBD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F37-F167-4CD9-B4AE-A0C7042E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3090-F510-42D4-9658-D5755A11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1A98-CA5D-4720-9984-94B9A79C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C7A5-1B69-477B-A375-FB399D08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C7A6-0942-4EC4-A0ED-293013B9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7A52-DEE7-4B88-A1D0-AA4FE844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15BB-947D-4208-900B-B10EF77E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CDF5-1979-4D27-A4B5-A4EA6924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747-34A5-4B1F-B384-9A328708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EDCD-3B24-436D-A640-F94F8786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145D-2448-4B0A-AD59-51C1609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7CAA-1176-4573-88C5-CE7DCAF6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51CE-7689-4D77-B508-90D935A6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CFED-692B-4ED5-9A58-97F875C6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0BEB-FE87-4FFE-A182-B9C53BF8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AC23-D98C-42C3-AC30-D2A4093C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B3AF-28EE-4EC4-80A9-8ACD516A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968E-8D25-4692-81C6-1E499ED3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7A47-4426-4F0A-B87F-1EB26CD2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F5B-7A7B-44D5-9B20-4A81121D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9ECD-B74E-432E-82C7-74959F21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8C2A-F5D0-4ED0-A174-79DB586E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EE78-8078-4483-873B-78ED0179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A201-E82F-4324-92EF-77CB2C1D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D7AF2-B5D5-45E0-9D11-6AA2C772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2A4E-2CEF-434A-B26E-45AEA6C0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1DD5-7F8A-49C9-B567-57B4F75B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9B13-1153-48EA-8F48-8A04E25B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3FFD-D8C0-4BC9-B5DC-D8FEC1EC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482F0-609E-4DE2-939A-292490F5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048-8EBE-430A-8B57-E4F5B4B2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F7F26-A90A-4800-891D-8A640EC2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BA5E5-DD9B-48A5-9E68-0C99C1EA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99B3-D184-4C18-86CA-056E6E66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72DE-06DF-4676-83F7-0FA7C4BE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8B7F4-0510-4641-A887-15A303D9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22311-0300-49CE-A363-86B53614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35E9-7617-4E5C-8BCB-9C7DEB57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CBB9-5D02-468E-B846-6B4697C4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DAFC-AE59-4579-A7B3-3F1D0C06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F90-94F9-46DA-AF6B-45D88945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E35-2B17-4490-9EA4-4CDAFD33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C43-0875-41D5-98E2-74AD3FED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50E-EC56-44A6-B5C9-6D0E9DA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2E9-4D47-48EA-AC59-9F3C1F9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46C5-0CC4-4AD4-9EF0-5F49B27FB6D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40C9-594D-47FA-9D24-6B56D2C69F6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A488-C94F-46A1-B240-7189FCC06D7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DF99-EF5F-49D5-94EE-EE4BC7BF161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73120" y="158760"/>
            <a:ext cx="7851600" cy="2176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57920" y="5105520"/>
            <a:ext cx="306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читель: Шумилова Е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15.jpg"/>
          <p:cNvPicPr/>
          <p:nvPr/>
        </p:nvPicPr>
        <p:blipFill>
          <a:blip r:embed="rId2"/>
          <a:stretch/>
        </p:blipFill>
        <p:spPr>
          <a:xfrm>
            <a:off x="285840" y="2786040"/>
            <a:ext cx="5000400" cy="35719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4572000" y="6357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1 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4617b"/>
                </a:solidFill>
                <a:uFillTx/>
                <a:latin typeface="Calibri"/>
              </a:rPr>
              <a:t>XIX</a:t>
            </a:r>
            <a:r>
              <a:rPr b="0" lang="ru-RU" sz="2500" spc="-1" strike="noStrike" u="sng">
                <a:solidFill>
                  <a:srgbClr val="04617b"/>
                </a:solidFill>
                <a:uFillTx/>
                <a:latin typeface="Calibri"/>
              </a:rPr>
              <a:t> - ХХ века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76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2 католических епарх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0, 5 млн. прихожа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5 тыс. католических храмов и часов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До 1927 года Ватикан поддерживал правительство большевиков, содействуя его выходу из дипломатической изоля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Перед 2 мировой войной Ватикан ориентировался на германский блок, заключив договоры о дружбе с режимами Гитлера и Муссоли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К 1961 году католическая церковь насчитывала1179 общ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К началу 1990-х годов в России оставалось только 6 крупных прихо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Monotype Corsiva"/>
              </a:rPr>
              <a:t>Встреча М.С. Горбачева и папы  Иоанна Павла 2  в    1989 год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Содержимое 3" descr="ap_pope_russia_050224_ssh.jpg"/>
          <p:cNvPicPr/>
          <p:nvPr/>
        </p:nvPicPr>
        <p:blipFill>
          <a:blip r:embed="rId1"/>
          <a:stretch/>
        </p:blipFill>
        <p:spPr>
          <a:xfrm>
            <a:off x="142920" y="2071800"/>
            <a:ext cx="5143320" cy="39862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5429160" y="2786040"/>
            <a:ext cx="350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 этого церковь активизирует свою деятельность в России. С 1990 года в Москве находится постоянный дипломатический представитель Ватика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2876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Цель: проверить знания учащихся по теме «Католическая церковная организация»; изучить появление католицизма в России, отношения с РП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Вспомним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712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Когда и почему произошел раскол христианской церкв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. Что означает догмат о чистилищ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. В чем состоя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основные отлич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между католик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и православным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в выполнении и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трех следующи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таинств: крещени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причастия , бра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3" descr="4ad68c1f67f3.jpg"/>
          <p:cNvPicPr/>
          <p:nvPr/>
        </p:nvPicPr>
        <p:blipFill>
          <a:blip r:embed="rId1"/>
          <a:stretch/>
        </p:blipFill>
        <p:spPr>
          <a:xfrm>
            <a:off x="3429000" y="2571840"/>
            <a:ext cx="53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вые контакты Руси с католичеством относятся 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 веку, когда восточнославянские земли начинают развивать отношения с христианским мир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 эпохе Древней Руси относятся 1 постоянные поселения купцов католического исповедания в крупных город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3" descr="nl16.jpg"/>
          <p:cNvPicPr/>
          <p:nvPr/>
        </p:nvPicPr>
        <p:blipFill>
          <a:blip r:embed="rId1"/>
          <a:stretch/>
        </p:blipFill>
        <p:spPr>
          <a:xfrm>
            <a:off x="785880" y="3286080"/>
            <a:ext cx="4676760" cy="31431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928800" y="650088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овгород Вели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5643720" y="5072040"/>
            <a:ext cx="278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Новгороде действовали два римско - католических храм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4617b"/>
                </a:solidFill>
                <a:uFillTx/>
                <a:latin typeface="Monotype Corsiva"/>
              </a:rPr>
              <a:t>Х</a:t>
            </a:r>
            <a:r>
              <a:rPr b="1" lang="en-US" sz="3200" spc="-1" strike="noStrike" u="sng">
                <a:solidFill>
                  <a:srgbClr val="04617b"/>
                </a:solidFill>
                <a:uFillTx/>
                <a:latin typeface="Monotype Corsiva"/>
              </a:rPr>
              <a:t>III</a:t>
            </a:r>
            <a:r>
              <a:rPr b="1" lang="ru-RU" sz="3200" spc="-1" strike="noStrike" u="sng">
                <a:solidFill>
                  <a:srgbClr val="04617b"/>
                </a:solidFill>
                <a:uFillTx/>
                <a:latin typeface="Monotype Corsiva"/>
              </a:rPr>
              <a:t> – Х</a:t>
            </a:r>
            <a:r>
              <a:rPr b="1" lang="en-US" sz="3200" spc="-1" strike="noStrike" u="sng">
                <a:solidFill>
                  <a:srgbClr val="04617b"/>
                </a:solidFill>
                <a:uFillTx/>
                <a:latin typeface="Monotype Corsiva"/>
              </a:rPr>
              <a:t>VI</a:t>
            </a:r>
            <a:r>
              <a:rPr b="1" lang="ru-RU" sz="3200" spc="-1" strike="noStrike" u="sng">
                <a:solidFill>
                  <a:srgbClr val="04617b"/>
                </a:solidFill>
                <a:uFillTx/>
                <a:latin typeface="Monotype Corsiva"/>
              </a:rPr>
              <a:t> вв.- время отчуждения между Русью и католицизмом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1204 году латинские крестоносцы разорили Константинополь и осквернили христианские святы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1237 году Папа Римский благословил крестовый поход против русски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Рисунок 3" descr="charge des templiers.jpg"/>
          <p:cNvPicPr/>
          <p:nvPr/>
        </p:nvPicPr>
        <p:blipFill>
          <a:blip r:embed="rId1"/>
          <a:stretch/>
        </p:blipFill>
        <p:spPr>
          <a:xfrm>
            <a:off x="4000680" y="3143160"/>
            <a:ext cx="4952880" cy="35481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571680" y="428616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аком году состоялись Невская битва и Ледовое побоище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2876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пытки подчинить православие Риму продолжались и в последующие годы. После заключения в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439г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Флорентийской унии ставленник  Ватикана московский митрополит Исидор был низложен в Москве за вероотступничество и бежал в Европ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5" descr="исидор.jpg"/>
          <p:cNvPicPr/>
          <p:nvPr/>
        </p:nvPicPr>
        <p:blipFill>
          <a:blip r:embed="rId1"/>
          <a:stretch/>
        </p:blipFill>
        <p:spPr>
          <a:xfrm>
            <a:off x="5500800" y="2928960"/>
            <a:ext cx="3348000" cy="3357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6000840" y="64292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ид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642960" y="3357720"/>
            <a:ext cx="464328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то вы знаете о концепции « Москва- Третий Рим»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цепция « Москва – Третий Рим» все более утверждала  особую роль Москвы как главного оплота и защитника православ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4617b"/>
                </a:solidFill>
                <a:uFillTx/>
                <a:latin typeface="Monotype Corsiva"/>
              </a:rPr>
              <a:t>Смутное время 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876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В начале 17 века  Россия переживает прямую военную интервенцию католиков- поля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лж1.jpg"/>
          <p:cNvPicPr/>
          <p:nvPr/>
        </p:nvPicPr>
        <p:blipFill>
          <a:blip r:embed="rId1"/>
          <a:stretch/>
        </p:blipFill>
        <p:spPr>
          <a:xfrm>
            <a:off x="357120" y="2214720"/>
            <a:ext cx="3375000" cy="37861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3786120" y="2286000"/>
            <a:ext cx="4429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 вы знаете о Лжедмитрии 1 ? Что происходило в России 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сле  смуты  католическое богослужение  на территории страны было запреще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785880" y="60721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жедмитрий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4617b"/>
                </a:solidFill>
                <a:uFillTx/>
                <a:latin typeface="Monotype Corsiva"/>
              </a:rPr>
              <a:t>Время Петра 1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61817029_1279784455_Peter_derGrosse_1838.jpg"/>
          <p:cNvPicPr/>
          <p:nvPr/>
        </p:nvPicPr>
        <p:blipFill>
          <a:blip r:embed="rId1"/>
          <a:stretch/>
        </p:blipFill>
        <p:spPr>
          <a:xfrm>
            <a:off x="357120" y="1214280"/>
            <a:ext cx="2357640" cy="3083040"/>
          </a:xfrm>
          <a:prstGeom prst="rect">
            <a:avLst/>
          </a:prstGeom>
          <a:ln w="0">
            <a:noFill/>
          </a:ln>
        </p:spPr>
      </p:pic>
      <p:sp>
        <p:nvSpPr>
          <p:cNvPr id="222" name="Стрелка вправо 8"/>
          <p:cNvSpPr/>
          <p:nvPr/>
        </p:nvSpPr>
        <p:spPr>
          <a:xfrm>
            <a:off x="2857680" y="1357200"/>
            <a:ext cx="285480" cy="71640"/>
          </a:xfrm>
          <a:prstGeom prst="right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286080" y="1285920"/>
            <a:ext cx="5643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тр 1 утвердил принцип  отношений с католической церковью: веротерпимость со стороны государства в обмен на полную политическую  лояльность  со стороны государ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691 г.- 40 католи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725 г.- 2000 католи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706 г.- построен каменный католический хр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Активная пропаганда  католицизма иезуитами вынудила Петра 1 изгнать их из Росс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428760" y="4500720"/>
            <a:ext cx="22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оды правления Петра 1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154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4617b"/>
                </a:solidFill>
                <a:uFillTx/>
                <a:latin typeface="Calibri"/>
              </a:rPr>
              <a:t>XVIII</a:t>
            </a:r>
            <a:r>
              <a:rPr b="0" lang="ru-RU" sz="2800" spc="-1" strike="noStrike" u="sng">
                <a:solidFill>
                  <a:srgbClr val="04617b"/>
                </a:solidFill>
                <a:uFillTx/>
                <a:latin typeface="Calibri"/>
              </a:rPr>
              <a:t>-</a:t>
            </a:r>
            <a:r>
              <a:rPr b="0" lang="en-US" sz="2800" spc="-1" strike="noStrike" u="sng">
                <a:solidFill>
                  <a:srgbClr val="04617b"/>
                </a:solidFill>
                <a:uFillTx/>
                <a:latin typeface="Calibri"/>
              </a:rPr>
              <a:t>XIX</a:t>
            </a:r>
            <a:r>
              <a:rPr b="0" lang="ru-RU" sz="2800" spc="-1" strike="noStrike" u="sng">
                <a:solidFill>
                  <a:srgbClr val="04617b"/>
                </a:solidFill>
                <a:uFillTx/>
                <a:latin typeface="Calibri"/>
              </a:rPr>
              <a:t> век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сновной прирост католического населения происходил за сч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емецких колонист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результате раздела Польш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толицизм находит распространение в высшем петербургском и московском обществе, где некоторые аристократы принимают ег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Рисунок 3" descr="гагарин.jpg"/>
          <p:cNvPicPr/>
          <p:nvPr/>
        </p:nvPicPr>
        <p:blipFill>
          <a:blip r:embed="rId1"/>
          <a:stretch/>
        </p:blipFill>
        <p:spPr>
          <a:xfrm>
            <a:off x="214200" y="3429000"/>
            <a:ext cx="2638440" cy="30942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голицыеа.jpg"/>
          <p:cNvPicPr/>
          <p:nvPr/>
        </p:nvPicPr>
        <p:blipFill>
          <a:blip r:embed="rId2"/>
          <a:stretch/>
        </p:blipFill>
        <p:spPr>
          <a:xfrm>
            <a:off x="3000240" y="3429000"/>
            <a:ext cx="2868840" cy="3143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5" descr="ростопчина.jpg"/>
          <p:cNvPicPr/>
          <p:nvPr/>
        </p:nvPicPr>
        <p:blipFill>
          <a:blip r:embed="rId3"/>
          <a:stretch/>
        </p:blipFill>
        <p:spPr>
          <a:xfrm>
            <a:off x="6000840" y="3429000"/>
            <a:ext cx="2593800" cy="31431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285840" y="6572160"/>
            <a:ext cx="24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Князь Гагарин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3143160" y="65721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нягиня Голицын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6072120" y="655020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рафиня Ростопчин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3:26:07Z</dcterms:created>
  <dc:creator>Екатерина</dc:creator>
  <dc:description/>
  <dc:language>en-US</dc:language>
  <cp:lastModifiedBy>User</cp:lastModifiedBy>
  <dcterms:modified xsi:type="dcterms:W3CDTF">2013-07-10T09:16:23Z</dcterms:modified>
  <cp:revision>62</cp:revision>
  <dc:subject/>
  <dc:title>Тема  «Католицизм в России»</dc:title>
</cp:coreProperties>
</file>