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2BE-F051-4450-B7C6-6124300B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35D-3625-4DFE-B7A1-C4B62C1E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B09-7273-4123-8799-DE49B091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2A3-6115-4767-9105-362C541B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E5A6-0B7F-4E8E-9D69-FCC8DA0F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5F12-CFE9-4CD3-B01C-8FC2549F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EE90-CE10-4952-8A01-463D8F58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D92B-2C64-4390-AA22-2D8404D5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3DC7-06FA-4605-9720-C16743C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C84A-06E6-4D54-8E70-934B132F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ADD2-EAC1-4F87-9AF2-DBA195F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033-E329-42DA-AF22-A68238F9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9690-A36D-41E5-A33F-FB0B96C2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DBD2-B7F4-4253-9DA4-B44424C5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06CF-3F8F-4FA5-8239-4C3EBAB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05E4-89BD-4DF4-9E77-AE8E9F18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52E1-1260-49E2-9959-7BD72AB6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D9D-8B7C-4E91-9D1D-0E296533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724-4D9F-4F3A-A79D-71CE0129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4CE-4025-46D8-94F0-B3C4646E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8F3-BDD8-4192-8EA9-AB1BAB55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9D1-6E7E-4EDF-AD13-06869533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D11-198E-48A8-96AE-964858BC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18B-461B-4F77-A53E-7F3CB92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75C9-DDB1-41FE-8665-3C22D58CA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0E2E-36B8-475F-A161-050EC75F8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log.kavkazweb.net/-&#1056;&#1077;&#1092;&#1086;&#1088;&#1084;&#1072;&#1094;&#1080;&#1103;" TargetMode="External"/><Relationship Id="rId2" Type="http://schemas.openxmlformats.org/officeDocument/2006/relationships/hyperlink" Target="http://blog.kavkazweb.net/-&#1056;&#1077;&#1092;&#1086;&#1088;&#1084;&#1072;&#1094;&#1080;&#1103;" TargetMode="External"/><Relationship Id="rId3" Type="http://schemas.openxmlformats.org/officeDocument/2006/relationships/hyperlink" Target="http://blog.kavkazweb.net/-&#1056;&#1077;&#1092;&#1086;&#1088;&#1084;&#1072;&#1094;&#1080;&#1103;" TargetMode="External"/><Relationship Id="rId4" Type="http://schemas.openxmlformats.org/officeDocument/2006/relationships/hyperlink" Target="http://blog.kavkazweb.net/-&#1056;&#1077;&#1092;&#1086;&#1088;&#1084;&#1072;&#1094;&#1080;&#1103;" TargetMode="External"/><Relationship Id="rId5" Type="http://schemas.openxmlformats.org/officeDocument/2006/relationships/hyperlink" Target="http://nauka.bible.com.ua/" TargetMode="External"/><Relationship Id="rId6" Type="http://schemas.openxmlformats.org/officeDocument/2006/relationships/hyperlink" Target="http://nauka.bible.com.ua/" TargetMode="External"/><Relationship Id="rId7" Type="http://schemas.openxmlformats.org/officeDocument/2006/relationships/hyperlink" Target="http://nauka.bible.com.ua/" TargetMode="External"/><Relationship Id="rId8" Type="http://schemas.openxmlformats.org/officeDocument/2006/relationships/hyperlink" Target="http://nauka.bible.com.ua/" TargetMode="External"/><Relationship Id="rId9" Type="http://schemas.openxmlformats.org/officeDocument/2006/relationships/hyperlink" Target="http://historyrockscom.wordpress.com/" TargetMode="External"/><Relationship Id="rId10" Type="http://schemas.openxmlformats.org/officeDocument/2006/relationships/hyperlink" Target="http://historyrockscom.wordpress.com/" TargetMode="External"/><Relationship Id="rId11" Type="http://schemas.openxmlformats.org/officeDocument/2006/relationships/hyperlink" Target="http://historyrockscom.wordpress.com/" TargetMode="External"/><Relationship Id="rId12" Type="http://schemas.openxmlformats.org/officeDocument/2006/relationships/hyperlink" Target="http://historyrockscom.wordpress.com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озникновение протестантизма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Особенности вероучения и культ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72360" y="4724280"/>
            <a:ext cx="23032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5950080"/>
            <a:ext cx="172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Г. Бор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900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вывод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 из течений христи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естантизм возник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 – XV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., выделившись из католицизма вследствие Ре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ие условия возникновения -Реформация, идеи гуманизма, кризис католической церкви, деятельность М. Лю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начально возник на территории Германии, затем распространился в других европейских государствах(Швейцарии, Франции, Англ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Швейцарии и Англии распространялся мирным путем, а в Германии и во Франции через кровопролитие, гибель люд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оставьте синквейн со словом протестантиз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4000" y="2421000"/>
          <a:ext cx="8521560" cy="4416480"/>
        </p:xfrm>
        <a:graphic>
          <a:graphicData uri="http://schemas.openxmlformats.org/drawingml/2006/table">
            <a:tbl>
              <a:tblPr/>
              <a:tblGrid>
                <a:gridCol w="85215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слово – существитель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отражает главную идею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слова – прилагательны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описывают основную мысл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слова – глаго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описывают действия в рамках темы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ажение, предложение – выражают су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 или несколько сл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автор выражает эмоциональное, образное отношени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340000" y="1844640"/>
            <a:ext cx="47530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ема синквей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мер синквейна - протестантиз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8007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тестант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ый, нрав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ывает, направляет, разъеди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ращает к первоначальному христианств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волюция в Европ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спользованные источник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Религии России. Пособие для учителя.(Н.Новгород,НГЦ,2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blog.kavkazweb.net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/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nauka.bible.com.ua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historyrockscom.wordpress.com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www.foru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art.thelib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istfak-nnov.narod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blogs.myspace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www.stihi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785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спомним из истории христиан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и место возникновения христиан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ясните происхождение названия этой рели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гда и как произошел раскол в христианстве, на какие те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кройте значение слов: «католицизм», «православи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3500280"/>
            <a:ext cx="1800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тол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3500280"/>
            <a:ext cx="1800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сла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500280"/>
            <a:ext cx="17287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тестант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3500280"/>
            <a:ext cx="1295280" cy="702000"/>
          </a:xfrm>
          <a:prstGeom prst="leftRightArrow">
            <a:avLst>
              <a:gd name="adj1" fmla="val 50000"/>
              <a:gd name="adj2" fmla="val 367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57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5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раско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306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рас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I – XV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547640" y="1557360"/>
            <a:ext cx="1224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628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1628640"/>
            <a:ext cx="158436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3851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течения христианства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вопро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емя, место, исторические условия возникновения протестант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енности вероучения и куль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00720" y="2011320"/>
            <a:ext cx="4319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еформация, идеи гуманизма, кризис католической церкв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5147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Реформ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движение за переустройство католической цер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деи гуманиз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ценность человека как личности, его право на свободу, в том числе и от рели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ризис католической церкв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мир менялся, а католическая  церковь оставалась прежней; разрыв между словом и делами церкви, поведением священнослуж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1168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артин Лютер- основоположник протестантизм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2068560" cy="3024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4581360"/>
            <a:ext cx="800712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ессор богосл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ермания, г. Виттенбе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95 тезисов» - критика продажи индульген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тестанты – последователи М. Лютера, сторонники реформации католической церкви, которые отрицали духовный авторитет римского папы и догматы католич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0878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Германия –родина протестантизм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. Мюнц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ская война между католиками и протестантами 1529-1555 г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Аугсбургское исповедание верой»:сформулированы основные догматы протестантизма; устанавливалось равноправие между католиками и протестантами на территории Герма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1944720" cy="2522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0370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отестантизм распространяется в Европ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61200" cy="3870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5444640"/>
            <a:ext cx="856908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вейцария -Ж.Кальвин, У. Цвинг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ранция –гугеноты, «Варфоломеевская ночь» 24 августа 157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глия – Генри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VI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нгликанст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обенности вероучения и куль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Исключительный авторит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Библ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признается только Священное писание, остальные тексты не являются истинны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Догмат «оправдания верой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человека может спасти только личная вера в Бог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Священство всех верующи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между Богом и людьми не может быть посредников, любой верующий сам себе священник, каждый по своему может трактовать Библ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в мире меняется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кром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Библ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Признают только 2 таинств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крещение и причас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сутствуют культы Богородицы и свят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гослужение упрощ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т церковной иерарх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тивное внедрение церк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мирскую жиз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08720" y="4511520"/>
            <a:ext cx="29098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8:01:49Z</dcterms:created>
  <dc:creator>папа</dc:creator>
  <dc:description/>
  <dc:language>en-US</dc:language>
  <cp:lastModifiedBy>папа</cp:lastModifiedBy>
  <dcterms:modified xsi:type="dcterms:W3CDTF">2011-03-08T15:59:57Z</dcterms:modified>
  <cp:revision>23</cp:revision>
  <dc:subject/>
  <dc:title>Возникновение протестантизма.  Особенности вероучения и культа</dc:title>
</cp:coreProperties>
</file>