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9B5-B4F4-4950-B8FA-D9F6AB99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473-4228-4FDC-86E5-8A3AE624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C52-29B1-4B28-9F8B-78F9D761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4F8-4BEE-4A0C-B694-C6317A98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25D6-9215-497F-BDAF-4F8F175F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39E6-67BF-4F58-858A-C8C435C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F3B0-9411-4819-81EB-3D9ABFC5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3776-3146-4BE3-96E2-8E2D4E89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D765-A3CB-48EA-9B58-976FF6ED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955E-7C3E-4CE3-8305-A514102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9FDD-AED3-4825-8F2D-BB8B2554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7FB-04BD-4156-A2C9-465D0699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ADBA-8FA9-49E7-8958-748464DA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411-BAE6-4FA1-90EC-1318F14B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DC69-7018-4DD9-910A-0803B220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7E3C-D583-4156-88A9-447C34FF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AB28-4FFB-42ED-A47A-92A44E1E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393-1C23-4991-97FD-6B533CEB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1FE-4DDA-4765-A68E-83F2DDAD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A5E-3A03-4648-B2DA-F74CA955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E7F-A8BB-4577-B72A-B9FF836D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4A7-D694-40C8-8DB2-186DEE6A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A1D-A794-4D33-A9DD-9F5A8621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D99-3B8A-4EB4-BB97-56E1EFD2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89CD-C928-45C2-BE89-63289101F4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BEEE-BB1A-420E-B5B6-04C2B5BD295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Урок обобщения. Протестантизм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89000"/>
            <a:ext cx="77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6308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Г. Бор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5229360"/>
            <a:ext cx="230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Максимович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тапы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онкурс- «Разми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конкурс – «Вопрос в ме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конкурс – «Кроссвор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конкурс – «Замороч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авила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удь активен, внимател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важай мнение собеседни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лагай мысли кратко и понят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твечай точно на поставленный вопр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560" y="2606760"/>
            <a:ext cx="33940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Разми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017440"/>
            <a:ext cx="4032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течении 2 минут запишите культовые особенности протестантизма (общее задание для всех команд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ую особенность - 1 балл. Победит команда, записавшая большее количество верных ответов за 2 мину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68680" y="2262240"/>
            <a:ext cx="3775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Вопрос в ме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ждой команде будет предложено ответить на 2 вопроса по жребию. На его обсуждение предоставляется одна минута. В случае если команда не справиться с вопросом. У других команд будет возможность заработать дополнительные балл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541332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Кроссвор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течении 5 минут вам необходимо разгадать кроссворд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ое верно отгаданное слово -1 бал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9132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Замороч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отнесит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гмат протестантизма и его су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протестантского течения и его особен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ое верное соответствие -1 балл. На выполнение задания - 3 минут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24360" y="1866960"/>
            <a:ext cx="3219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аблица ито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2017800"/>
          <a:ext cx="8270640" cy="4114800"/>
        </p:xfrm>
        <a:graphic>
          <a:graphicData uri="http://schemas.openxmlformats.org/drawingml/2006/table">
            <a:tbl>
              <a:tblPr/>
              <a:tblGrid>
                <a:gridCol w="1584000"/>
                <a:gridCol w="1656000"/>
                <a:gridCol w="1439640"/>
                <a:gridCol w="1729080"/>
                <a:gridCol w="1861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ком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Размин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опрос в меш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россвор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Замороч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06:23Z</dcterms:created>
  <dc:creator>папа</dc:creator>
  <dc:description/>
  <dc:language>en-US</dc:language>
  <cp:lastModifiedBy>папа</cp:lastModifiedBy>
  <dcterms:modified xsi:type="dcterms:W3CDTF">2011-03-16T12:37:48Z</dcterms:modified>
  <cp:revision>6</cp:revision>
  <dc:subject/>
  <dc:title>Урок обобщения. Протестантизм</dc:title>
</cp:coreProperties>
</file>