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A24-9253-4A97-8765-3D7CC264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081-6152-40DF-90D1-ED6AB192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B9B-B325-4F9B-91D1-E0EE5CCA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08F-5365-49D9-8D70-538CBBEF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733-5404-4240-A97A-7BA783E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F4F-B32F-4460-B64A-1C43992E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51A-70E1-4083-A17D-BCC5ECB9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769-9A02-4B86-81CE-E5CB754F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4D3-A4F5-4638-94B1-56CF3FEF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638-6344-4675-810C-B6AEDDCC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D3E-A29B-4A4A-976C-1AE0DAA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E2E-2C21-4EE5-8655-800DF12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2084-3A36-4B31-B010-AD7A800D03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naturewall.ru/_ph/483/802527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3643200"/>
            <a:ext cx="8344080" cy="1500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43680"/>
            <a:ext cx="2571840" cy="1714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Выполни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Учитель МОУ ООШ №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Саблукова Е.В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авославные церкви уделяют большое внимание не только доказательствам непогрешимости своего вероучения, но и пропаганде его среди верующих. От них требуется знание наизусть символа веры, его хорового исполнения во время литургии. Однако главным средством усвоения верующим всех основных моментов вероучения в православии является культ и вся связанная с ним система богослужения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тличительной особенностью православия является то, что оно со времен семи первых Вселенских соборов не добавило ни одного догмата к своему вероучению, в отличие от католицизма, и не отказалось ни от одного их них, как это имело место в протестантизме. Именно это православная церковь считает   главной из своих заслуг, свидетельствующих о верности  первоначальному христианству. Православие придает догматическое значение не только одному из важнейших таинств  (крещению, но и всем другим – причащению, покаянию, священству, миропомазанию, браку, елеосвящению) и связанными с ними обрядам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Православие как разновидность христиан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7360" y="1499760"/>
            <a:ext cx="578628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авославие (от греч. правоверие) -- одно из трех главных, наряду с католицизмом и протестантизмом, христианских вероисповеданий распространенное преимущественно в странах Восточной Европы Ближнего Востока и на Балканах. Сложилось православие как восточная ветвь христианства после разделения Римской империи (395г.) и оформилось после разделения церквей (1054г.). среди рав</a:t>
            </a: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ны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1"/>
          <a:stretch/>
        </p:blipFill>
        <p:spPr>
          <a:xfrm>
            <a:off x="428760" y="157176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2"/>
          <a:stretch/>
        </p:blipFill>
        <p:spPr>
          <a:xfrm>
            <a:off x="785880" y="2071800"/>
            <a:ext cx="29368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29040" y="1285560"/>
            <a:ext cx="475776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ристиане опираются в своем учении на Священное Писание – Библию, которая содержит в себе множество  книг, написанных в разное время. Вторая часть Библии – </a:t>
            </a: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Новый Завет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- создана после того, как родился Иисус Христос, и является главной частью  христианского Священного Писания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img-fotki.yandex.ru/get/5606/poetree.1/0_5c428_14a39312_XL"/>
          <p:cNvPicPr/>
          <p:nvPr/>
        </p:nvPicPr>
        <p:blipFill>
          <a:blip r:embed="rId1"/>
          <a:stretch/>
        </p:blipFill>
        <p:spPr>
          <a:xfrm>
            <a:off x="285840" y="1214280"/>
            <a:ext cx="3000240" cy="421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tres.ru/static/bookimages/00/94/43/00944365.bin.dir/00944365.cover.jpg"/>
          <p:cNvPicPr/>
          <p:nvPr/>
        </p:nvPicPr>
        <p:blipFill>
          <a:blip r:embed="rId2"/>
          <a:stretch/>
        </p:blipFill>
        <p:spPr>
          <a:xfrm>
            <a:off x="1000080" y="2000160"/>
            <a:ext cx="2900520" cy="43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вященное Пре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000680"/>
            <a:ext cx="8858160" cy="26431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Постановления  соборов,  писания Святых отцов составляют значительную часть Священного Предания, помимо этого в его состав входит устав и порядок совершения церковных таинств и богослужений. Особо важным в Предании христиане считают опыт веры и молитвы, который может быть передан только через человеческое общение и личный пример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tobolsk-eparhia-press.ru/prosvetitel/v/2009.05/st02_1.jpg"/>
          <p:cNvPicPr/>
          <p:nvPr/>
        </p:nvPicPr>
        <p:blipFill>
          <a:blip r:embed="rId1"/>
          <a:stretch/>
        </p:blipFill>
        <p:spPr>
          <a:xfrm>
            <a:off x="1714680" y="1071720"/>
            <a:ext cx="5705280" cy="242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 и Священное Пред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ославная церковь в равной степени  признает как Священное Писание, так и Священное Предание. Все православные (а не только священники) могут свободно  читать и трактовать Библию, но при этом обязаны руководствоваться в своих суждениях истолкованиями  Писания, сделанными  Отцами Церкви, а не личным разум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Основа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71960" y="1214280"/>
            <a:ext cx="4929120" cy="5429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снову православного вероучения составляет Никео-Цареградский символ веры - изложение главных христианских догматов, безусловное признание которых является обязательным для каждого православного христианина. Он был утвержден Никейским (325 г.) и Константинопольским (381 г.) Вселенскими церковными соборами</a:t>
            </a: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img.narodna.pravda.com.ua/images/doc/0/a/0aaba-355105890vselenskiy0sobor0sur.jpg"/>
          <p:cNvPicPr/>
          <p:nvPr/>
        </p:nvPicPr>
        <p:blipFill>
          <a:blip r:embed="rId1"/>
          <a:stretch/>
        </p:blipFill>
        <p:spPr>
          <a:xfrm>
            <a:off x="357120" y="1357200"/>
            <a:ext cx="3753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14480" y="1143000"/>
            <a:ext cx="4971960" cy="5500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Весь Символ Веры состоит из двенадцати членов, и в каждом из них содержится особая истина, или, как еще называют, догмат нашей православной веры.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1-й член говорит о Боге Отце, 2-й по 7-й члены говорят о Боге Сыне, 8-й — о Боге Духе Святом, 9-й — о Церкви, 10-й — о крещении, 11-й и 12-й — о воскресении мертвых и о вечной жизн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img-fotki.yandex.ru/get/3514/simvolveri2007.9/0_73b63_1bd6ae09_L.jpg"/>
          <p:cNvPicPr/>
          <p:nvPr/>
        </p:nvPicPr>
        <p:blipFill>
          <a:blip r:embed="rId1"/>
          <a:stretch/>
        </p:blipFill>
        <p:spPr>
          <a:xfrm>
            <a:off x="357120" y="1357200"/>
            <a:ext cx="31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3680" y="213840"/>
            <a:ext cx="3543120" cy="6357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р братии Валаамского монастыр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Хор братии Валаамского монастыря - Символ Веры  (audiopoisk.com)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0/44/766/44766125_ScreenShot001.jpg"/>
          <p:cNvPicPr/>
          <p:nvPr/>
        </p:nvPicPr>
        <p:blipFill>
          <a:blip r:embed="rId2"/>
          <a:stretch/>
        </p:blipFill>
        <p:spPr>
          <a:xfrm>
            <a:off x="357120" y="214200"/>
            <a:ext cx="5000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85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Истинными считаются только те положения вероучения, которые утверждены первыми семью Вселенскими соборами. Что же касается католических догматов, установленных позже (о непогрешимости папы, о чистилище, о фелиокве, о непорочном зачатии девы Марии и ее телесном вознесении на небо), то они всеми православными церквами объявляются ошибочными, противоречащими „священному писанию" и „священному преданию". Заблуждением считается также отказ протестантских церквей от большинства таинств, от деления верующих на мирян и священнослужителей, от признания исключительной роли церкви в деле личного спасени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2:08Z</dcterms:modified>
  <cp:revision>44</cp:revision>
  <dc:subject/>
  <dc:title>Особенности православного вероучения</dc:title>
</cp:coreProperties>
</file>