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BBC-4ADB-483E-AEE4-8E41EBC5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EA7-F274-409E-ABC6-BB1513AE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F50-FDF8-4C00-A75C-F1CF3264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837-6EF0-42BA-B4FA-02E163B4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99D-8A51-45A2-9129-A81937BE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A99-7AF1-472F-B400-40CF647A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22A-9414-4BFF-8CAC-6A0C40AA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3B1-F899-433B-A6D7-FDA5677C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793-4108-49D2-A4E0-32106AB5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951-F279-4A7E-900A-A8668A42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2E6-EA3C-4C8C-9E95-5D68D07A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737-3235-4481-B032-FEDC83E7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7FB3-9F3E-4A8F-9E40-114B16568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74;-1.docx" TargetMode="External"/><Relationship Id="rId2" Type="http://schemas.openxmlformats.org/officeDocument/2006/relationships/hyperlink" Target="file:///&#1074;-4.docx" TargetMode="External"/><Relationship Id="rId3" Type="http://schemas.openxmlformats.org/officeDocument/2006/relationships/hyperlink" Target="file:///&#1074;-7.docx" TargetMode="External"/><Relationship Id="rId4" Type="http://schemas.openxmlformats.org/officeDocument/2006/relationships/hyperlink" Target="file:///&#1074;-10.docx" TargetMode="External"/><Relationship Id="rId5" Type="http://schemas.openxmlformats.org/officeDocument/2006/relationships/hyperlink" Target="file:///&#1074;-2.docx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amp;Kcy;&amp;ucy;&amp;pcy;&amp;ocy;&amp;lcy;&amp;acy;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4560" y="428760"/>
            <a:ext cx="4429080" cy="3171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Двунадесятые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57440" y="4500720"/>
            <a:ext cx="4500360" cy="2038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ыполни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Учитель МОУ ООШ №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г. 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аблукова Е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г. 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00040" y="428760"/>
          <a:ext cx="8215200" cy="607212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10T08:29:52Z</dcterms:modified>
  <cp:revision>10</cp:revision>
  <dc:subject/>
  <dc:title>Игра  двунадесятые праздники</dc:title>
</cp:coreProperties>
</file>