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66E-EE80-400E-B7DC-D3798C74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1F9-8A2A-4333-BAD1-A2C723CF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7808-9582-4A08-91ED-0777E896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4B5-E52F-4034-A2D0-2597F129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E083-D250-4A38-A0A1-B7FE260E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25D3-05B2-4D5B-AE01-06019A24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C03A-95CB-4F47-BF55-DCF248E2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9EAF-19EE-4C2C-8519-0A0B4A34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1E7D-1275-49A3-8AC1-D239A062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94DC-24A8-45B8-B650-E35216A0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1069-BE9A-4F32-8D11-8BB0E761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E1E-A12F-4434-AC36-DD4EA0B1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CCB8-C4CF-41FD-9541-CD2CFD61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354D-8DC0-4A1B-893A-8017B913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AED2-A169-46DF-8382-07E930C3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A7FE-6CEF-4B2E-9896-9AA0F13C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C481-185F-45F3-B51B-F70BC398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1E2-DCD3-4230-B45E-11726144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1BD-D889-468E-BE90-83C35975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99C6-5229-4F75-A64B-1551854B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735-5680-4C56-A652-CE219CBB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2D6-4F5B-45E2-99CB-DEE55D5B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9E0-AB36-4573-B745-D604678D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317-DC2B-405A-AE5E-381600DC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50A1-1D4E-4EC1-AA81-56573CB9CE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EAD7-F111-452E-A89D-120FA4EBE0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2960" y="3786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ТАПЫ ИСТОРИИ РУССКОЙ ПРАВОСЛАВНОЙ ЦЕРКВИ.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риод 988 – 1448 гг.                                                                                                               Автокефалия Русской православной церкви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448 – 1589 гг.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ловарная рабо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стяжател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ронники Нила Сорского, считавшего, что авторитет церкви должен подниматься только путем строгого исполнения правил и обрядов, строго образа жизни без излишества. Осуждение стяжения церковью богатств, владение землями.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осифлян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торонники игумена Волоцкого монастыря Иосифа, который настаивал на необходимости для церкви иметь большие материальные сред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143280" y="-360"/>
            <a:ext cx="928692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Учреждение патриаршеств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Содержимое 3" descr=""/>
          <p:cNvPicPr/>
          <p:nvPr/>
        </p:nvPicPr>
        <p:blipFill>
          <a:blip r:embed="rId1"/>
          <a:stretch/>
        </p:blipFill>
        <p:spPr>
          <a:xfrm>
            <a:off x="1714680" y="714240"/>
            <a:ext cx="5715000" cy="61437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Содержимое 3" descr=""/>
          <p:cNvPicPr/>
          <p:nvPr/>
        </p:nvPicPr>
        <p:blipFill>
          <a:blip r:embed="rId1"/>
          <a:stretch/>
        </p:blipFill>
        <p:spPr>
          <a:xfrm>
            <a:off x="0" y="642960"/>
            <a:ext cx="3357720" cy="31431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"/>
          <p:cNvPicPr/>
          <p:nvPr/>
        </p:nvPicPr>
        <p:blipFill>
          <a:blip r:embed="rId2"/>
          <a:stretch/>
        </p:blipFill>
        <p:spPr>
          <a:xfrm>
            <a:off x="0" y="3938760"/>
            <a:ext cx="2357280" cy="29192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5" descr=""/>
          <p:cNvPicPr/>
          <p:nvPr/>
        </p:nvPicPr>
        <p:blipFill>
          <a:blip r:embed="rId3"/>
          <a:stretch/>
        </p:blipFill>
        <p:spPr>
          <a:xfrm>
            <a:off x="2786040" y="4143240"/>
            <a:ext cx="2214720" cy="271476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6" descr=""/>
          <p:cNvPicPr/>
          <p:nvPr/>
        </p:nvPicPr>
        <p:blipFill>
          <a:blip r:embed="rId4"/>
          <a:stretch/>
        </p:blipFill>
        <p:spPr>
          <a:xfrm>
            <a:off x="3429000" y="642960"/>
            <a:ext cx="5500800" cy="31431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"/>
          <p:cNvPicPr/>
          <p:nvPr/>
        </p:nvPicPr>
        <p:blipFill>
          <a:blip r:embed="rId5"/>
          <a:stretch/>
        </p:blipFill>
        <p:spPr>
          <a:xfrm>
            <a:off x="5286240" y="3857760"/>
            <a:ext cx="2857680" cy="30002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учить записи в тетради;                                                                                                                     подготовить индивидуальные опережающие задании(Приложение №3) – сообщения о Гермогене, Дионисии,  Никоне, Аввакуме;                                                                                                                                    причины польско-шведской интервенции в начал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«Основные периоды русской церковной истории» .                                                                                                                                                                       2. «Крещение Руси» .                                                                                                                                                                                                    3. «РПЦ во времена монголо-татарского ига».                                                                                             4. «Становление автокефалии РПЦ».                                                                                                                  5. «Москва – Третий Рим».                                                                                                                                  6. Иосифляне и нестяжатели.                                                                                                                         7. Учреждение патриарш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ые периоды русской церковной истории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988-1448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– Русская православная церковь в юрисдикции Константинопольского патриар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448-1589г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– автокефалия Русской митропол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589г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начало 18 ве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патриарш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чало 18 века – 1917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– синодальный пери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917- 1988 гг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Русская православная церковь в условиях атеистического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1988 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– до наших д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Выбор веры.wmv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-142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ергий Радонежск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Содержимое 3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Становление автокефалии РПЦ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42560" y="142848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варная работа:                                      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втокефал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зависимость, самоуправление православных церкв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итрополи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авославной церкви глава крупнейшей епархии, подчиняется непосредственно патриарх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парх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церковно-административная территориальная единиц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триар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стоятель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сший священноначальник (архиерей) ст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43400" y="571320"/>
            <a:ext cx="2571480" cy="350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Задание:</a:t>
            </a:r>
            <a:br>
              <a:rPr sz="1600"/>
            </a:b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 «Заметки на полях». Прочитайте документ (Приложение №1) и выполните предложенное задание.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«+» -узнал новое.   </a:t>
            </a: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 «!» - думал иначе .       </a:t>
            </a: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«?» - требуется дополнительное разъяснение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«</a:t>
            </a: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» - не совсем согласен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стяжатели и иосифля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Содержимое 3" descr=""/>
          <p:cNvPicPr/>
          <p:nvPr/>
        </p:nvPicPr>
        <p:blipFill>
          <a:blip r:embed="rId1"/>
          <a:stretch/>
        </p:blipFill>
        <p:spPr>
          <a:xfrm>
            <a:off x="2286000" y="928800"/>
            <a:ext cx="4071960" cy="5715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3:00:05Z</dcterms:created>
  <dc:creator>Валерия</dc:creator>
  <dc:description/>
  <dc:language>en-US</dc:language>
  <cp:lastModifiedBy>Admin</cp:lastModifiedBy>
  <dcterms:modified xsi:type="dcterms:W3CDTF">2012-02-13T13:10:46Z</dcterms:modified>
  <cp:revision>9</cp:revision>
  <dc:subject/>
  <dc:title>«ЭТАПЫ ИСТОРИИ РУССКОЙ ПРАВОСЛАВНОЙ ЦЕРКВИ.  Период 988 – 1448 гг.                                                                                                               Автокефалия Русской православной церкви  1448 – 1589 гг.»</dc:title>
</cp:coreProperties>
</file>