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8DB1-4C3D-4133-BB81-62CBDC70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327B-BB06-4C16-A24F-850A80D1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A4AE-69A8-498B-8301-C9228986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20D-2470-4E2A-8003-488F41F0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3DE-124E-4E4D-B45D-8F7474A8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72DF-E5BC-4ED7-A050-6E8652EA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601-DDD0-41E1-8143-6844CB47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210E-2B08-4D6D-8B2F-BAD9BE58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CE49-9FCF-4371-BCB5-AA9912F6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87E1-B8BF-4933-8AC3-32F83FA3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9119-15D1-4E7A-BA81-423FAC0B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6612-F92E-482C-8C1C-36CDE856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3B3D-EBA8-4445-8CA4-D5E0C0832D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стема организации и управления РП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5445000"/>
            <a:ext cx="64008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итель истории Максимович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 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БОУ СОШ №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2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собенности православных церкв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 единого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15 автокефальных(самостоятельных) церквей+2 автоном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стантинопольский патриарх – «первый среди равных»(вселен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ы автономных церквей избираются поместными соборами с последующим утверждением их патриархами автокефальных церк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православные церкви не проводят Вселенских(общих) со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Иерархический принцип управл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последовательное подчинение низшего духовенства высш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ет единого управления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907920"/>
          <a:ext cx="7848720" cy="5553360"/>
        </p:xfrm>
        <a:graphic>
          <a:graphicData uri="http://schemas.openxmlformats.org/drawingml/2006/table">
            <a:tbl>
              <a:tblPr/>
              <a:tblGrid>
                <a:gridCol w="3960720"/>
                <a:gridCol w="3888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 автокефал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 автоном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антинополь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андрий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иохийская (Сирия, Ливан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ерусалим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зин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б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гар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пр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ладская (греческа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бан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мын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хословац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ерикан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рганизация автокефа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5167440"/>
        </p:xfrm>
        <a:graphic>
          <a:graphicData uri="http://schemas.openxmlformats.org/drawingml/2006/table">
            <a:tbl>
              <a:tblPr/>
              <a:tblGrid>
                <a:gridCol w="2243160"/>
                <a:gridCol w="3243240"/>
                <a:gridCol w="274320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щие принци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собенности РП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дминистративное устройство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зархаты, епархии(округа, приходы –православные общины), викариа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других православных церквях - благочиния, мисси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 экзархат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Украинский, Западной Европы, Средней Европы, Центральной и Южной Америки) + </a:t>
                      </a: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76 епархи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в России и за рубежом)+11 викариат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Автокефалия: Патриарх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рхиепископы, митрополиты) – избираются поместными соборами пожизнен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инод 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 управления припаттриарх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Экзархаты-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зарх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Епархия 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архиальные архиере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Патриарх, сино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6 постоянных членов, 3 – непостоянных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ходы управляются </a:t>
                      </a: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церковными советами –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ираются на общих собраниях верующ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Иерархия церковнослуж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11280" y="2060280"/>
            <a:ext cx="5991120" cy="3672000"/>
            <a:chOff x="611280" y="2060280"/>
            <a:chExt cx="5991120" cy="3672000"/>
          </a:xfrm>
        </p:grpSpPr>
        <p:sp>
          <p:nvSpPr>
            <p:cNvPr id="56" name="_s34824"/>
            <p:cNvSpPr/>
            <p:nvPr/>
          </p:nvSpPr>
          <p:spPr>
            <a:xfrm flipV="1">
              <a:off x="3952800" y="2059920"/>
              <a:ext cx="1058760" cy="917640"/>
            </a:xfrm>
            <a:custGeom>
              <a:avLst/>
              <a:gdLst>
                <a:gd name="textAreaLeft" fmla="*/ 379800 w 1058760"/>
                <a:gd name="textAreaRight" fmla="*/ 678960 w 1058760"/>
                <a:gd name="textAreaTop" fmla="*/ 329040 h 917640"/>
                <a:gd name="textAreaBottom" fmla="*/ 588600 h 91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4f3f4"/>
            </a:solidFill>
            <a:ln w="4680">
              <a:solidFill>
                <a:srgbClr val="4b595b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рхиере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34827"/>
            <p:cNvSpPr/>
            <p:nvPr/>
          </p:nvSpPr>
          <p:spPr>
            <a:xfrm flipV="1">
              <a:off x="3422520" y="2977560"/>
              <a:ext cx="2119320" cy="919080"/>
            </a:xfrm>
            <a:custGeom>
              <a:avLst/>
              <a:gdLst>
                <a:gd name="textAreaLeft" fmla="*/ 465840 w 2119320"/>
                <a:gd name="textAreaRight" fmla="*/ 1653480 w 2119320"/>
                <a:gd name="textAreaTop" fmla="*/ 201960 h 919080"/>
                <a:gd name="textAreaBottom" fmla="*/ 717120 h 91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d7edef"/>
            </a:solidFill>
            <a:ln w="4680">
              <a:solidFill>
                <a:srgbClr val="4b595b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вященн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священство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есвитеры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4825"/>
            <p:cNvSpPr/>
            <p:nvPr/>
          </p:nvSpPr>
          <p:spPr>
            <a:xfrm flipV="1">
              <a:off x="2892600" y="3896640"/>
              <a:ext cx="3179520" cy="917640"/>
            </a:xfrm>
            <a:custGeom>
              <a:avLst/>
              <a:gdLst>
                <a:gd name="textAreaLeft" fmla="*/ 551880 w 3179520"/>
                <a:gd name="textAreaRight" fmla="*/ 2627640 w 3179520"/>
                <a:gd name="textAreaTop" fmla="*/ 159120 h 917640"/>
                <a:gd name="textAreaBottom" fmla="*/ 758520 h 91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c9e6e9"/>
            </a:solidFill>
            <a:ln w="4680">
              <a:solidFill>
                <a:srgbClr val="4b595b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иакон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4826"/>
            <p:cNvSpPr/>
            <p:nvPr/>
          </p:nvSpPr>
          <p:spPr>
            <a:xfrm flipV="1">
              <a:off x="2362320" y="4814280"/>
              <a:ext cx="4240080" cy="917640"/>
            </a:xfrm>
            <a:custGeom>
              <a:avLst/>
              <a:gdLst>
                <a:gd name="textAreaLeft" fmla="*/ 637920 w 4240080"/>
                <a:gd name="textAreaRight" fmla="*/ 3602160 w 4240080"/>
                <a:gd name="textAreaTop" fmla="*/ 137880 h 917640"/>
                <a:gd name="textAreaBottom" fmla="*/ 779760 h 91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4b595b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подиаконы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саломщики, пономар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ubRRectCallout"/>
            <p:cNvSpPr/>
            <p:nvPr/>
          </p:nvSpPr>
          <p:spPr>
            <a:xfrm>
              <a:off x="611280" y="2133720"/>
              <a:ext cx="1828800" cy="1523880"/>
            </a:xfrm>
            <a:custGeom>
              <a:avLst/>
              <a:gdLst>
                <a:gd name="textAreaLeft" fmla="*/ 12240 w 1828800"/>
                <a:gd name="textAreaRight" fmla="*/ 1812960 w 1828800"/>
                <a:gd name="textAreaTop" fmla="*/ 10080 h 1523880"/>
                <a:gd name="textAreaBottom" fmla="*/ 12070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2" y="0"/>
                  </a:moveTo>
                  <a:arcTo wR="532" hR="532" stAng="16200000" swAng="-5400000"/>
                  <a:lnTo>
                    <a:pt x="0" y="16745"/>
                  </a:lnTo>
                  <a:arcTo wR="532" hR="532" stAng="10800000" swAng="-5400000"/>
                  <a:lnTo>
                    <a:pt x="2623" y="17277"/>
                  </a:lnTo>
                  <a:lnTo>
                    <a:pt x="8607" y="21600"/>
                  </a:lnTo>
                  <a:lnTo>
                    <a:pt x="6515" y="17277"/>
                  </a:lnTo>
                  <a:lnTo>
                    <a:pt x="21016" y="17277"/>
                  </a:lnTo>
                  <a:arcTo wR="584" hR="532" stAng="5400000" swAng="-5400000"/>
                  <a:lnTo>
                    <a:pt x="21600" y="532"/>
                  </a:lnTo>
                  <a:arcTo wR="584" hR="532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вященнослужи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484360" y="1989000"/>
            <a:ext cx="719280" cy="2808360"/>
          </a:xfrm>
          <a:custGeom>
            <a:avLst/>
            <a:gdLst>
              <a:gd name="textAreaLeft" fmla="*/ 459720 w 719280"/>
              <a:gd name="textAreaRight" fmla="*/ 719640 w 7192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1"/>
                  <a:pt x="10800" y="1802"/>
                </a:cubicBezTo>
                <a:lnTo>
                  <a:pt x="10800" y="8998"/>
                </a:lnTo>
                <a:cubicBezTo>
                  <a:pt x="10800" y="9899"/>
                  <a:pt x="5400" y="10800"/>
                  <a:pt x="0" y="10800"/>
                </a:cubicBezTo>
                <a:cubicBezTo>
                  <a:pt x="5400" y="10800"/>
                  <a:pt x="10800" y="11701"/>
                  <a:pt x="10800" y="12602"/>
                </a:cubicBezTo>
                <a:lnTo>
                  <a:pt x="10800" y="19798"/>
                </a:lnTo>
                <a:cubicBezTo>
                  <a:pt x="10800" y="2069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ubRRectCallout"/>
          <p:cNvSpPr/>
          <p:nvPr/>
        </p:nvSpPr>
        <p:spPr>
          <a:xfrm>
            <a:off x="611280" y="4508640"/>
            <a:ext cx="1828800" cy="1523880"/>
          </a:xfrm>
          <a:custGeom>
            <a:avLst/>
            <a:gdLst>
              <a:gd name="textAreaLeft" fmla="*/ 12240 w 1828800"/>
              <a:gd name="textAreaRight" fmla="*/ 1812960 w 1828800"/>
              <a:gd name="textAreaTop" fmla="*/ 10080 h 1523880"/>
              <a:gd name="textAreaBottom" fmla="*/ 1207080 h 15238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изшие служебные дол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Иерархия православного духове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1600200"/>
          <a:ext cx="8785440" cy="3808440"/>
        </p:xfrm>
        <a:graphic>
          <a:graphicData uri="http://schemas.openxmlformats.org/drawingml/2006/table">
            <a:tbl>
              <a:tblPr/>
              <a:tblGrid>
                <a:gridCol w="2198880"/>
                <a:gridCol w="1833480"/>
                <a:gridCol w="1994040"/>
                <a:gridCol w="275904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епени священ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вященнослужител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«Бело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женатое) духове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«Черное» (монашествующее) духове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яза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ере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триар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иско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еписко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тропол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вершают все таинства и церковные служб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посвящать(рукополагать) в священнослужители, освящать ми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ще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опресви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оиер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ерей(священни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мандр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у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еромон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вершают таинства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ме священства и освящения мира)</a:t>
                      </a:r>
                      <a:r>
                        <a:rPr b="0" lang="en-U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и церковные службы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благословления  архиерее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одиа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диа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еродиа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ат епископу или священнику при богослужении и совершении таинств, сами совершать их не мог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Священнослужите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через таинства священства получают благодать Святого Духа для священного служения Церкви (совершать богослужения, учить людей христианской вере и доброй жизни, управлять церковными делам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4221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4797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1964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35280" y="4508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изшие служебные долж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95280" y="1844640"/>
          <a:ext cx="8353440" cy="3960720"/>
        </p:xfrm>
        <a:graphic>
          <a:graphicData uri="http://schemas.openxmlformats.org/drawingml/2006/table">
            <a:tbl>
              <a:tblPr/>
              <a:tblGrid>
                <a:gridCol w="2671920"/>
                <a:gridCol w="5681520"/>
              </a:tblGrid>
              <a:tr h="16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подиак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вуют только в архиерейском богослужении(облачают архиерея в священные одежды, держат светильники, подают их архиерею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аломщики (дьяч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ть  и петь при богослужении , совершении духовных треб в домах прихож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ома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ывают верующих к богослужению колокольным звоном, возжигают свечи в храме, подают кадило, помогают псаломщикам в чтении и пе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6:54:24Z</dcterms:created>
  <dc:creator>папа</dc:creator>
  <dc:description/>
  <dc:language>en-US</dc:language>
  <cp:lastModifiedBy>user</cp:lastModifiedBy>
  <dcterms:modified xsi:type="dcterms:W3CDTF">2012-02-22T07:48:57Z</dcterms:modified>
  <cp:revision>21</cp:revision>
  <dc:subject/>
  <dc:title>Слайд 1</dc:title>
</cp:coreProperties>
</file>