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359-C654-4A19-806C-3CB420A9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CB08-4F0A-40C2-9415-F518EC2B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23B0-7029-44A5-9E76-A0B8C1B7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4345-D4EA-4DE4-A67F-47740D11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7FD-7EC2-4B85-99B2-684B853C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ED7-FEE4-4F50-8322-1B22CEE5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6D1-E977-4AE4-B772-E8F2B100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BA34-9F5B-4F0F-8164-C6F9956D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5271-530F-4339-B0DC-810CEC6A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8675-9625-49A8-AF19-14DCB799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F9A-EE36-4D88-83C2-ED6D8495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46C-8AE7-45FC-B827-E7421912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F98E-2418-4BAC-AC71-9A1A95394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Облачение священнослужителей РП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324480" y="5105160"/>
            <a:ext cx="243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аксимович Л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3352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униципальное бюджетное образовательное учреждение 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6105600"/>
            <a:ext cx="34290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Г. Бор 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блачение епископа и священ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658944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деяние диак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701028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деяние священ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8638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867280" y="1676520"/>
            <a:ext cx="22654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деяние еписк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4722840" cy="5291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670720" y="1371600"/>
            <a:ext cx="314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инадлежности богосл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277524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162920" y="1143000"/>
            <a:ext cx="1511280" cy="3124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28600" y="4191120"/>
            <a:ext cx="2352600" cy="2352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858000" y="4495680"/>
            <a:ext cx="2011320" cy="1957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990720" y="1676520"/>
            <a:ext cx="11541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22T20:03:4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