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3BF-FE81-461C-BB32-099711FE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987-C1A2-46AA-AC14-0570B986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4196-2F98-4701-BFA1-D5B4CEAB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24C-6149-4722-8B51-33470DA3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E02D-7452-485D-A538-1CF69BBA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FAF3-5268-4ADD-9733-F6B4FC36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4158-41DA-498C-B0B4-2FF2396B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F56B-D8FC-4736-B2FF-0FE44106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5955-486E-4B1A-8045-FE620E8A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522B-827A-4A34-813D-EE3D38A8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54D2-8A27-4B48-B1C0-D59035BA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02A-1B27-4742-BB78-108003FB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3756-CC23-4108-8F57-5A97FA7C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C575-4FF0-4365-9E50-C2AA0705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A29D-F464-43D7-B655-1560B3F1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D56E-5894-4C47-A479-BF16F84C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B7A7-D2D2-4653-B749-C0F09820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6CD-62B5-4E85-8A9C-483D7F1C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C986-F749-4375-A373-9070AB44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00E-7875-40CA-B1A1-01C5375B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2FD-A8AF-4F50-9DCF-E94F177F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4A6-546F-48D3-A25F-CF68FA2A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9A10-66B0-49EC-BF9E-22997EDD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0DCE-AEFF-4B53-9312-253632EC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F24F-B95F-46B1-89E0-07170010FF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F5F6-B62E-4D2E-8767-D01A30FBC8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Идейные истоки и вероучение ислам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2411280" y="602136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.Бор 2012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720" y="4292640"/>
            <a:ext cx="2952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ксимович Л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читель истории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ществозн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БОУ СОШ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44020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Структура ислам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87" name="_s3103"/>
            <p:cNvCxnSpPr>
              <a:stCxn id="88" idx="0"/>
              <a:endCxn id="89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" name="_s3101"/>
            <p:cNvCxnSpPr>
              <a:stCxn id="91" idx="0"/>
              <a:endCxn id="89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9" name="_s3097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</a:rPr>
                <a:t>ислам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3098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Иман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(вера - догматы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_s3100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Дин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религиозная практика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религиозные обряды, мораль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традиции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Основные догматы ислам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в Аллах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в анге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в пис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в пророков и послан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а Последний(Судный день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в предопредел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11640" y="2205000"/>
            <a:ext cx="46195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Основные догматы ислам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5280" y="1341360"/>
          <a:ext cx="8497800" cy="5176800"/>
        </p:xfrm>
        <a:graphic>
          <a:graphicData uri="http://schemas.openxmlformats.org/drawingml/2006/table">
            <a:tbl>
              <a:tblPr/>
              <a:tblGrid>
                <a:gridCol w="2016000"/>
                <a:gridCol w="648180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г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го сущ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в Аллах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г един-Аллах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ccff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здатель всего сущего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ccff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емогу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ccff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ладыка мира, управляет природой и обществ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е должны ему повиноваться, быть покорными, богобоязненным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в анге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нгелы-творения Аллаха, созданные из света, выполняют его поручения. Между ними существует разделени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моны – созданные Аллахом из огня существа, они искушают люде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лавный из них-Шайта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в пис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сульманин должен верить во все писания, посланные Всевышним пророкам (Псалтырь, Тору, евангелие, Коран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Основные догматы ислам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981080"/>
          <a:ext cx="8229600" cy="3943440"/>
        </p:xfrm>
        <a:graphic>
          <a:graphicData uri="http://schemas.openxmlformats.org/drawingml/2006/table">
            <a:tbl>
              <a:tblPr/>
              <a:tblGrid>
                <a:gridCol w="3672000"/>
                <a:gridCol w="4557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г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го сущ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в пророков и послан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роки-люди, через которых вещает господь. В исламе их не менее 1000, Мухаммед –последний из них. Он образец для подражания и почит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а послед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Судный ден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ступит День воздаяния за земные дела. Он будет последним днем этого мира. За ним следует блаженство( в раю) или мучение (в аду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в предопреде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е зависит от воли Аллах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68360" y="1052640"/>
            <a:ext cx="370872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1T16:54:20Z</dcterms:created>
  <dc:creator>user</dc:creator>
  <dc:description/>
  <dc:language>en-US</dc:language>
  <cp:lastModifiedBy>user</cp:lastModifiedBy>
  <dcterms:modified xsi:type="dcterms:W3CDTF">2013-02-05T20:40:50Z</dcterms:modified>
  <cp:revision>15</cp:revision>
  <dc:subject/>
  <dc:title>Идейные истоки и вероучение ислама </dc:title>
</cp:coreProperties>
</file>