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2BA-49A1-4F49-97F9-73838DBD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856-48E5-408D-A60F-AAD5566B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7A6-B852-4D37-B8FA-E42C5557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062-BA51-410B-8C2A-132EEF54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F72-DFA7-46E4-906A-E3BDCDAD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423-F41C-4FFD-8E9B-691AF72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B55-ABDA-4131-A86E-2E03DAE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133-1BEF-45C1-A01F-2633CBA3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6DF-979C-4005-B210-0E2CEF9F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157-4387-49F4-AC45-6C49332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CAE-55CA-4928-BFEC-5570059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4C2-3B7A-4AEC-8AD6-F0AE9AD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7F4-3820-41A5-A4F5-4741C2AFDD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8;&#1072;&#1073;&#1088;&#1072;&#1080;&#1083;" TargetMode="External"/><Relationship Id="rId2" Type="http://schemas.openxmlformats.org/officeDocument/2006/relationships/hyperlink" Target="http://ru.wikipedia.org/wiki/&#1060;&#1072;&#1081;&#1083;:FirstSurahKora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8;&#1072;_(&#1050;&#1086;&#1088;&#1072;&#1085;)" TargetMode="External"/><Relationship Id="rId2" Type="http://schemas.openxmlformats.org/officeDocument/2006/relationships/hyperlink" Target="http://ru.wikipedia.org/wiki/&#1040;&#1103;&#1090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hammad_letter_muqawqi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оран и Сунна -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вященные книги мусульма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Islamic-69"/>
          <p:cNvPicPr/>
          <p:nvPr/>
        </p:nvPicPr>
        <p:blipFill>
          <a:blip r:embed="rId1"/>
          <a:stretch/>
        </p:blipFill>
        <p:spPr>
          <a:xfrm>
            <a:off x="285840" y="2143080"/>
            <a:ext cx="5072040" cy="372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000240" y="214200"/>
            <a:ext cx="31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БОУ СОШ № 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72120" y="485784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итель истор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БОУ СОШ № 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умилова Е.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000680" y="62866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2 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Monotype Corsiva"/>
              </a:rPr>
              <a:t>Сунна 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(вторая священная книга мусульман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39272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унна - собрание изречений Мухаммада и рассказов о его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Эти рассказы называются хадисами. Все хадисы долгое время существовали устно. Позднее, в IX-X вв., их записали видные богословы: Бухари, Нишапури, Маджа, Сиджистани, Нисаи и Тирмизи. Они и считаются авторами-составителями сборников хади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6" descr="Деревянная табличка с сурами Корана у шатра бедуинов."/>
          <p:cNvPicPr/>
          <p:nvPr/>
        </p:nvPicPr>
        <p:blipFill>
          <a:blip r:embed="rId1"/>
          <a:stretch/>
        </p:blipFill>
        <p:spPr>
          <a:xfrm>
            <a:off x="5219640" y="1125360"/>
            <a:ext cx="3376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нна дополняет и разъясняет Коран, уступая ему только своей религиозной значим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Баки Урманче. Шахада. 70-е гг. ХХв. Бумага, тушь"/>
          <p:cNvPicPr/>
          <p:nvPr/>
        </p:nvPicPr>
        <p:blipFill>
          <a:blip r:embed="rId1"/>
          <a:stretch/>
        </p:blipFill>
        <p:spPr>
          <a:xfrm>
            <a:off x="1692360" y="2637000"/>
            <a:ext cx="5256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Шари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ждый мусульманин обязан вести образ жизни, который требует шариа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ариат (от арабского “шариа” - “правильный путь”) - это свод правил поведения, одобренных мусульманскими авторитетами. Шариат опирается на Коран и Сун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689_1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83008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вы узнали сегодня на уроке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214280" y="5716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Цель урока: сформировать  понимание  значения Корана и Сунны  как священных книг мусульман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1)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бразов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изучить  появление  и  особенности священных книг мусульман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2) развивающи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выделять главное, существенное в изучаемой теме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твечать на вопросы по содержанию текста, задавать вопросы  для уточнения непонятного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 работать в коллективе.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3) воспит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пособствовать развитию информационной культуры учащихся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оспитание толерантности к другой вере и культур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1280" y="549360"/>
            <a:ext cx="44132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Коран 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— священная книга ислама. Согласно учению ислама, Коран является прямым, вечным и несотворённым словом Божьим. Коран был ниспослан Всевышним Богом на Седьмое Небо, а затем ангел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Джебраил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передавал его по частям пророку Мухаммеду путём Откровения в течение 23 лет его пророческой деятель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180px-FirstSurahKor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04640"/>
            <a:ext cx="3344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читайте текст и ответьте  на вопросы к н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о «Коран» (от арабского «аль –Куран») означает «то, что читают вслух, декламируют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ан состоит из 114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су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глав) и около 6600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ая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стих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ологически выделяют меккански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нские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ры включают определенное количество стихов , айят. Айят- это фраза или фрагмент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557" t="16089" r="6945" b="56136"/>
          <a:stretch/>
        </p:blipFill>
        <p:spPr>
          <a:xfrm>
            <a:off x="428760" y="428760"/>
            <a:ext cx="8215200" cy="208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23.png"/>
          <p:cNvPicPr/>
          <p:nvPr/>
        </p:nvPicPr>
        <p:blipFill>
          <a:blip r:embed="rId2"/>
          <a:stretch/>
        </p:blipFill>
        <p:spPr>
          <a:xfrm>
            <a:off x="428760" y="2500200"/>
            <a:ext cx="82152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81583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ервые систематизированные записи полного текста священной книги были сделаны ближайшими сподвижниками Мухаммеда вскоре после его см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0f25c09ad23ae4fa3c5f7271966_prev"/>
          <p:cNvPicPr/>
          <p:nvPr/>
        </p:nvPicPr>
        <p:blipFill>
          <a:blip r:embed="rId1"/>
          <a:stretch/>
        </p:blipFill>
        <p:spPr>
          <a:xfrm>
            <a:off x="1619280" y="189000"/>
            <a:ext cx="5619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579640" y="18864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pperplate Gothic Light"/>
              </a:rPr>
              <a:t>По приказу халифа Османа группа авторитетных соратников пророка во главе с Заидом ибн Сабитом      ( личным писцом Мухаммеда) создала единый свод текста Ко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Islamic-70"/>
          <p:cNvPicPr/>
          <p:nvPr/>
        </p:nvPicPr>
        <p:blipFill>
          <a:blip r:embed="rId1"/>
          <a:stretch/>
        </p:blipFill>
        <p:spPr>
          <a:xfrm>
            <a:off x="179280" y="26028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752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ервая сура Корана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Аль-Фатиха» («Открывающая»)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 имя Бога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тив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лава Богу, Господу миров,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Милостив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ржащему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Своем распоряжении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нь суда!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ебе поклоняемся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у тебя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сим помощи…                 Перевод Г.С.Саблуков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180px-Muhammad_letter_muqawq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642960"/>
            <a:ext cx="42181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4:02Z</dcterms:created>
  <dc:creator>Lena</dc:creator>
  <dc:description/>
  <dc:language>en-US</dc:language>
  <cp:lastModifiedBy>Екатерина</cp:lastModifiedBy>
  <dcterms:modified xsi:type="dcterms:W3CDTF">2012-05-13T12:11:14Z</dcterms:modified>
  <cp:revision>8</cp:revision>
  <dc:subject/>
  <dc:title>Коран и Сунна - священные книги мусульман</dc:title>
</cp:coreProperties>
</file>