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F2AA-BDA5-4CAA-BDB7-4C1A7010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43F7-B249-4DFB-9EAB-1D5B2B97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723F-98EB-4A01-AB6D-1FBF0611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47D3-FAA3-4962-A2A8-124B3526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C66-9900-494A-862A-0305F0FE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655A-C394-4C23-A2C7-7EC17CAC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906-D870-48EC-A7C8-25E3F9E8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AECA-81A9-4DE1-BE60-2394DB7E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FB7-F6B8-4E0F-A780-66D13EBB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FA9-30DC-4F34-849A-743C26F4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349D-0120-4B87-9923-80B9119D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E38-91F5-489E-81FB-EC53B2E1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1C56-82F5-4798-AB0F-8F194C0B6B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7136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63252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ffcc00"/>
                </a:solidFill>
                <a:latin typeface="Arial"/>
                <a:ea typeface="Arial"/>
              </a:rPr>
              <a:t>Нетрадиционные религии на территории Нижегородской област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720" y="3885840"/>
            <a:ext cx="4286160" cy="268596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dd9c3"/>
                </a:solidFill>
                <a:latin typeface="Comic Sans MS"/>
              </a:rPr>
              <a:t>Выполнил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dd9c3"/>
                </a:solidFill>
                <a:latin typeface="Comic Sans MS"/>
              </a:rPr>
              <a:t>Учитель МОУ ООШ №2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dd9c3"/>
                </a:solidFill>
                <a:latin typeface="Comic Sans MS"/>
              </a:rPr>
              <a:t>г. Бор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dd9c3"/>
                </a:solidFill>
                <a:latin typeface="Comic Sans MS"/>
              </a:rPr>
              <a:t>Саблукова Е.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dd9c3"/>
                </a:solidFill>
                <a:latin typeface="Comic Sans MS"/>
              </a:rPr>
              <a:t>г. Бор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dd9c3"/>
                </a:solidFill>
                <a:latin typeface="Comic Sans MS"/>
              </a:rPr>
              <a:t>20</a:t>
            </a:r>
            <a:r>
              <a:rPr b="1" lang="en-US" sz="2500" spc="-1" strike="noStrike">
                <a:solidFill>
                  <a:srgbClr val="ddd9c3"/>
                </a:solidFill>
                <a:latin typeface="Comic Sans MS"/>
              </a:rPr>
              <a:t>1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63252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alibri"/>
              </a:rPr>
              <a:t>Появление новых религи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14480" y="1142640"/>
            <a:ext cx="5429160" cy="5715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d7e4bd"/>
                </a:solidFill>
                <a:latin typeface="Calibri"/>
              </a:rPr>
              <a:t>Одновременно с традиционными в мире распространяются и укрепляют  свои позиции  новые религии, которые называют нетрадиционными. Их последователи и руководители обычно подчеркивают, что их вероучение совсем не новое, а «исправленное», «усовершенствованное» или вновь обретенное старо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religii"/>
          <p:cNvPicPr/>
          <p:nvPr/>
        </p:nvPicPr>
        <p:blipFill>
          <a:blip r:embed="rId1"/>
          <a:stretch/>
        </p:blipFill>
        <p:spPr>
          <a:xfrm>
            <a:off x="214200" y="1357200"/>
            <a:ext cx="3786480" cy="4862520"/>
          </a:xfrm>
          <a:prstGeom prst="rect">
            <a:avLst/>
          </a:prstGeom>
          <a:ln w="9360">
            <a:solidFill>
              <a:srgbClr val="632523"/>
            </a:solidFill>
            <a:miter/>
          </a:ln>
          <a:effectLst>
            <a:outerShdw dist="50760" dir="5400000" blurRad="0" rotWithShape="0">
              <a:srgbClr val="632523"/>
            </a:outerShdw>
          </a:effectLst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63252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alibri"/>
              </a:rPr>
              <a:t>Почему людям не хватает традиционных религи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28680" y="1499760"/>
            <a:ext cx="5072040" cy="5357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1de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Традиционные религии кажутся многим не  соответствующими духу времени и  современному ритму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1de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Они  сложны и требуют  для восприятия большой внутренней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1de"/>
                </a:solidFill>
                <a:latin typeface="Calibri"/>
              </a:rPr>
              <a:t>           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Причиной успеха новых вероучений  стало массовое разочарование в современной цивилизации с ее несправедливостью и жесток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1de"/>
                </a:solidFill>
                <a:latin typeface="Calibri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http://im3-tub-ru.yandex.net/i?id=427475103-09-72&amp;n=21"/>
          <p:cNvPicPr/>
          <p:nvPr/>
        </p:nvPicPr>
        <p:blipFill>
          <a:blip r:embed="rId1"/>
          <a:stretch/>
        </p:blipFill>
        <p:spPr>
          <a:xfrm>
            <a:off x="214200" y="1714680"/>
            <a:ext cx="3929040" cy="457200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632523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  <a:ea typeface="Arial"/>
              </a:rPr>
              <a:t>Нетрадиционные религии в Нижегородской обла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14880" y="1785600"/>
            <a:ext cx="4929120" cy="47149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Нетрадиционные религии получили    свое распространение  и    в Нижегородской области. Церковь «Свидетелей Иеговы»,  Церковь Иисуса Христа последних дней (мормоны), Общество сознания Кришны действуют здесь уже несколько лет и имеют своих последователе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&amp;Vcy; &amp;Rcy;&amp;ocy;&amp;scy;&amp;scy;&amp;icy;&amp;icy; &amp;mcy;&amp;ocy;&amp;zhcy;&amp;iecy;&amp;tcy; &amp;ncy;&amp;acy;&amp;chcy;&amp;acy;&amp;tcy;&amp;softcy;&amp;scy;&amp;yacy; &amp;bcy;&amp;ocy;&amp;rcy;&amp;softcy;&amp;bcy;&amp;acy; &amp;scy; &amp;pcy;&amp;rcy;&amp;iecy;&amp;dcy;&amp;scy;&amp;tcy;&amp;acy;&amp;vcy;&amp;icy;&amp;tcy;&amp;iecy;&amp;lcy;&amp;yacy;&amp;mcy;&amp;icy; &quot;&amp;ncy;&amp;iecy;&amp;tcy;&amp;rcy;&amp;acy;&amp;dcy;&amp;icy;&amp;tscy;&amp;icy;&amp;ocy;&amp;ncy;&amp;ncy;&amp;ycy;&amp;khcy; &amp;rcy;&amp;iecy;&amp;lcy;&amp;icy;&amp;gcy;&amp;icy;&amp;jcy;&quot;"/>
          <p:cNvPicPr/>
          <p:nvPr/>
        </p:nvPicPr>
        <p:blipFill>
          <a:blip r:embed="rId1"/>
          <a:stretch/>
        </p:blipFill>
        <p:spPr>
          <a:xfrm>
            <a:off x="214200" y="1928880"/>
            <a:ext cx="4000680" cy="421488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63252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alibri"/>
              </a:rPr>
              <a:t>Церковь «Свидетелей Иегов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0" y="1213920"/>
            <a:ext cx="4114800" cy="56437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Церковь возникла в США в 70-е г. </a:t>
            </a:r>
            <a:r>
              <a:rPr b="1" lang="en-US" sz="2400" spc="-1" strike="noStrike">
                <a:solidFill>
                  <a:srgbClr val="ebf1de"/>
                </a:solidFill>
                <a:latin typeface="Calibri"/>
              </a:rPr>
              <a:t>XIX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«Свидетели» не признают Троицу,  верят в ангелов и демонов, которых возглавляет сатана. Главная идея их учения- ожидание конца света и установление рая на земле. По их мнению скоро грянет Армагеддон- последняя борьба добра со з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im5-tub-ru.yandex.net/i?id=15692025-55-72&amp;n=21"/>
          <p:cNvPicPr/>
          <p:nvPr/>
        </p:nvPicPr>
        <p:blipFill>
          <a:blip r:embed="rId1"/>
          <a:stretch/>
        </p:blipFill>
        <p:spPr>
          <a:xfrm>
            <a:off x="214200" y="1500120"/>
            <a:ext cx="3048120" cy="242892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  <p:pic>
        <p:nvPicPr>
          <p:cNvPr id="55" name="Picture 4" descr="http://im5-tub-ru.yandex.net/i?id=82770418-07-72&amp;n=21"/>
          <p:cNvPicPr/>
          <p:nvPr/>
        </p:nvPicPr>
        <p:blipFill>
          <a:blip r:embed="rId2"/>
          <a:stretch/>
        </p:blipFill>
        <p:spPr>
          <a:xfrm>
            <a:off x="785880" y="2571840"/>
            <a:ext cx="3071880" cy="250020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  <p:pic>
        <p:nvPicPr>
          <p:cNvPr id="56" name="Picture 6" descr="http://news.spbmy.ru/wp-content/uploads/2012/09/c114d67526b6860e4eb5740a7848f3_thumb.jpg"/>
          <p:cNvPicPr/>
          <p:nvPr/>
        </p:nvPicPr>
        <p:blipFill>
          <a:blip r:embed="rId3"/>
          <a:stretch/>
        </p:blipFill>
        <p:spPr>
          <a:xfrm>
            <a:off x="1357200" y="3714840"/>
            <a:ext cx="3167280" cy="250020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http://im2-tub-ru.yandex.net/i?id=165532065-30-72&amp;n=21"/>
          <p:cNvPicPr/>
          <p:nvPr/>
        </p:nvPicPr>
        <p:blipFill>
          <a:blip r:embed="rId1"/>
          <a:stretch/>
        </p:blipFill>
        <p:spPr>
          <a:xfrm>
            <a:off x="214200" y="1714680"/>
            <a:ext cx="3571920" cy="257148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  <p:pic>
        <p:nvPicPr>
          <p:cNvPr id="58" name="Picture 2" descr="http://im7-tub-ru.yandex.net/i?id=456104261-21-72&amp;n=21"/>
          <p:cNvPicPr/>
          <p:nvPr/>
        </p:nvPicPr>
        <p:blipFill>
          <a:blip r:embed="rId2"/>
          <a:stretch/>
        </p:blipFill>
        <p:spPr>
          <a:xfrm>
            <a:off x="357120" y="2714760"/>
            <a:ext cx="3614760" cy="235728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63252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Calibri"/>
              </a:rPr>
              <a:t>Церковь Иисуса Христа последних дней (мормоны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071600" y="1599840"/>
            <a:ext cx="5072040" cy="52578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Церковь основана в 1830 г. в СШ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Мормоны признают Библию и книгу Мормона.  Они   сохраняют элементы христианства (учение о Троице, искуплении, спасении ит. д.), верят в Христа, но он для них не единственный Бо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Каждый мормон считает своим долгом вести миссионерскую  работу и проповедовать свой образ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http://im2-tub-ru.yandex.net/i?id=68502035-05-72&amp;n=21"/>
          <p:cNvPicPr/>
          <p:nvPr/>
        </p:nvPicPr>
        <p:blipFill>
          <a:blip r:embed="rId3"/>
          <a:stretch/>
        </p:blipFill>
        <p:spPr>
          <a:xfrm>
            <a:off x="500040" y="3857760"/>
            <a:ext cx="3571920" cy="264312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63252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cc00"/>
                </a:solidFill>
                <a:latin typeface="Calibri"/>
              </a:rPr>
              <a:t>Общество сознания Криш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357440" y="1071360"/>
            <a:ext cx="4786200" cy="542916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Религиозная организация  возникла  во второй половине </a:t>
            </a:r>
            <a:r>
              <a:rPr b="1" lang="en-US" sz="2400" spc="-1" strike="noStrike">
                <a:solidFill>
                  <a:srgbClr val="ebf1de"/>
                </a:solidFill>
                <a:latin typeface="Calibri"/>
              </a:rPr>
              <a:t>XX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в. в Индии, быстро распространилась в США, а за тем и по всему ми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Кришнаиты взяли за основу своего учения Священное Писание  древних индусов – Веды и национальную индийскую религию- индуиз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           </a:t>
            </a:r>
            <a:r>
              <a:rPr b="1" lang="ru-RU" sz="2400" spc="-1" strike="noStrike">
                <a:solidFill>
                  <a:srgbClr val="ebf1de"/>
                </a:solidFill>
                <a:latin typeface="Calibri"/>
              </a:rPr>
              <a:t>Последователи общества  считают необходимым освободиться от всего личного, включая собственность, и полностью отдаться своему служ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im2-tub-ru.yandex.net/i?id=318791549-27-72&amp;n=21"/>
          <p:cNvPicPr/>
          <p:nvPr/>
        </p:nvPicPr>
        <p:blipFill>
          <a:blip r:embed="rId1"/>
          <a:stretch/>
        </p:blipFill>
        <p:spPr>
          <a:xfrm>
            <a:off x="357120" y="1357200"/>
            <a:ext cx="3363840" cy="285768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  <p:pic>
        <p:nvPicPr>
          <p:cNvPr id="65" name="Picture 4" descr="http://im7-tub-ru.yandex.net/i?id=75354235-33-72&amp;n=21"/>
          <p:cNvPicPr/>
          <p:nvPr/>
        </p:nvPicPr>
        <p:blipFill>
          <a:blip r:embed="rId2"/>
          <a:stretch/>
        </p:blipFill>
        <p:spPr>
          <a:xfrm>
            <a:off x="714240" y="2786040"/>
            <a:ext cx="3416400" cy="250020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  <p:pic>
        <p:nvPicPr>
          <p:cNvPr id="66" name="Picture 6" descr="http://im5-tub-ru.yandex.net/i?id=479321557-51-72&amp;n=21"/>
          <p:cNvPicPr/>
          <p:nvPr/>
        </p:nvPicPr>
        <p:blipFill>
          <a:blip r:embed="rId3"/>
          <a:stretch/>
        </p:blipFill>
        <p:spPr>
          <a:xfrm>
            <a:off x="1071720" y="3857760"/>
            <a:ext cx="3402000" cy="257148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63252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alibri"/>
              </a:rPr>
              <a:t>Влияние нетрадиционных религий на современное общ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6760" y="1928520"/>
            <a:ext cx="8572680" cy="47149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bf1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bf1de"/>
                </a:solidFill>
                <a:latin typeface="Calibri"/>
              </a:rPr>
              <a:t>Кто чаще всего  попадает в нетрадиционные церковные организации и тоталитарные секты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bf1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bf1de"/>
                </a:solidFill>
                <a:latin typeface="Calibri"/>
              </a:rPr>
              <a:t>Опасна ли деятельность новых религиозных сообществ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bf1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bf1de"/>
                </a:solidFill>
                <a:latin typeface="Calibri"/>
              </a:rPr>
              <a:t>Перечислите правила религиозной безопасно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bf1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bf1de"/>
                </a:solidFill>
                <a:latin typeface="Calibri"/>
              </a:rPr>
              <a:t>Какие государственные и общественные организации могут оказать помощь, если ты попал в тоталитарную религиозную общину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bf1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bf1de"/>
                </a:solidFill>
                <a:latin typeface="Calibri"/>
              </a:rPr>
              <a:t>Что может стать альтернативой обращения к нетрадиционным религиям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7-10T08:49:03Z</dcterms:modified>
  <cp:revision>71</cp:revision>
  <dc:subject/>
  <dc:title>Слайд 1</dc:title>
</cp:coreProperties>
</file>