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D06-6D55-442A-86A1-B19A8F84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960-6160-40F9-A336-F4FAC51A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4BCD-0469-4298-9A15-B8E70A16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F06-7C1F-4BBF-ACCC-AACF0FA7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1AA0-84E4-4DA2-9E0A-010213E9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33B3-DC5B-4193-843B-3D35E860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166F-F90F-4796-B9E7-6CCF8DE0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A331-3670-4648-AE60-EA89C9E2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9C55-3521-4CD7-B931-6877D88C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750B-1E3D-456D-90CD-782D7D3C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021E-36DA-4762-BD59-A69BEB63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4C7-7877-4081-A26B-9B6CCFFA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0930-23B9-4FA6-8370-683CF522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FDFF-6B7F-4778-B583-7BB6BAE9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BC84-5848-429B-AE35-24CE49DA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7623-25AE-4898-BA21-3F3EF9C8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6715-F1C2-49A6-827B-A52179DF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2BB-6B00-4C24-98EA-E62AFB87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76B-27DB-4047-ACC6-5C81885C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9E8-84F3-48E6-A898-4B0871AE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958-6BB0-47C5-8781-04C282E6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F40-6D35-426D-8637-245D4D78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068-99F3-490A-BB19-5C58ABEE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2E3-31A1-40C4-8E12-E83FFB72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0701-2255-41A6-8756-8EF947345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CEB0-4318-4B70-B37F-57AD9F1BE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lbl.ru/" TargetMode="External"/><Relationship Id="rId2" Type="http://schemas.openxmlformats.org/officeDocument/2006/relationships/hyperlink" Target="http://www.poleznayagazeta.ru/news/news2/4807/" TargetMode="External"/><Relationship Id="rId3" Type="http://schemas.openxmlformats.org/officeDocument/2006/relationships/hyperlink" Target="http://www.poleznayagazeta.ru/news/news2/4807/" TargetMode="External"/><Relationship Id="rId4" Type="http://schemas.openxmlformats.org/officeDocument/2006/relationships/hyperlink" Target="http://www.poleznayagazeta.ru/news/news2/4807/" TargetMode="External"/><Relationship Id="rId5" Type="http://schemas.openxmlformats.org/officeDocument/2006/relationships/hyperlink" Target="http://www.poleznayagazeta.ru/news/news2/4807/" TargetMode="External"/><Relationship Id="rId6" Type="http://schemas.openxmlformats.org/officeDocument/2006/relationships/hyperlink" Target="http://www.zaserbiu.ru/news/new-100206.html" TargetMode="External"/><Relationship Id="rId7" Type="http://schemas.openxmlformats.org/officeDocument/2006/relationships/hyperlink" Target="http://www.zaserbiu.ru/news/new-100206.html" TargetMode="External"/><Relationship Id="rId8" Type="http://schemas.openxmlformats.org/officeDocument/2006/relationships/hyperlink" Target="http://www.zaserbiu.ru/news/new-100206.html" TargetMode="External"/><Relationship Id="rId9" Type="http://schemas.openxmlformats.org/officeDocument/2006/relationships/hyperlink" Target="http://www.zaserbiu.ru/news/new-100206.html" TargetMode="External"/><Relationship Id="rId10" Type="http://schemas.openxmlformats.org/officeDocument/2006/relationships/hyperlink" Target="http://gtrk-saratov.ru/news/rezultaty_oprosa_po_vyboru_osnov_religioznyh_kultur_i_svetskoj_etiki/" TargetMode="External"/><Relationship Id="rId11" Type="http://schemas.openxmlformats.org/officeDocument/2006/relationships/hyperlink" Target="http://gtrk-saratov.ru/news/rezultaty_oprosa_po_vyboru_osnov_religioznyh_kultur_i_svetskoj_etiki/" TargetMode="External"/><Relationship Id="rId12" Type="http://schemas.openxmlformats.org/officeDocument/2006/relationships/hyperlink" Target="http://gtrk-saratov.ru/news/rezultaty_oprosa_po_vyboru_osnov_religioznyh_kultur_i_svetskoj_etiki/" TargetMode="External"/><Relationship Id="rId13" Type="http://schemas.openxmlformats.org/officeDocument/2006/relationships/hyperlink" Target="http://gtrk-saratov.ru/news/rezultaty_oprosa_po_vyboru_osnov_religioznyh_kultur_i_svetskoj_etiki/" TargetMode="External"/><Relationship Id="rId14" Type="http://schemas.openxmlformats.org/officeDocument/2006/relationships/hyperlink" Target="http://www.wazzup.su/" TargetMode="External"/><Relationship Id="rId15" Type="http://schemas.openxmlformats.org/officeDocument/2006/relationships/hyperlink" Target="http://www.wazzup.su/" TargetMode="External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249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Государство и религия на современном этапе. Вероисповедная полити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516360" y="4652640"/>
            <a:ext cx="237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стории и обществознания Максимович Л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БОУ СОШ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620640"/>
            <a:ext cx="4105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игия-это убеждение, что все происходящее с нами необычайно важно. И именно поэтому она будет существовать всег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заре Повез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609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Бор 201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Использованные интернет ресурс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albl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www.poleznayagazeta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www.zaserbiu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gtrk-saratov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http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www.wazzup.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Задачи уро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яснить сущность понятий: вероисповедная политика, светское государство, свобода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характеризовать вероисповедную политику России на современном этап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ВЕРОИСПОВЕДНАЯ ПОЛИТИ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8007480" cy="25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ь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политики государства в сфере свободы совести и вероисповед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ключающая целеполагание, правовое обоснование, регулирование деятельности религиозных организаций, которая выходит за рамки канонического устройства и культовой практики , осуществление сотрудничества с ними,  достижение межрелигиозного мира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0000" y="3573360"/>
            <a:ext cx="46846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СВОБОДА СОВЕ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52560"/>
            <a:ext cx="5113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на из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общечеловеческих ценност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основополагающее неотъемлемое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пра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человека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1)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на свободный мировоззренческий выбо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Включает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2)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пра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каждого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исповедова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ндивидуально или совместно с другими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любую религ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не исповедовать никако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3) свободно выбирать, менять и распространять религиозны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или иные убеждения и действовать в соответствии с ни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не ущемляя свободы и личного достоинства друг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9276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85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СВЕТСКОЕ ГОСУДАРСТВО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66920" y="1125000"/>
            <a:ext cx="47782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сударство, котор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не принимает никакую из религий или мировоззренческих систем в качестве своей официальной идеолог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обеспечив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граждана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озможность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самим делать мировоззренческий выбо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религиозные объединения отделены от государства и равны перед зако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2256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Black"/>
              </a:rPr>
              <a:t>Религиозные объединения отделены от государ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39956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сударств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вмешивается в определение гражданином своего отношения к рели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возлагает на религиозные объединения функции органов государственной в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вмешивается в деятельность религиозных объединений, если их деятельность не противоречит законам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ивает светский характер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95640" y="2349360"/>
            <a:ext cx="51483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равовые акты религиозной политик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822400" y="2266200"/>
            <a:ext cx="3967200" cy="3713760"/>
            <a:chOff x="2822400" y="2266200"/>
            <a:chExt cx="3967200" cy="3713760"/>
          </a:xfrm>
        </p:grpSpPr>
        <p:sp>
          <p:nvSpPr>
            <p:cNvPr id="118" name="_s14343"/>
            <p:cNvSpPr/>
            <p:nvPr/>
          </p:nvSpPr>
          <p:spPr>
            <a:xfrm flipV="1">
              <a:off x="4145040" y="2265840"/>
              <a:ext cx="1322280" cy="1237320"/>
            </a:xfrm>
            <a:custGeom>
              <a:avLst/>
              <a:gdLst>
                <a:gd name="textAreaLeft" fmla="*/ 474480 w 1322280"/>
                <a:gd name="textAreaRight" fmla="*/ 847800 w 1322280"/>
                <a:gd name="textAreaTop" fmla="*/ 443880 h 1237320"/>
                <a:gd name="textAreaBottom" fmla="*/ 793440 h 123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Нормы международного права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международные догово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4344"/>
            <p:cNvSpPr/>
            <p:nvPr/>
          </p:nvSpPr>
          <p:spPr>
            <a:xfrm flipV="1">
              <a:off x="3483000" y="3503160"/>
              <a:ext cx="2644920" cy="1238760"/>
            </a:xfrm>
            <a:custGeom>
              <a:avLst/>
              <a:gdLst>
                <a:gd name="textAreaLeft" fmla="*/ 581400 w 2644920"/>
                <a:gd name="textAreaRight" fmla="*/ 2063520 w 2644920"/>
                <a:gd name="textAreaTop" fmla="*/ 272160 h 1238760"/>
                <a:gd name="textAreaBottom" fmla="*/ 966600 h 123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Конституция РФ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4345"/>
            <p:cNvSpPr/>
            <p:nvPr/>
          </p:nvSpPr>
          <p:spPr>
            <a:xfrm flipV="1">
              <a:off x="2822400" y="4743000"/>
              <a:ext cx="3967200" cy="1236960"/>
            </a:xfrm>
            <a:custGeom>
              <a:avLst/>
              <a:gdLst>
                <a:gd name="textAreaLeft" fmla="*/ 688680 w 3967200"/>
                <a:gd name="textAreaRight" fmla="*/ 3278520 w 3967200"/>
                <a:gd name="textAreaTop" fmla="*/ 214560 h 1236960"/>
                <a:gd name="textAreaBottom" fmla="*/ 1022400 h 12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Федеральные закон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«О свободе совести и религиозных объединений»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другие нормативные акт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Вероисповедная политика Российского государ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407196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ветский характер государ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венство прав и свобод независимо от их отношения к религии, принадлежности к религиозным организаци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венство религиозных организаций перед закон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важение обычаев, традиций народов, связанных с их религи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ускаются ограничения в вопросах религии в случае необходимости защиты нравственности, законов, здоровья, прав и свобод чело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ость государственной политики в религиозных вопрос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84020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Особенности религиозной жизни современного российского обще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0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годня наиболее массовой религией в РФ – православие ( 75—80 % общего числа верующих) В основном это представители славянских народов, однако среди них немало и людей иных национальностей — марийцев, мордвы, чувашей, молдаван, осетин, представителей народностей Севера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и последователей православия примерно 45 % мужчин; наиболее многочисленную возрастную группу — около 30 % — образуют лица 36—45 лет; около 85 % имеют среднее, среднее специальное или высшее образование; около 80 % живут в город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ходы Московской патриархии имеются на всей территории России, их количество за последнее десятилетие увеличилось более чем втр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екоторых регионах Сибири и Дальнего Востока наметилась тенденция к снижению удельного веса православных общин, что обусловлено ростом влияния протестантизма, католицизма, нетрадиционных религиозных образ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им образом, современная политика Российского государства в области вероисповеданий отражает те социокультурные и политические процессы, которые протекают сегодня в обществе, и призвана способствовать формированию его высокой культуры и нравствен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9:14:12Z</dcterms:created>
  <dc:creator>user</dc:creator>
  <dc:description/>
  <dc:language>en-US</dc:language>
  <cp:lastModifiedBy>user</cp:lastModifiedBy>
  <dcterms:modified xsi:type="dcterms:W3CDTF">2013-02-17T19:01:30Z</dcterms:modified>
  <cp:revision>27</cp:revision>
  <dc:subject/>
  <dc:title>Государство и религия на современном этапе. Вероисповедная политика»</dc:title>
</cp:coreProperties>
</file>