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39D9-3250-4D98-AE13-387CAF90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5AF-2FF6-406F-963B-C3E3A808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E734-6084-40A5-9DAB-05400AC6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03E2-E645-4A8B-825F-54E67BA6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6433-7C5A-4032-9F52-A5E516B4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3E8C-024D-47A7-8905-1B3054A3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FAB8-A139-4EC5-8BCB-91F9C4B1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14BD-62C6-4276-A5DB-46C7881D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15B7-3D7C-40EB-A7A1-53DC3132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7FD7-D25C-471E-98D5-CE95F9FF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C986-F4F2-4F15-BA9F-E3798373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2A50-431E-47F2-A0AB-4F397FB2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2531-0E3B-44D8-8EC8-46DD5BA6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9C91-499C-4568-8306-B6856CA1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E754-55BD-4808-AF1A-3DAB1B5A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1375-51CD-4282-A558-7A8190B5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E734-0279-4FE3-964C-0622A5B3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A846-E78A-4006-AD9E-4F1584FD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E619-FB29-4933-B8A9-FE235D53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FEB7-6D69-4EFF-BB22-A6A5AE9D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E55C-291A-4A65-AC07-B7EFDB4C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7227-CABA-4763-8E37-F4618758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8BD5-5C21-41BF-B678-5BFF353A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4E03-C258-4DC5-854F-AB885517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332B-29D0-41F9-BBD7-01FD5BC19E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BC15-468B-42B4-AD63-FCB5192FDC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albl.ru/" TargetMode="External"/><Relationship Id="rId2" Type="http://schemas.openxmlformats.org/officeDocument/2006/relationships/hyperlink" Target="http://www.poleznayagazeta.ru/news/news2/4807/" TargetMode="External"/><Relationship Id="rId3" Type="http://schemas.openxmlformats.org/officeDocument/2006/relationships/hyperlink" Target="http://www.poleznayagazeta.ru/news/news2/4807/" TargetMode="External"/><Relationship Id="rId4" Type="http://schemas.openxmlformats.org/officeDocument/2006/relationships/hyperlink" Target="http://www.poleznayagazeta.ru/news/news2/4807/" TargetMode="External"/><Relationship Id="rId5" Type="http://schemas.openxmlformats.org/officeDocument/2006/relationships/hyperlink" Target="http://www.poleznayagazeta.ru/news/news2/4807/" TargetMode="External"/><Relationship Id="rId6" Type="http://schemas.openxmlformats.org/officeDocument/2006/relationships/hyperlink" Target="http://www.zaserbiu.ru/news/new-100206.html" TargetMode="External"/><Relationship Id="rId7" Type="http://schemas.openxmlformats.org/officeDocument/2006/relationships/hyperlink" Target="http://www.zaserbiu.ru/news/new-100206.html" TargetMode="External"/><Relationship Id="rId8" Type="http://schemas.openxmlformats.org/officeDocument/2006/relationships/hyperlink" Target="http://www.zaserbiu.ru/news/new-100206.html" TargetMode="External"/><Relationship Id="rId9" Type="http://schemas.openxmlformats.org/officeDocument/2006/relationships/hyperlink" Target="http://www.zaserbiu.ru/news/new-100206.html" TargetMode="External"/><Relationship Id="rId10" Type="http://schemas.openxmlformats.org/officeDocument/2006/relationships/hyperlink" Target="http://gtrk-saratov.ru/news/rezultaty_oprosa_po_vyboru_osnov_religioznyh_kultur_i_svetskoj_etiki/" TargetMode="External"/><Relationship Id="rId11" Type="http://schemas.openxmlformats.org/officeDocument/2006/relationships/hyperlink" Target="http://gtrk-saratov.ru/news/rezultaty_oprosa_po_vyboru_osnov_religioznyh_kultur_i_svetskoj_etiki/" TargetMode="External"/><Relationship Id="rId12" Type="http://schemas.openxmlformats.org/officeDocument/2006/relationships/hyperlink" Target="http://gtrk-saratov.ru/news/rezultaty_oprosa_po_vyboru_osnov_religioznyh_kultur_i_svetskoj_etiki/" TargetMode="External"/><Relationship Id="rId13" Type="http://schemas.openxmlformats.org/officeDocument/2006/relationships/hyperlink" Target="http://gtrk-saratov.ru/news/rezultaty_oprosa_po_vyboru_osnov_religioznyh_kultur_i_svetskoj_etiki/" TargetMode="External"/><Relationship Id="rId14" Type="http://schemas.openxmlformats.org/officeDocument/2006/relationships/hyperlink" Target="http://www.wazzup.su/" TargetMode="External"/><Relationship Id="rId15" Type="http://schemas.openxmlformats.org/officeDocument/2006/relationships/hyperlink" Target="http://www.wazzup.su/" TargetMode="External"/><Relationship Id="rId1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2491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Государство и религия на современном этапе. Вероисповедная политик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516360" y="4652640"/>
            <a:ext cx="2376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истории и обществознания Максимович Л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БОУ СОШ №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59280" y="620640"/>
            <a:ext cx="4105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лигия-это убеждение, что все происходящее с нами необычайно важно. И именно поэтому она будет существовать всег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заре Повез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6093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.Бор 2012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Использованные интернет ресурсы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albl.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www.poleznayagazeta.ru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:/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www.zaserbiu.ru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http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:/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gtrk-saratov.ru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http://</a:t>
            </a:r>
            <a:r>
              <a:rPr b="0" lang="ru-RU" sz="3200" spc="-1" strike="noStrike" u="sng">
                <a:solidFill>
                  <a:srgbClr val="99ff66"/>
                </a:solidFill>
                <a:uFillTx/>
                <a:latin typeface="Arial"/>
                <a:hlinkClick r:id="rId15"/>
              </a:rPr>
              <a:t>www.wazzup.s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Задачи урок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яснить сущность понятий: вероисповедная политика, светское государство, свобода сл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характеризовать вероисповедную политику России на современном этап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ВЕРОИСПОВЕДНАЯ ПОЛИТИК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5280" y="1052280"/>
            <a:ext cx="8007480" cy="25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асть </a:t>
            </a:r>
            <a:r>
              <a:rPr b="1" i="1" lang="ru-RU" sz="2400" spc="-1" strike="noStrike">
                <a:solidFill>
                  <a:srgbClr val="ffff66"/>
                </a:solidFill>
                <a:latin typeface="Arial"/>
              </a:rPr>
              <a:t>политики государства в сфере свободы совести и вероисповед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включающая целеполагание, правовое обоснование, регулирование деятельности религиозных организаций, которая выходит за рамки канонического устройства и культовой практики , осуществление сотрудничества с ними,  достижение межрелигиозного мира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40000" y="3573360"/>
            <a:ext cx="46846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СВОБОДА СОВЕСТИ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952560"/>
            <a:ext cx="51134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дна из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общечеловеческих ценност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основополагающее неотъемлемое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прав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человека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1)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на свободный мировоззренческий выбо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Включает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2)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прав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каждого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исповедоват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ндивидуально или совместно с другими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любую религи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не исповедовать никако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3) свободно выбирать, менять и распространять религиозны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или иные убеждения и действовать в соответствии с ним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не ущемляя свободы и личного достоинства други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32360" y="2205000"/>
            <a:ext cx="392760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851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СВЕТСКОЕ ГОСУДАРСТВО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066920" y="1125000"/>
            <a:ext cx="47782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сударство, котор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не принимает никакую из религий или мировоззренческих систем в качестве своей официальной идеолог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и обеспечива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граждана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возможность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самим делать мировоззренческий выбо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i="1" lang="en-US" sz="2400" spc="-1" strike="noStrike">
                <a:solidFill>
                  <a:srgbClr val="ffff66"/>
                </a:solidFill>
                <a:latin typeface="Arial"/>
              </a:rPr>
              <a:t>религиозные объединения отделены от государства и равны перед зако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22560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 Black"/>
              </a:rPr>
              <a:t>Религиозные объединения отделены от государств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39956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осударств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вмешивается в определение гражданином своего отношения к рели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возлагает на религиозные объединения функции органов государственной вл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вмешивается в деятельность религиозных объединений, если их деятельность не противоречит законам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еспечивает светский характер 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95640" y="2349360"/>
            <a:ext cx="514836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Правовые акты религиозной политики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822400" y="2266200"/>
            <a:ext cx="3967200" cy="3713760"/>
            <a:chOff x="2822400" y="2266200"/>
            <a:chExt cx="3967200" cy="3713760"/>
          </a:xfrm>
        </p:grpSpPr>
        <p:sp>
          <p:nvSpPr>
            <p:cNvPr id="118" name="_s14343"/>
            <p:cNvSpPr/>
            <p:nvPr/>
          </p:nvSpPr>
          <p:spPr>
            <a:xfrm flipV="1">
              <a:off x="4145040" y="2265840"/>
              <a:ext cx="1322280" cy="1237320"/>
            </a:xfrm>
            <a:custGeom>
              <a:avLst/>
              <a:gdLst>
                <a:gd name="textAreaLeft" fmla="*/ 474480 w 1322280"/>
                <a:gd name="textAreaRight" fmla="*/ 847800 w 1322280"/>
                <a:gd name="textAreaTop" fmla="*/ 443880 h 1237320"/>
                <a:gd name="textAreaBottom" fmla="*/ 793440 h 123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Нормы международного права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международные договор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14344"/>
            <p:cNvSpPr/>
            <p:nvPr/>
          </p:nvSpPr>
          <p:spPr>
            <a:xfrm flipV="1">
              <a:off x="3483000" y="3503160"/>
              <a:ext cx="2644920" cy="1238760"/>
            </a:xfrm>
            <a:custGeom>
              <a:avLst/>
              <a:gdLst>
                <a:gd name="textAreaLeft" fmla="*/ 581400 w 2644920"/>
                <a:gd name="textAreaRight" fmla="*/ 2063520 w 2644920"/>
                <a:gd name="textAreaTop" fmla="*/ 272160 h 1238760"/>
                <a:gd name="textAreaBottom" fmla="*/ 966600 h 123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Конституция РФ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14345"/>
            <p:cNvSpPr/>
            <p:nvPr/>
          </p:nvSpPr>
          <p:spPr>
            <a:xfrm flipV="1">
              <a:off x="2822400" y="4743000"/>
              <a:ext cx="3967200" cy="1236960"/>
            </a:xfrm>
            <a:custGeom>
              <a:avLst/>
              <a:gdLst>
                <a:gd name="textAreaLeft" fmla="*/ 688680 w 3967200"/>
                <a:gd name="textAreaRight" fmla="*/ 3278520 w 3967200"/>
                <a:gd name="textAreaTop" fmla="*/ 214560 h 1236960"/>
                <a:gd name="textAreaBottom" fmla="*/ 1022400 h 123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99cc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Федеральные законы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«О свободе совести и религиозных объединений»,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другие нормативные акт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Вероисповедная политика Российского государств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407196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ветский характер государ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венство прав и свобод независимо от их отношения к религии, принадлежности к религиозным организация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венство религиозных организаций перед закон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важение обычаев, традиций народов, связанных с их религи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пускаются ограничения в вопросах религии в случае необходимости защиты нравственности, законов, здоровья, прав и свобод челове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крытость государственной политики в религиозных вопрос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484020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"/>
              </a:rPr>
              <a:t>Особенности религиозной жизни современного российского обществ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04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годня наиболее массовой религией в РФ – православие ( 75—80 % общего числа верующих) В основном это представители славянских народов, однако среди них немало и людей иных национальностей — марийцев, мордвы, чувашей, молдаван, осетин, представителей народностей Севера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и последователей православия примерно 45 % мужчин; наиболее многочисленную возрастную группу — около 30 % — образуют лица 36—45 лет; около 85 % имеют среднее, среднее специальное или высшее образование; около 80 % живут в город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ходы Московской патриархии имеются на всей территории России, их количество за последнее десятилетие увеличилось более чем втр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некоторых регионах Сибири и Дальнего Востока наметилась тенденция к снижению удельного веса православных общин, что обусловлено ростом влияния протестантизма, католицизма, нетрадиционных религиозных образов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им образом, современная политика Российского государства в области вероисповеданий отражает те социокультурные и политические процессы, которые протекают сегодня в обществе, и призвана способствовать формированию его высокой культуры и нравствен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0T19:14:12Z</dcterms:created>
  <dc:creator>user</dc:creator>
  <dc:description/>
  <dc:language>en-US</dc:language>
  <cp:lastModifiedBy>user</cp:lastModifiedBy>
  <dcterms:modified xsi:type="dcterms:W3CDTF">2013-02-17T19:01:30Z</dcterms:modified>
  <cp:revision>27</cp:revision>
  <dc:subject/>
  <dc:title>Государство и религия на современном этапе. Вероисповедная политика»</dc:title>
</cp:coreProperties>
</file>