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81A-5ABA-4144-9041-546964E5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E8B-B6C5-46C5-BA4D-E5B697B2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2D4-E646-4E20-BCF0-358CDB11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981-6345-4149-90A9-2077572A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D428-5310-415D-8B54-8C5883F3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CBE-BCDA-4327-A7DC-157AE68F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BBE-B4B9-4FBA-9D10-41F9D767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FF77-3D3F-4DF5-B399-40EBBE6C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85F-D41D-46E7-8DE4-6FA7A094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976-84BA-4F53-9EC0-956091B1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D65-2BB3-4009-AA62-7DB093CA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1A8-C3BC-4C05-BE9F-DEEEBFA6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4884-0E2D-43E7-AD26-DC39B3579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www.zoofirma.ru//plugins/content/relatedThumbArticles/timthumb.php?src=images/knigi/0994/035.jpg&amp;w=300&amp;h=200&amp;zc=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ОСТАВ И СТРУКТУРА СООБЩЕСТ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2276640"/>
            <a:ext cx="50403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о обитающих в сообществе видов и соотношение их численности определяе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довую структуру сообществ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довой состав сообщества определяется рядом факторов: географическое местоположение, особенности климата и рельефа местности, высота над уровнем моря, водный режим, возраст сообщества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4683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ДОВА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УКТУРА СО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62415" t="24538" r="15295" b="44664"/>
          <a:stretch/>
        </p:blipFill>
        <p:spPr>
          <a:xfrm>
            <a:off x="5292720" y="2205000"/>
            <a:ext cx="3673440" cy="317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7848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пределенные типы внешнего строения организмов, возникшие как приспособления к условиям местообитания, называю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зненными формам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бор жизненных форм, их соотношение определяю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рфологическую структур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ообщества, по которой судят о его принадлежности к тому или иному тип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4683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РФОЛОГИЧЕСКА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УКТУРА СО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27_06" descr="http://rusanova.nm.ru/tablica/27_06.jpg"/>
          <p:cNvPicPr/>
          <p:nvPr/>
        </p:nvPicPr>
        <p:blipFill>
          <a:blip r:embed="rId2"/>
          <a:srcRect l="2579" t="26468" r="3208" b="5167"/>
          <a:stretch/>
        </p:blipFill>
        <p:spPr>
          <a:xfrm>
            <a:off x="3795840" y="4132440"/>
            <a:ext cx="5348160" cy="2725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8920" y="2852640"/>
            <a:ext cx="4537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личные жизненные формы определенным образом пространственно обособлены друг от друга, образу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странственную структур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ообщ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4683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СТРАНСТВЕННА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УКТУРА СО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50799" t="28852" r="23002" b="40351"/>
          <a:stretch/>
        </p:blipFill>
        <p:spPr>
          <a:xfrm>
            <a:off x="4859280" y="2133720"/>
            <a:ext cx="3889440" cy="3506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0:17:08Z</dcterms:created>
  <dc:creator>Катенок</dc:creator>
  <dc:description/>
  <dc:language>en-US</dc:language>
  <cp:lastModifiedBy>Admin</cp:lastModifiedBy>
  <dcterms:modified xsi:type="dcterms:W3CDTF">2013-03-04T16:24:44Z</dcterms:modified>
  <cp:revision>35</cp:revision>
  <dc:subject/>
  <dc:title>Презентация PowerPoint</dc:title>
</cp:coreProperties>
</file>