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1DD-EC5C-4599-B9DE-0E82C630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505-CE1B-4D78-B033-8C38A24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E84-3BA7-49C7-8DFF-6708FF60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1AE-0CC0-4642-AB3E-A1C8002B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C74-5CF7-4348-8452-5AA9B0C3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1AC-5D35-4331-8461-4AC3478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E92-71D7-4CAA-B2E4-C905D13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30B-B25D-4440-AED0-6D95942C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E9D-5239-47B9-A34D-6914258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439-125C-4984-AA2D-90FB983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77D-F334-42A1-A9DB-810F143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155-587E-4A6F-9165-F3041D6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545-017C-4CE5-AA12-63F70790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952560"/>
            <a:ext cx="73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Comic Sans MS"/>
              </a:rPr>
              <a:t>Экология как нау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пия ecology"/>
          <p:cNvPicPr/>
          <p:nvPr/>
        </p:nvPicPr>
        <p:blipFill>
          <a:blip r:embed="rId1"/>
          <a:stretch/>
        </p:blipFill>
        <p:spPr>
          <a:xfrm>
            <a:off x="6227640" y="3213000"/>
            <a:ext cx="2025720" cy="1652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 rot="1091400">
            <a:off x="5866920" y="2997360"/>
            <a:ext cx="26434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03280" y="9810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363920" cy="327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484360" y="5661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692360" y="13413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124000" y="18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5364000" y="2637000"/>
            <a:ext cx="352908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403280" y="2276640"/>
            <a:ext cx="381636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00360" y="4508640"/>
            <a:ext cx="388764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63640" y="3860640"/>
            <a:ext cx="684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30920" y="2997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02560" y="2997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7020000" y="1917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2565360"/>
            <a:ext cx="684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341360"/>
            <a:ext cx="77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332000" y="83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547640" y="148428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32000" y="9079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42670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10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5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Admin</cp:lastModifiedBy>
  <dcterms:modified xsi:type="dcterms:W3CDTF">2013-03-04T16:18:06Z</dcterms:modified>
  <cp:revision>18</cp:revision>
  <dc:subject/>
  <dc:title>Экология Рядом!</dc:title>
</cp:coreProperties>
</file>