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740-A2CA-4BAB-A8F5-42AFE43E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8C0-F019-433C-BB15-CDE18E4A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E4D9E-1446-43FA-9BFA-F6B385E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564D3-780A-43AD-816B-88ABF908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F71CA-A6F9-4904-A585-9ABD127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3EFE5-A374-450B-B77A-92963F3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6DE75-594E-41DA-B320-392D28E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D341B-8BC4-4C06-9FBB-2772D67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0C422-1D74-4468-857D-92C02C07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4CCC4-83F9-496F-B1B0-5A3B4BFA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99427-1DC9-4691-8B9A-B6DAF65A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9E031-3016-4880-990B-F34810AA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0C0-2220-4CC9-A5DC-F4AB4DA8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B610E-8718-40D4-96CF-35206FC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1C23B-85F7-49E2-AE0F-6953D88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DB297-FC47-45CF-A553-B4A25352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E6607-0E01-4626-9442-21FD7A4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C61E0-2E33-4768-AE8D-D2562C01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CDCAE-F0DB-4C65-8726-A410350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FA624-21D8-4B22-B08C-B4023D1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806E1-1426-479E-BF6F-877A78F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923CA-5177-49E1-A3C8-BCC3692C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AA881-9C73-43E6-8EC1-22C8B80F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A78-927B-47F1-9587-F3D644E3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89BB7-563B-48CB-A221-176E17B0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2E0C8-43D7-4F6A-9A53-96CC40B0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01D55-5AD2-491C-BF01-83CA6889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07426-7998-4520-9827-9DCDFBF4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34AAA-7652-4F92-8462-64F4672C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1CCE-3C41-41A6-95BB-B7C8D58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27C63-9582-410F-BAFE-A4895525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C9690-1024-45C7-88C9-22C1A98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DC07-2724-4B87-B939-B30E59E9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D02A4-80DC-4D44-AD6B-B9D7BCC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F0B0-4F97-4275-A10C-42333B18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CABC3-0D29-4EB4-94AF-55A1E5AA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7DA6A-D397-4E82-B923-F390BD36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A0982-0395-4614-9A24-0283CDFF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64A95-D40F-4F50-8097-1E78B0C2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E8CBD-6E3C-4E98-9CB7-B770242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0CFA8-58E3-4448-B70E-4A5D048A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02A1F-10F6-43AC-95F4-53B4122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CE198-FB55-41C6-A6E2-BDD29DB0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3A998-CF83-420A-9B91-739CA0D1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F0484-9A3B-4014-A698-B6221F3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DF5A-E778-4380-93E9-A9C6BC4A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9FC7D-3256-4472-8761-64F3EB1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E866F-178E-48FE-A926-63602E09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587F2-065A-4FDD-B286-54A425D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09CA1-4452-4A78-B03B-1AAB39C3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A6ABD-8E99-4509-943D-2C4DACF5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55AF-0B12-4DE3-B1AB-1329457E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23E-083F-4A30-8986-B726F6CF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AE79-1CAC-4A67-AE88-F01C661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3DA5-25D0-47BE-B59E-7818B6C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736-8939-41BC-AE68-44BFF37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8E4-53BA-4D48-93F2-4751F874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9CB3-C788-4F71-81CF-6766C20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A6B5-79A9-472C-A2AD-9724782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2F84-62A8-474F-BCDE-50AB9287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7DD-5D11-421E-90A1-CC1F6C53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982A-9BBB-44CB-A9AD-1EC3450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1B69-539B-4940-A470-570E50F3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33BD-9565-4EEE-8EFD-A32CBFA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ACAE-982E-4CC1-917A-FE84074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8132-B507-42FB-9667-588AA9EA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8A11-D53E-47A8-A0B4-D32015A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140-9C3F-4109-9A84-23DC269C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51C1-7F5A-4245-8E8D-260FD22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977F-BA7D-4EDA-B8A2-19F7974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C0A5-EA9D-4774-A8CB-907F831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67F6-D0CE-4011-A7F4-ED84BD2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2E9F-223C-4DB5-86DE-739C7E80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FFEF-F2BA-4686-8367-E3919E49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73C9-E606-4B91-8263-5630095B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3C59-EBDD-4F36-B430-74C1B7A4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B55C-495C-4232-8C2C-784E10BE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2EE1-EA2D-4AE3-A88D-7BAE08F1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FD9-02A2-44CD-A784-3CCBC71A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BBE6-2811-4C58-99A3-94DC1DA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17EA-7DF5-4DF4-8D72-688D5881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B684-E342-4941-82BA-BFF3A6F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7807-A20B-4174-B56B-305EDD0E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5D96-5250-4ED1-B0DE-6EAF197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F72D-89B4-4806-ACDF-262C4B07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B519-24DA-479F-BFB7-720355C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11B5-B07A-47A3-AE68-7E2793A4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922F-0A18-400A-99A7-7BC79701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D5B7-3BA0-414C-A6AD-99D6BA79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BBC-C8C4-4BC8-B162-376CECE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CC0D4-6C58-488D-AD01-22BF94C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9CE9-4769-4FFF-AAD1-66C5C65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AED8D-46A0-422C-99F0-FD9232F6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6A74-4FC7-43F7-B894-FD2F3142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D89B-5377-45E4-9AF4-74297C4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B847F-8B9D-4832-BCDE-D65371E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C9EB-A69D-4633-8FE6-58C9A1FA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F544-E420-498F-B620-8664C7C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E6DF-18FB-43CA-B2A3-8C2A442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9221-0FC1-4C5E-8FEB-CDE6B5F7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B31-1403-4A91-80F8-D9A51DA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5E54-F8B0-4162-98EF-EDFAC2BE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B99F-C928-4B19-BD40-A61C7009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F72C-D49F-418D-8891-BBA301E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2DA32-8420-4BD7-A411-F748FE64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8F5AF-CDE7-43E4-8849-8DE853EE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3D29-DBDE-4ABD-8A7A-9A96458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4C78-B672-4590-8C7D-6B68D4DD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69AE0-5608-46F4-BD01-E58A073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4B1C-22E7-4840-8035-45C147C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79897-CA06-45DC-9DD0-A4E5AD2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21B-A4F2-490B-9D2F-889F301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2D981-191D-4D11-9322-2CF5A15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9759-0683-420A-86B5-A12DD620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02B6-4D8B-41AA-BA76-BA76C933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A0AD-3D27-4827-809B-A6E04401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9A3C9-394C-45F8-9A40-D5EB581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7553-F041-4FFC-8A53-6E9477B5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FB9C8-6DFE-4F6B-9358-B496227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098D-1414-44A1-84E3-F92B6CA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4BBFD-DD5B-408D-B44F-8E4E8F42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9ED21-9798-49A4-9B49-E08EF2D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658-5D03-4C50-BB07-6444404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6D6B-ECAD-4625-A3FC-C7DB0CE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01D4C-F5A6-4D7A-97FE-B5EFA95B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BAD80-ADF7-4953-B6E9-5E94696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8CC20-90F3-49E5-8A6F-0FC23EB6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43AAA-95AD-4C9B-AB53-9EFEAF9D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27B8C-3748-4584-BCB2-5A314726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44FAF-E5EE-4242-998B-4D67082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6A2B-D4DF-47C2-92CD-13E55B4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03945-7C31-4815-B328-6D53746F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4623-E4DF-4209-860A-B3A28596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9FB-A1E4-45B2-BC78-40EFB18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80D41-11DE-43E0-8633-2C460FE6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49CB-7B99-4D5B-B4E3-404A2C9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220C-E37F-491C-9B25-98C3B9D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7400A-C009-4D3E-902B-1A3CE68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60131-514E-4241-9EDC-43848C8D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642E-6EE8-4E2E-BE6D-01CB4D55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7EB9E-716D-43E7-BBB2-9A230D70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32C65-CAD7-45B4-B8FE-EE536456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220E6-3F03-4901-9746-CCBB4C4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02DE4-D775-4359-807D-B31EC11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645-486B-4F67-8A57-7D177FB477D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584A-E21E-408F-8F71-EBB241E5BFE2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FF8C-C8A7-4F32-8B80-276CB9A61D7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587-E9C9-4027-9A34-7132CDBDE7DE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AA24-42F2-44C9-9A10-7E962A71DD7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FF11-4454-4887-8BD6-7986E31E23B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30F1-7C50-420F-9D14-DFEFA603768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E958-C229-47C2-B69A-B4D821F7202D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29A5-FB4E-46D3-9BFA-82AC004904C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EC5A-9DF8-4F23-830F-6B4FBF99100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B4EC-8F85-476C-8203-BCDA161CFC3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8E84-6B0D-4C87-8B7A-6FC2750AB46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o.1september.ru/2003/42/11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bio.1september.ru/2003/42/9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85800"/>
            <a:ext cx="56390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124080" y="685440"/>
            <a:ext cx="56390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два вида не могут занимать одну экологическую нишу. Следовательно, каждый вид характеризуется своими собственными отношениями со средой об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Текст 2"/>
          <p:cNvSpPr/>
          <p:nvPr/>
        </p:nvSpPr>
        <p:spPr>
          <a:xfrm>
            <a:off x="250920" y="3357720"/>
            <a:ext cx="25286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соби одного вида могут жить в несколько различающихся услов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уванчик может расти и в лесу, и на лу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{59CA379D-97F2-428B-889F-896C00A210DC}"/>
          <p:cNvPicPr/>
          <p:nvPr/>
        </p:nvPicPr>
        <p:blipFill>
          <a:blip r:embed="rId1"/>
          <a:stretch/>
        </p:blipFill>
        <p:spPr>
          <a:xfrm>
            <a:off x="5508720" y="3213000"/>
            <a:ext cx="3349440" cy="31910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5840" y="914400"/>
            <a:ext cx="2457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4292640"/>
            <a:ext cx="2457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ть близкие виды, имеющие сходные процессы жизнедеятельн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132000" y="691920"/>
            <a:ext cx="5639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ходстве процессов жизнедеятельности и возможности получения плодовитого потомства при скрещиван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3" descr="C:\Documents and Settings\USER\Рабочий стол\урок\рисунки\горбуша.jpg"/>
          <p:cNvPicPr/>
          <p:nvPr/>
        </p:nvPicPr>
        <p:blipFill>
          <a:blip r:embed="rId1"/>
          <a:stretch/>
        </p:blipFill>
        <p:spPr>
          <a:xfrm>
            <a:off x="3059280" y="2276640"/>
            <a:ext cx="4213080" cy="2055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Documents and Settings\USER\Рабочий стол\урок\рисунки\кета.jpeg"/>
          <p:cNvPicPr/>
          <p:nvPr/>
        </p:nvPicPr>
        <p:blipFill>
          <a:blip r:embed="rId2"/>
          <a:stretch/>
        </p:blipFill>
        <p:spPr>
          <a:xfrm>
            <a:off x="4716360" y="4276800"/>
            <a:ext cx="4213440" cy="20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124080" y="685440"/>
            <a:ext cx="56390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изучении истории вида или группы видов. Этот критерий носит комплексный характер, поскольку включает сравнительный анализ современных ареалов вид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т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928960" y="685440"/>
            <a:ext cx="62150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явлении репродуктивной изоля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ые сроки размнож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ое устройство половых аппарато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плодотворение произошло, то погибает зародыш или молодой организм рождается нежизнеспособ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гибрид жизнеспособен, то он неплодовит (примеры: лошак, мул, хонори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Documents and Settings\USER\Рабочий стол\урок\рисунки\xonorik.jpg"/>
          <p:cNvPicPr/>
          <p:nvPr/>
        </p:nvPicPr>
        <p:blipFill>
          <a:blip r:embed="rId1"/>
          <a:stretch/>
        </p:blipFill>
        <p:spPr>
          <a:xfrm>
            <a:off x="6300720" y="4149720"/>
            <a:ext cx="2397240" cy="2117880"/>
          </a:xfrm>
          <a:prstGeom prst="rect">
            <a:avLst/>
          </a:prstGeom>
          <a:ln w="0">
            <a:noFill/>
          </a:ln>
        </p:spPr>
      </p:pic>
      <p:sp>
        <p:nvSpPr>
          <p:cNvPr id="654" name="Текст 2"/>
          <p:cNvSpPr/>
          <p:nvPr/>
        </p:nvSpPr>
        <p:spPr>
          <a:xfrm>
            <a:off x="179280" y="4005360"/>
            <a:ext cx="2664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онорик – гибрид, полученный в результате  скрещивания хорька и европейской н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643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ание выводов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916000" y="1052640"/>
            <a:ext cx="6048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пределить принадлежность особи к какому-то ви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достаточно одного крите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обходимо учитывать совокуп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х критерие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Содержимое 3"/>
          <p:cNvSpPr/>
          <p:nvPr/>
        </p:nvSpPr>
        <p:spPr>
          <a:xfrm>
            <a:off x="2916360" y="2349360"/>
            <a:ext cx="604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овые критерии, по которым отличается один вид от другого, в совокупности обусловливают генетическую изоляцию видов, обеспечивая самостоятельность каждого вида и разнообразие их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одержимое 3"/>
          <p:cNvSpPr/>
          <p:nvPr/>
        </p:nvSpPr>
        <p:spPr>
          <a:xfrm>
            <a:off x="2916360" y="4005360"/>
            <a:ext cx="6048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 ни одного видового критерия, который можно было признать абсолютным и универса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одержимое 3"/>
          <p:cNvSpPr/>
          <p:nvPr/>
        </p:nvSpPr>
        <p:spPr>
          <a:xfrm>
            <a:off x="2916360" y="501336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едставляет собой генетически относительно изолированную систему, что доказывает реальность существования видо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842920" y="1341360"/>
            <a:ext cx="6048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составить морфологическую характеристику двух растений одного рода, сравнить их и сделать вывод о причинах сходства и различ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: живые растения, гербарные материалы (рисунки как дополнительный источник информац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987640" y="1125360"/>
          <a:ext cx="5870520" cy="4457880"/>
        </p:xfrm>
        <a:graphic>
          <a:graphicData uri="http://schemas.openxmlformats.org/drawingml/2006/table">
            <a:tbl>
              <a:tblPr/>
              <a:tblGrid>
                <a:gridCol w="3062160"/>
                <a:gridCol w="144000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РНЕВ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, сл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л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ие на стеб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распо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истый, одревеснев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стоячий, стелющийся, цепляющийся, вьющий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ВЕ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 введения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987640" y="691920"/>
            <a:ext cx="5857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ж. Рей (1686 г.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мелкие совокупности организмов, тождественных морфологически, тождественно размножающихся и дающих потомство, сохраняющее эти свойств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33_127_06"/>
          <p:cNvPicPr/>
          <p:nvPr/>
        </p:nvPicPr>
        <p:blipFill>
          <a:blip r:embed="rId1"/>
          <a:stretch/>
        </p:blipFill>
        <p:spPr>
          <a:xfrm>
            <a:off x="285840" y="2000160"/>
            <a:ext cx="2500200" cy="381636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1" name="Picture 6" descr="45_178"/>
          <p:cNvPicPr/>
          <p:nvPr/>
        </p:nvPicPr>
        <p:blipFill>
          <a:blip r:embed="rId2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2" name="Picture 5" descr="45_179"/>
          <p:cNvPicPr/>
          <p:nvPr/>
        </p:nvPicPr>
        <p:blipFill>
          <a:blip r:embed="rId3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3" name="Picture 5" descr="42_162"/>
          <p:cNvPicPr/>
          <p:nvPr/>
        </p:nvPicPr>
        <p:blipFill>
          <a:blip r:embed="rId4"/>
          <a:stretch/>
        </p:blipFill>
        <p:spPr>
          <a:xfrm>
            <a:off x="250920" y="1989000"/>
            <a:ext cx="2571480" cy="4000680"/>
          </a:xfrm>
          <a:prstGeom prst="rect">
            <a:avLst/>
          </a:prstGeom>
          <a:ln w="1908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4" name="Picture 10" descr="C:\Documents and Settings\USER\Рабочий стол\урок\mayr_90.JPG"/>
          <p:cNvPicPr/>
          <p:nvPr/>
        </p:nvPicPr>
        <p:blipFill>
          <a:blip r:embed="rId5"/>
          <a:stretch/>
        </p:blipFill>
        <p:spPr>
          <a:xfrm>
            <a:off x="250920" y="1989000"/>
            <a:ext cx="2571480" cy="4071960"/>
          </a:xfrm>
          <a:prstGeom prst="rect">
            <a:avLst/>
          </a:prstGeom>
          <a:ln w="0">
            <a:noFill/>
          </a:ln>
        </p:spPr>
      </p:pic>
      <p:sp>
        <p:nvSpPr>
          <p:cNvPr id="615" name="Содержимое 3"/>
          <p:cNvSpPr/>
          <p:nvPr/>
        </p:nvSpPr>
        <p:spPr>
          <a:xfrm>
            <a:off x="2916360" y="1773360"/>
            <a:ext cx="58579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л Линней (1735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жество родственных и сходных по строению организмов, при размножении непрерывно воспроизводящих себе подоб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 виды как объективно существующие группы живых организмов, достаточно легко отличимые друг от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читал их неизменными, раз и навсегда созданными бо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одержимое 3"/>
          <p:cNvSpPr/>
          <p:nvPr/>
        </p:nvSpPr>
        <p:spPr>
          <a:xfrm>
            <a:off x="2916360" y="3500280"/>
            <a:ext cx="5857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.Б. Ламарк (180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постоянно изменяются, эволюционируют, поэтому реально в природе не суще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Содержимое 3"/>
          <p:cNvSpPr/>
          <p:nvPr/>
        </p:nvSpPr>
        <p:spPr>
          <a:xfrm>
            <a:off x="2916360" y="4365720"/>
            <a:ext cx="5857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рльз Дар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реально существуют, но изменяются, т.е. относительно постоянны и являются результатом эволюцион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одержимое 3"/>
          <p:cNvSpPr/>
          <p:nvPr/>
        </p:nvSpPr>
        <p:spPr>
          <a:xfrm>
            <a:off x="2987640" y="5157720"/>
            <a:ext cx="585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рнст Майр (194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онцепция вида: виды определяются не различием, а обособленностью, состоят из популяций, главным свойством вида является репродуктивная изоля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– исторически сложившаяся совокупность особей, обладающих наследственным сходством морфологических, физиологических и биохимических особенностей, свободно скрещивающихся и дающих плодовитое потомство, приспособленных к определенным условиям жизни и занимающих определенный аре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Популяция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того или иного вида, в течение большого числа поколений населяющих определенное пространство, внутри которого особи могут относительно свободно скрещиваться друг с другом, в то время как обмен особями с соседними популяциями в значительной мере затрудне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вида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987280" y="1341360"/>
            <a:ext cx="5638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ВИДА – это признаки, по которым один вид можно отличить от другог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т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914400"/>
            <a:ext cx="266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928960" y="685800"/>
            <a:ext cx="60357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уществовании морфологических признаков, характерных для одного вида, но отсутствующих у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45_183"/>
          <p:cNvPicPr/>
          <p:nvPr/>
        </p:nvPicPr>
        <p:blipFill>
          <a:blip r:embed="rId1"/>
          <a:stretch/>
        </p:blipFill>
        <p:spPr>
          <a:xfrm>
            <a:off x="4140360" y="2708280"/>
            <a:ext cx="3421080" cy="3298680"/>
          </a:xfrm>
          <a:prstGeom prst="rect">
            <a:avLst/>
          </a:prstGeom>
          <a:ln w="19080">
            <a:solidFill>
              <a:srgbClr val="dbf5f9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78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245736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ществую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иды-двойн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6" descr="i?id=40698598&amp;tov=4"/>
          <p:cNvPicPr/>
          <p:nvPr/>
        </p:nvPicPr>
        <p:blipFill>
          <a:blip r:embed="rId1"/>
          <a:stretch/>
        </p:blipFill>
        <p:spPr>
          <a:xfrm>
            <a:off x="5500800" y="2928960"/>
            <a:ext cx="3446280" cy="338616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1" name="Picture 4" descr="i?id=9041691&amp;tov=7"/>
          <p:cNvPicPr/>
          <p:nvPr/>
        </p:nvPicPr>
        <p:blipFill>
          <a:blip r:embed="rId2"/>
          <a:stretch/>
        </p:blipFill>
        <p:spPr>
          <a:xfrm>
            <a:off x="3000240" y="642960"/>
            <a:ext cx="2857680" cy="285732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298764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а-журчалка и 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928960" y="685800"/>
            <a:ext cx="58341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каждый вид занимает определенную территорию (или акваторию) – географический ареа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10" descr="Картинка 1 из 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21000"/>
            <a:ext cx="3024360" cy="21434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6" name="Picture 8" descr="Картинка 1 из 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708280"/>
            <a:ext cx="3024000" cy="212868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5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одном ареале могут жить особи разных видо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реал распространения серебристой чайки и клуши-хохотунь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Documents and Settings\USER\Рабочий стол\урок\рисунки\ареал чайки.jpg"/>
          <p:cNvPicPr/>
          <p:nvPr/>
        </p:nvPicPr>
        <p:blipFill>
          <a:blip r:embed="rId1"/>
          <a:stretch/>
        </p:blipFill>
        <p:spPr>
          <a:xfrm>
            <a:off x="3000240" y="571680"/>
            <a:ext cx="5929560" cy="58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4T16:06:17Z</dcterms:modified>
  <cp:revision>68</cp:revision>
  <dc:subject/>
  <dc:title>PowerPoint Presentation</dc:title>
</cp:coreProperties>
</file>