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E3D4E-5B5A-40AC-A389-88E7C2233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9B8E5-6E03-4D1D-BADF-C7D9E2602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09084-9490-45B9-87E5-ADAE096BA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74BFF-9F57-4292-8977-3B1193DF2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7C546-7C74-4331-8C73-B4456EDA2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32EC3-D146-4BB1-856E-4C5C1C02E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97965-9D4C-4E45-80BD-BFCBE51C6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EA736-4585-4D2F-BA0A-4C561A2AF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4F0B6-63FE-4F21-9DCC-20F6A0785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02178-CC80-4475-9352-73117823E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3F06E-DE02-4323-AA3B-423824D0F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2710D-212B-4416-9EDB-CD16AA19C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71C31-4C8D-40BF-88FE-5E2DB20BB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97E45-9285-4695-ABBE-60C230760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6797B-A1AC-4F7C-8BBC-2EFA2D6C6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316A0-D989-4EA0-AA21-FBDBA3379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8FA15-3AE4-4B1E-966E-EC0E23926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67E15-AAF2-4E54-8115-D3B91D55E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6EF88-E190-41FE-A828-7857F6B1B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A0543-5196-4384-8126-37E6D1079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9610F-D48B-4EAA-8EEF-B67B4D315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262C5-575E-4F46-B3C2-67D92F657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0AA88-CAC4-411F-8457-C0E228F69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A42AD-EC55-42DD-93E1-4F7764215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Рисунок 7" descr="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724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38C96-AC8D-4F53-8895-8F4D177AF9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Рисунок 7" descr="10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724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ABC49-8143-4808-8B49-A3DE8402B5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79280" y="4437000"/>
            <a:ext cx="594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СООБЩЕСТВО. ЭКОСИСТЕМА. БИОГЕЦЕНОЗ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/>
          <p:nvPr/>
        </p:nvSpPr>
        <p:spPr>
          <a:xfrm>
            <a:off x="2411280" y="333360"/>
            <a:ext cx="3961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9900"/>
                </a:solidFill>
                <a:latin typeface="Times New Roman"/>
              </a:rPr>
              <a:t>… </a:t>
            </a:r>
            <a:r>
              <a:rPr b="1" lang="ru-RU" sz="1800" spc="-1" strike="noStrike">
                <a:solidFill>
                  <a:srgbClr val="009900"/>
                </a:solidFill>
                <a:latin typeface="Times New Roman"/>
              </a:rPr>
              <a:t>Поля и пестрые цветы,</a:t>
            </a:r>
            <a:br>
              <a:rPr sz="1800"/>
            </a:br>
            <a:r>
              <a:rPr b="1" lang="ru-RU" sz="1800" spc="-1" strike="noStrike">
                <a:solidFill>
                  <a:srgbClr val="009900"/>
                </a:solidFill>
                <a:latin typeface="Times New Roman"/>
              </a:rPr>
              <a:t>И с гор струящиеся воды – </a:t>
            </a:r>
            <a:br>
              <a:rPr sz="1800"/>
            </a:br>
            <a:r>
              <a:rPr b="1" lang="ru-RU" sz="1800" spc="-1" strike="noStrike">
                <a:solidFill>
                  <a:srgbClr val="009900"/>
                </a:solidFill>
                <a:latin typeface="Times New Roman"/>
              </a:rPr>
              <a:t>Отдельно взятые черты</a:t>
            </a:r>
            <a:br>
              <a:rPr sz="1800"/>
            </a:br>
            <a:r>
              <a:rPr b="1" lang="ru-RU" sz="1800" spc="-1" strike="noStrike">
                <a:solidFill>
                  <a:srgbClr val="009900"/>
                </a:solidFill>
                <a:latin typeface="Times New Roman"/>
              </a:rPr>
              <a:t>Всецельно дышащей природы:</a:t>
            </a:r>
            <a:br>
              <a:rPr sz="1800"/>
            </a:br>
            <a:r>
              <a:rPr b="1" lang="ru-RU" sz="1800" spc="-1" strike="noStrike">
                <a:solidFill>
                  <a:srgbClr val="009900"/>
                </a:solidFill>
                <a:latin typeface="Times New Roman"/>
              </a:rPr>
              <a:t>Какая вас связала нить,</a:t>
            </a:r>
            <a:br>
              <a:rPr sz="1800"/>
            </a:br>
            <a:r>
              <a:rPr b="1" lang="ru-RU" sz="1800" spc="-1" strike="noStrike">
                <a:solidFill>
                  <a:srgbClr val="009900"/>
                </a:solidFill>
                <a:latin typeface="Times New Roman"/>
              </a:rPr>
              <a:t>Одна другой светлей и краше?</a:t>
            </a:r>
            <a:br>
              <a:rPr sz="1800"/>
            </a:br>
            <a:r>
              <a:rPr b="1" lang="ru-RU" sz="1800" spc="-1" strike="noStrike">
                <a:solidFill>
                  <a:srgbClr val="009900"/>
                </a:solidFill>
                <a:latin typeface="Times New Roman"/>
              </a:rPr>
              <a:t>Каким законом объяснить </a:t>
            </a:r>
            <a:br>
              <a:rPr sz="1800"/>
            </a:br>
            <a:r>
              <a:rPr b="1" lang="ru-RU" sz="1800" spc="-1" strike="noStrike">
                <a:solidFill>
                  <a:srgbClr val="009900"/>
                </a:solidFill>
                <a:latin typeface="Times New Roman"/>
              </a:rPr>
              <a:t>Родство таинственное наше?</a:t>
            </a:r>
            <a:br>
              <a:rPr sz="1800"/>
            </a:br>
            <a:r>
              <a:rPr b="1" lang="ru-RU" sz="1800" spc="-1" strike="noStrike">
                <a:solidFill>
                  <a:srgbClr val="009900"/>
                </a:solidFill>
                <a:latin typeface="Times New Roman"/>
              </a:rPr>
              <a:t>                                          А. Толстой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79280" y="2276640"/>
            <a:ext cx="698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Что объединяет различные организмы, жизнь которых проходит на одной территории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/>
          <p:nvPr/>
        </p:nvSpPr>
        <p:spPr>
          <a:xfrm>
            <a:off x="755640" y="105264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ВОПРОС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/>
          <p:nvPr/>
        </p:nvSpPr>
        <p:spPr>
          <a:xfrm>
            <a:off x="179280" y="3429000"/>
            <a:ext cx="6985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очему воздействие, оказываемое на один или несколько видов растений или животных, часто приводит к нарушениям условий жизни всех остальных элементов сообщества организмов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2556000" y="692280"/>
            <a:ext cx="482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Times New Roman"/>
              </a:rPr>
              <a:t>СООБЩЕСТВО (БИОЦЕНОЗ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2492280"/>
            <a:ext cx="604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/>
          <p:nvPr/>
        </p:nvSpPr>
        <p:spPr>
          <a:xfrm>
            <a:off x="179280" y="1989000"/>
            <a:ext cx="6985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овокупность видов растений и животных, длительное время сосуществующих в определенном пространстве и представляющих собой определенное экологическое единство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/>
          <p:nvPr/>
        </p:nvSpPr>
        <p:spPr>
          <a:xfrm>
            <a:off x="755640" y="105264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ПОНЯТИ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" descr="&amp;Bcy;&amp;icy;&amp;ocy;&amp;tscy;&amp;icy;&amp;ncy;&amp;ocy;&amp;zcy; &amp;pcy;&amp;rcy;&amp;ucy;&amp;dcy;&amp;acy;"/>
          <p:cNvPicPr/>
          <p:nvPr/>
        </p:nvPicPr>
        <p:blipFill>
          <a:blip r:embed="rId1"/>
          <a:stretch/>
        </p:blipFill>
        <p:spPr>
          <a:xfrm>
            <a:off x="179280" y="3573360"/>
            <a:ext cx="3267360" cy="280980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&amp;Bcy;&amp;icy;&amp;ocy;&amp;tscy;&amp;icy;&amp;ncy;&amp;ocy;&amp;zcy; &amp;dcy;&amp;ucy;&amp;bcy;&amp;rcy;&amp;acy;&amp;vcy;&amp;ycy;"/>
          <p:cNvPicPr/>
          <p:nvPr/>
        </p:nvPicPr>
        <p:blipFill>
          <a:blip r:embed="rId2"/>
          <a:stretch/>
        </p:blipFill>
        <p:spPr>
          <a:xfrm>
            <a:off x="3492360" y="3573360"/>
            <a:ext cx="3097440" cy="2799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2556000" y="692280"/>
            <a:ext cx="482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Times New Roman"/>
              </a:rPr>
              <a:t>СООБЩЕСТВО (БИОЦЕНОЗ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/>
          <p:nvPr/>
        </p:nvSpPr>
        <p:spPr>
          <a:xfrm>
            <a:off x="468360" y="2492280"/>
            <a:ext cx="604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/>
          <p:nvPr/>
        </p:nvSpPr>
        <p:spPr>
          <a:xfrm>
            <a:off x="179280" y="1916280"/>
            <a:ext cx="7272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Название «биоценоз» ввел в науку немецкий ученый Карл Мебиус в 1877 г. Изучая, как увеличить продуктивность устричного хозяйства на отмелях Северного моря, он обнаружил, что устрицы образуют вместе с другими видами морских животных тесные сообщества, которые приурочены к определенному грунту, солености и температуре воды. В этих сообществах происходит борьба за существование и регуляция численности видов, поэтому их продуктивность имеет пределы. Отсюда следовал практический вывод: «Если желательно увеличить число животных и растений против того, что имеется в естественных сообществах, то следует защитить яйца и молодь от врагов, дать им необходимую пищу и достаточное пространство. Это имеет место при искусственном разведении устриц, в рыболовстве, в лесном, полевом и садовом хозяйстве. В них мы имеем дело с искусственными жизненными сообществами, в которых важным фактором является работа человеческой мысли и работа рук»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/>
          <p:nvPr/>
        </p:nvSpPr>
        <p:spPr>
          <a:xfrm>
            <a:off x="468360" y="1052640"/>
            <a:ext cx="216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ДОПОЛНИТЕЛЬНАЯ ИНФОРМАЦИ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" descr="&amp;Kcy;. &amp;Mcy;&amp;iecy;&amp;bcy;&amp;icy;&amp;ucy;&amp;scy; (1825 - 1908)"/>
          <p:cNvPicPr/>
          <p:nvPr/>
        </p:nvPicPr>
        <p:blipFill>
          <a:blip r:embed="rId1"/>
          <a:stretch/>
        </p:blipFill>
        <p:spPr>
          <a:xfrm>
            <a:off x="7308720" y="4724280"/>
            <a:ext cx="1835280" cy="2133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556000" y="981000"/>
            <a:ext cx="48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Times New Roman"/>
              </a:rPr>
              <a:t>ЭКОСИСТЕМ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/>
          <p:nvPr/>
        </p:nvSpPr>
        <p:spPr>
          <a:xfrm>
            <a:off x="468360" y="2492280"/>
            <a:ext cx="604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/>
          <p:nvPr/>
        </p:nvSpPr>
        <p:spPr>
          <a:xfrm>
            <a:off x="179280" y="1989000"/>
            <a:ext cx="698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ообщество живых организмов вместе с физической средой их обитания, объединенные обменов веществ и энергии в единый комплекс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/>
          <p:nvPr/>
        </p:nvSpPr>
        <p:spPr>
          <a:xfrm>
            <a:off x="755640" y="105264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ПОНЯТИ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116000" y="3141720"/>
            <a:ext cx="4270320" cy="32036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2556000" y="981000"/>
            <a:ext cx="48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Times New Roman"/>
              </a:rPr>
              <a:t>БИОГЕОЦЕНОЗ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/>
          <p:nvPr/>
        </p:nvSpPr>
        <p:spPr>
          <a:xfrm>
            <a:off x="468360" y="2492280"/>
            <a:ext cx="604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1844640"/>
            <a:ext cx="7777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днородный участок земной поверхности с определенным составом живых организмов (биоценоз) и определенными условиями среды обитания (биотоп), которые объединены обменом веществ и энергии в единый природный комплекс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/>
          <p:nvPr/>
        </p:nvSpPr>
        <p:spPr>
          <a:xfrm>
            <a:off x="755640" y="105264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ПОНЯТИ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Рисунок 3" descr="3.jpg"/>
          <p:cNvPicPr/>
          <p:nvPr/>
        </p:nvPicPr>
        <p:blipFill>
          <a:blip r:embed="rId1"/>
          <a:srcRect l="16144" t="6176" r="16580" b="4237"/>
          <a:stretch/>
        </p:blipFill>
        <p:spPr>
          <a:xfrm>
            <a:off x="250920" y="3693960"/>
            <a:ext cx="2592360" cy="25876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2556000" y="981000"/>
            <a:ext cx="48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Times New Roman"/>
              </a:rPr>
              <a:t>БИОГЕОЦЕНОЗ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/>
          <p:nvPr/>
        </p:nvSpPr>
        <p:spPr>
          <a:xfrm>
            <a:off x="468360" y="2492280"/>
            <a:ext cx="604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/>
          <p:nvPr/>
        </p:nvSpPr>
        <p:spPr>
          <a:xfrm>
            <a:off x="755640" y="105264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ПРИЗНАК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Рисунок 1" descr="5.jpg"/>
          <p:cNvPicPr/>
          <p:nvPr/>
        </p:nvPicPr>
        <p:blipFill>
          <a:blip r:embed="rId1"/>
          <a:stretch/>
        </p:blipFill>
        <p:spPr>
          <a:xfrm>
            <a:off x="0" y="1844640"/>
            <a:ext cx="5977080" cy="4483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2556000" y="981000"/>
            <a:ext cx="48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Times New Roman"/>
              </a:rPr>
              <a:t>БИОСФЕР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/>
          <p:nvPr/>
        </p:nvSpPr>
        <p:spPr>
          <a:xfrm>
            <a:off x="468360" y="2492280"/>
            <a:ext cx="604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/>
          <p:nvPr/>
        </p:nvSpPr>
        <p:spPr>
          <a:xfrm>
            <a:off x="755640" y="105264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ПОНЯТИ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7309" t="17932" r="9251" b="7674"/>
          <a:stretch/>
        </p:blipFill>
        <p:spPr>
          <a:xfrm>
            <a:off x="1116000" y="1773360"/>
            <a:ext cx="3595680" cy="4537080"/>
          </a:xfrm>
          <a:prstGeom prst="rect">
            <a:avLst/>
          </a:prstGeom>
          <a:ln w="9360">
            <a:solidFill>
              <a:srgbClr val="003300"/>
            </a:solidFill>
            <a:miter/>
          </a:ln>
        </p:spPr>
      </p:pic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468360" y="2492280"/>
            <a:ext cx="604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1844640"/>
            <a:ext cx="7705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Конструируя лесополосы, парки, сады и т.п. , человек подбирает только небольшое число основных видов. В природных биоценозах видов во много раз больше. Значит ли это, что мы не можем создавать устойчивые сообщества?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. Могут ли в настоящее время сохраниться биоценозы, не подверженные никаким антропогенным воздействиям?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. Как можно использовать опушечный эффект при планировании сельскохозяйственных угодий?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4. При удалении какого-либо вида из биоценоза остальные занимают его место, повышают численность и выполняют его роль. Зачем тогда заботиться о сохранении видового разнообразия сообществ?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5. Существуют ли в природе неустойчивые сообщества? 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/>
          <p:nvPr/>
        </p:nvSpPr>
        <p:spPr>
          <a:xfrm>
            <a:off x="611280" y="907920"/>
            <a:ext cx="17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ТЕМЫ ДИСКУССИ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3T15:51:40Z</dcterms:created>
  <dc:creator>Admin</dc:creator>
  <dc:description/>
  <dc:language>en-US</dc:language>
  <cp:lastModifiedBy>Admin</cp:lastModifiedBy>
  <dcterms:modified xsi:type="dcterms:W3CDTF">2013-03-04T16:10:26Z</dcterms:modified>
  <cp:revision>19</cp:revision>
  <dc:subject/>
  <dc:title>Слайд 1</dc:title>
</cp:coreProperties>
</file>