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FF8-A7A5-44F6-ACCC-0CB30BED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AC2-192E-4665-BB46-8D588D4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EBE-2574-448D-9317-EBF8117D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678-6965-47FD-8718-5D946632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2AC-C3DF-49B6-921F-0ADC00F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843-97F5-4AAA-BA6F-509908CE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A24-12E8-4EA0-8C37-F9138E4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299-667C-4D46-9EFE-C3826B4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0B1-D39C-4AB8-A35D-65C95FE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ED8-7385-48B0-BF92-15EA9B5A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A46-3AA4-4034-8393-5ED8FA3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268-953A-4DB9-98DF-E83D812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857C-C5A0-434B-AED1-9D5452344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www.zoofirma.ru//plugins/content/relatedThumbArticles/timthumb.php?src=images/knigi/0994/035.jpg&amp;w=300&amp;h=200&amp;zc=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ОСТАВ И СТРУКТУРА СООБ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504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 обитающих в сообществе видов и соотношение их численности определя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овую структуру сооб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овой состав сообщества определяется рядом факторов: географическое местоположение, особенности климата и рельефа местности, высота над уровнем моря, водный режим, возраст сообществ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В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2415" t="24538" r="15295" b="44664"/>
          <a:stretch/>
        </p:blipFill>
        <p:spPr>
          <a:xfrm>
            <a:off x="5292720" y="2205000"/>
            <a:ext cx="367344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7848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ные типы внешнего строения организмов, возникшие как приспособления к условиям местообитания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ми форм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ор жизненных форм, их соотношение определя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фологическ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, по которой судят о его принадлежности к тому или иному т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РФОЛОГИЧЕСКА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27_06" descr="http://rusanova.nm.ru/tablica/27_06.jpg"/>
          <p:cNvPicPr/>
          <p:nvPr/>
        </p:nvPicPr>
        <p:blipFill>
          <a:blip r:embed="rId2"/>
          <a:srcRect l="2579" t="26468" r="3208" b="5167"/>
          <a:stretch/>
        </p:blipFill>
        <p:spPr>
          <a:xfrm>
            <a:off x="3795840" y="4132440"/>
            <a:ext cx="5348160" cy="272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285264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е жизненные формы определенным образом пространственно обособлены друг от друга, образу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транственн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50799" t="28852" r="23002" b="40351"/>
          <a:stretch/>
        </p:blipFill>
        <p:spPr>
          <a:xfrm>
            <a:off x="4859280" y="2133720"/>
            <a:ext cx="388944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Admin</cp:lastModifiedBy>
  <dcterms:modified xsi:type="dcterms:W3CDTF">2013-03-04T16:24:44Z</dcterms:modified>
  <cp:revision>35</cp:revision>
  <dc:subject/>
  <dc:title>Презентация PowerPoint</dc:title>
</cp:coreProperties>
</file>