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4.png" ContentType="image/png"/>
  <Override PartName="/ppt/media/image17.gif" ContentType="image/gif"/>
  <Override PartName="/ppt/media/image3.png" ContentType="image/png"/>
  <Override PartName="/ppt/media/image15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13.gif" ContentType="image/gi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49F-98E6-4DBE-83CA-E1133263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656-7900-4372-8921-5B379C17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856-A11D-498D-AB11-128EBA86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136-F20A-462F-8434-A15FBCAF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DFEA-AB42-4931-B775-D3212C2F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BA07-97DD-4DD2-BA28-D7BA9CEA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7212-6072-4893-B77E-C8168A30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7D08-A681-48B3-843F-BEB69E29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BA87-326B-4D70-A2EB-F1409EAA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79F1-ADA3-4740-A55F-C9FC2919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CB4E-02B4-4E0C-A629-896C30E5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F09-CF4F-4D66-97E0-8F76C192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051D-8F01-4676-BF11-71D54D02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5780-ACC7-4D28-BA0E-35C3674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066C-DAA3-49AE-9BDD-54E98591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1DF6-9E73-4107-8813-64328A5D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5CA7-E5E6-41D3-A485-FF0C38FF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77B-98C3-4BBA-A7A9-082AB005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4CD-0E7B-40A8-AE85-B2E09D8C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BC4-22DB-4216-B499-7C404ABB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FD7-3D9C-4A62-B9CD-6E971BA7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3F2-79C6-4B9B-A664-53393DE8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B1E-00FD-4A5F-8E2F-DB0EB7F6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BC8-E19A-44B1-B958-AD296931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279E-7EFA-4E09-BF69-0DBEFB45E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 rot="20256000">
            <a:off x="7619760" y="5791320"/>
            <a:ext cx="1218960" cy="79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0320" y="990720"/>
            <a:ext cx="137160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1360" y="990720"/>
            <a:ext cx="1371600" cy="1295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92400" y="990720"/>
            <a:ext cx="1371600" cy="1295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86400" y="988920"/>
            <a:ext cx="1371600" cy="1295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3280" y="979560"/>
            <a:ext cx="1371600" cy="1295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88080" y="992160"/>
            <a:ext cx="1371600" cy="1295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467480" y="5181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1EAF-0715-4524-A404-0B57989D1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07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ОФИЧЕСКАЯ СТРУКТУРА СООБ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15400" y="4017600"/>
            <a:ext cx="61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ы в биогеоценозе приспособ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 к другу настолько, что их сооб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тавляет системное ц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ы пищевых цепей, начинающиеся с фотосинтезирующих организмов, носят названи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стбищных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и цепей выедан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 пищевых цепей, начинающихся с отмерших остатков растений, трупов и экскрементов животных, относят к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тритным пищевым цепя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епям разложен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на основе анализа текста, постройте пищевые цепи, состоящую из организмов, упомянутых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лиганы-воробьишки – превосходные вори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 зерно лишь подавай – поуменьшат урож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т китайцы подсчитали, сколько зерен потер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издали свой декрет – воробьев свести на н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били всех подряд, ждут – каков же результ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ачалу, в самом деле, закрома их пополн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потом пришла беда – отворяйте воро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 посевы, урожай насекомые сож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х в таком большом числе прежде не было ниг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азалось, воробьята не едят совсем зерна-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 родители с полей тащут мошек и 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ло тут властям понятно – надо птиц вернуть об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пришлось им воробьев из чужих вести кр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все с плеча рубить, можно дело загуби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на основе анализа текста, постройте пищевые цепи, состоящую из организмов, упомянутых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3683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у что же, подведем балан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б в стихотво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косистему юный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четливей уви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а система пот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 в ней по форме стр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обходимый всем проду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дет своей доро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кто системе служи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ивет себе, не туж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2600" y="3492720"/>
            <a:ext cx="3592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т на зеленый стебел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дится пестрый мотыле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ил нектар со всех цве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опылил – и в путь г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тут попался – Боже мой!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завтрак птице луг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у нее гнездо в тр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куча птенчиков в гнез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уж, конечно, их по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итание траве 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ЫЙ МОЗГОВОЙ ШТУР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Задача Чарльза Дарв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4652640"/>
            <a:ext cx="5219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какая существует связь между числом старых дев, проживающих в Англии, и удоем коров (количеством молока, которое дают коровы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5080" y="1700280"/>
            <a:ext cx="3054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нажды англич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метили, что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тет пшеница гуще 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де проживает больше д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чтенных старых ле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то больше всех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ботятся о кошках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58640" y="1773360"/>
            <a:ext cx="337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умай-ка немножк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от загадка реш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 у ловкого ко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ышей переловил дав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мыши что едят? – Зе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почку разглядишь не с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то наука есть и разум.      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М. Х. Левитман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57760" y="5084640"/>
            <a:ext cx="348624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ЫЙ МОЗГОВОЙ ШТУР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Задача Чарльза Дарв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059200"/>
            <a:ext cx="78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Постройте пищевые цепи на основе текста решения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07520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как вы думаете, какое значение имеют пищевые сети в природе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§ 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550px-9_5_22_5" descr="&amp;Scy;&amp;tcy;&amp;rcy;&amp;ucy;&amp;kcy;&amp;tcy;&amp;ucy;&amp;rcy;&amp;acy; &amp;dcy;&amp;vcy;&amp;ucy;&amp;khcy; &amp;tcy;&amp;icy;&amp;pcy;&amp;ocy;&amp;vcy; &amp;scy;&amp;ocy;&amp;ocy;&amp;bcy;&amp;shchcy;&amp;iecy;&amp;scy;&amp;tcy;&amp;vcy;"/>
          <p:cNvPicPr/>
          <p:nvPr/>
        </p:nvPicPr>
        <p:blipFill>
          <a:blip r:embed="rId1"/>
          <a:stretch/>
        </p:blipFill>
        <p:spPr>
          <a:xfrm>
            <a:off x="5292720" y="1413000"/>
            <a:ext cx="3381480" cy="411480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468360" y="2133720"/>
            <a:ext cx="4402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проанализируйте рис. 63 стр. 156 и выявите различия и сходства надземной и водной эко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195640" y="2060640"/>
            <a:ext cx="54007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на уроке было глав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было интерес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вы узнали новог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му вы научи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242100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403380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386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 является важным показателем разнообразия условий жизни организмов в сообще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765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ие факторы увеличивают видовое разнообразие в сообще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1337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ие свойства сообщества характеризуют разнообразие ви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ПОСОБЫ ПИТАНИЯ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197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вт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119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кс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88000" y="1197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тер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191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ем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9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т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708280"/>
            <a:ext cx="1513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лор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поро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2637000"/>
            <a:ext cx="151272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трифици-р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к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3141720"/>
            <a:ext cx="15127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вглена зеле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ос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1916280"/>
            <a:ext cx="18000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втотроф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тер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036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62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852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2349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2349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протро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раз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450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ищ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авоя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2492280"/>
            <a:ext cx="1513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ждевой чер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к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4365720"/>
            <a:ext cx="187164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уберкулез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ут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5229360"/>
            <a:ext cx="1513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373720"/>
            <a:ext cx="1512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8508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2276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1628640"/>
            <a:ext cx="0" cy="201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4149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156360" y="1628640"/>
            <a:ext cx="720720" cy="273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5013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32000" y="1628640"/>
            <a:ext cx="1655640" cy="3024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5157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45440" cy="466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2997000"/>
            <a:ext cx="843588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, что означает стрелка между редуцентами и продуцен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ет ли энергия передаваться по замкнутому кру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произойдёт, если Солнце перестанет существ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114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ищевая цеп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это последовательность организмов, в которой каждый из них съедает или разлагает друг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ждое звено пищевой цепи называют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офическим уровн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1008000" cy="78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1727280" cy="1943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0920" y="4797360"/>
            <a:ext cx="122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4797360"/>
            <a:ext cx="1225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ИЩЕВЫЕ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аяц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ол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к розового кус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л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ожья коров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ау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комоядная пт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ищная п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960" y="465192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что объединяет эти цеп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ИЩЕВЫЕ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стовая подстил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ждевой черв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черный дроз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стреб-перепеля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ртвое животно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личинки падальных му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травяная лягуш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обыкновенный у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скременты животных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уки-навозник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т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832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чем они принципиально отличаются от цепей первой группы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7632720" cy="5340240"/>
          </a:xfrm>
          <a:prstGeom prst="rect">
            <a:avLst/>
          </a:prstGeom>
          <a:ln w="6480">
            <a:solidFill>
              <a:srgbClr val="c0c0c0"/>
            </a:solidFill>
            <a:miter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4:27:13Z</dcterms:created>
  <dc:creator>Admin</dc:creator>
  <dc:description/>
  <dc:language>en-US</dc:language>
  <cp:lastModifiedBy>Admin</cp:lastModifiedBy>
  <dcterms:modified xsi:type="dcterms:W3CDTF">2013-03-16T03:43:27Z</dcterms:modified>
  <cp:revision>49</cp:revision>
  <dc:subject>биолог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