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C66-FA03-46FE-872C-1B13617D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455-4759-485F-8B5F-1DCE604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49C-2775-464C-A8A9-80C4F0D8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57B-1248-4C4A-A4B2-51255E0F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E398-B0AE-49D6-9ECB-58FF45B8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B0B-18FD-411E-A153-04724E5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89C-7F3C-41C5-B85D-CE83333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871-1D2B-4AEB-8DD3-189A051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60D-45C5-452B-A96A-30430242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1F49-37C3-43DA-8C69-540A1B3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65F-FD19-43A6-9604-8D9C31A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E29-6B53-4A69-BF9A-AA795BE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667D-921F-4756-BA0C-2E6E346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442B-921F-449D-B434-946C1EE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480-EBA0-4267-B225-E7A969B5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45B-F2E7-4CDA-AE43-6BF6504E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32C-4ACC-42B4-A775-6F1F7AE7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9AB-3AAD-4D52-B44D-D5C1CF18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A3E-6296-4B0F-AE43-A2DC93F7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283-8BAC-4179-AA64-B9983A6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280-6ACE-4CF8-B20D-F31452C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B72-5FAD-4AA2-AF58-C1983D0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85A-7D80-4342-ABDA-382DD23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11D-3CA3-41D5-ADE5-8C639AF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B514-CF3F-4484-8BB3-3EE3FADBCC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EFF-5B42-4DE0-8ECD-3D261D8C95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5e25"/>
                </a:solidFill>
                <a:latin typeface="Times New Roman"/>
              </a:rPr>
              <a:t>ПОТОКИ ВЕЩЕСТВА И ЭНЕРГИИ В ЭКОСИСТЕМЕ</a:t>
            </a:r>
            <a:endParaRPr b="1" lang="en-US" sz="44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867920"/>
            <a:ext cx="59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нергия не возникает из ничего и не превращается ни во что, но из одного вида может превратиться в другое и передаваться от одного тела другому»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20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разных пищевых цепей в лесном (озерном, степном) сообществах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2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происходят при переходе с одного трофического уровня на другой?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РОТ ВЕЩЕСТВ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3516" t="24519" r="12520" b="41248"/>
          <a:stretch/>
        </p:blipFill>
        <p:spPr>
          <a:xfrm>
            <a:off x="395280" y="1484280"/>
            <a:ext cx="464328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ЭНЕРГИИ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1" descr="10.jpg"/>
          <p:cNvPicPr/>
          <p:nvPr/>
        </p:nvPicPr>
        <p:blipFill>
          <a:blip r:embed="rId1"/>
          <a:srcRect l="1978" t="0" r="1775" b="4429"/>
          <a:stretch/>
        </p:blipFill>
        <p:spPr>
          <a:xfrm>
            <a:off x="4356000" y="2997360"/>
            <a:ext cx="4579920" cy="3409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557360"/>
            <a:ext cx="63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общее число трофических уровней редко превышает три – четыре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13000"/>
            <a:ext cx="396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и энергии при переходе с одного трофического уровня на другой определяют количество этих уровней и соотношение численности хищников и жертв. Подсчитано, что на любой трофический уровень поступает лишь около 10% энергии предыдущего уровня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84596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АМИДЫ ЧИСЛЕННОСТИ И БИОМАС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численность отдельных организмов на каждом уровне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9746" t="27618" r="41811" b="35423"/>
          <a:stretch/>
        </p:blipFill>
        <p:spPr>
          <a:xfrm>
            <a:off x="4932360" y="3290760"/>
            <a:ext cx="399240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365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экологической пирамиды: чем выше уровень, тем ниже общая биомасса и численность составляющих ее организмов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биомасс – соотношение масс организмов разных трофических уровней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8964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ЕРНУТ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в природе появляются перевернутые пирамиды численности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60224" t="27618" r="14383" b="35423"/>
          <a:stretch/>
        </p:blipFill>
        <p:spPr>
          <a:xfrm>
            <a:off x="179280" y="119700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38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только плотность организмов на каждом трофическом уровне, но не скорость самообразования организмов, поэтому пирамиды могут быть перевернутыми, т.е. плотность организмов в данный конкретный момент времени на низком трофическом уровне может быть ниже, чем плотность организмов на высоком уровне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5:31:11Z</dcterms:created>
  <dc:creator>Admin</dc:creator>
  <dc:description/>
  <dc:language>en-US</dc:language>
  <cp:lastModifiedBy>Admin</cp:lastModifiedBy>
  <dcterms:modified xsi:type="dcterms:W3CDTF">2013-03-04T16:07:43Z</dcterms:modified>
  <cp:revision>12</cp:revision>
  <dc:subject>урок</dc:subject>
  <dc:title>Слайд 1</dc:title>
</cp:coreProperties>
</file>