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F5D-FC57-4AF7-AC0F-98AA3F3E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314-E5CA-47EF-9EED-E26B774F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279-13EE-440C-8921-54D12E6C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F87-F886-4E56-B10E-A45AC134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F7CE-4812-40C2-8F70-D94574C8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9772-F65E-4A22-9E9A-22B2EA29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BF67-6D33-41FA-8022-A72F30F1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B030-9AE2-4B56-A87C-4B47B9AF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FC12-BE2D-45F4-8DF3-07C9757D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78F6-C86C-4614-AEE3-B292946A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F1EF-04C4-4559-B8FC-B105A723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062-D819-4F8F-A05E-AB970204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04F9-83B1-42F8-8B03-D5391A06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603C-B9FC-4B9F-8B8F-745533F0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2519-0D07-4EA0-8B7F-E57D7C0D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B10E-C45A-453B-937E-3917727E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DFC3-97CD-43E5-895B-BCC1B51C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EF4-F2FA-49E4-B17C-6E514A05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13F-FC6B-4892-BEA3-8D4A5884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AB9-F4CA-480C-8AFB-1202DE58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C11-1D68-4669-A2EA-D1F928B9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EBB-16ED-4B4F-9C6B-6FE828E3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CD8-A461-4CE9-8B48-6DCABE85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B4D-4B5C-4332-B63C-D5B03B67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AEA5-6EB7-441F-BB33-29CD0C0E0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B520-E7A1-4CD3-B337-1D27CC857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4437000"/>
            <a:ext cx="59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ОБЩЕСТВО. ЭКОСИСТЕМА. БИОГЕЦЕ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333360"/>
            <a:ext cx="39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Поля и пестрые цветы,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И с гор струящиеся воды – 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Отдельно взятые черты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Всецельно дышащей природы: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Какая вас связала нить,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Одна другой светлей и краше?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Каким законом объяснить 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Родство таинственное наше?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                                          А. Толст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2276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объединяет различные организмы, жизнь которых проходит на одной территор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му воздействие, оказываемое на один или несколько видов растений или животных, часто приводит к нарушениям условий жизни всех остальных элементов сообщества организм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6000" y="692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ООБЩЕСТВО (БИОЦЕНО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989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окупность видов растений и животных, длительное время сосуществующих в определенном пространстве и представляющих собой определенное экологическое един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&amp;Bcy;&amp;icy;&amp;ocy;&amp;tscy;&amp;icy;&amp;ncy;&amp;ocy;&amp;zcy; &amp;pcy;&amp;rcy;&amp;ucy;&amp;dcy;&amp;acy;"/>
          <p:cNvPicPr/>
          <p:nvPr/>
        </p:nvPicPr>
        <p:blipFill>
          <a:blip r:embed="rId1"/>
          <a:stretch/>
        </p:blipFill>
        <p:spPr>
          <a:xfrm>
            <a:off x="179280" y="3573360"/>
            <a:ext cx="3267360" cy="280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&amp;Bcy;&amp;icy;&amp;ocy;&amp;tscy;&amp;icy;&amp;ncy;&amp;ocy;&amp;zcy; &amp;dcy;&amp;ucy;&amp;bcy;&amp;rcy;&amp;acy;&amp;vcy;&amp;ycy;"/>
          <p:cNvPicPr/>
          <p:nvPr/>
        </p:nvPicPr>
        <p:blipFill>
          <a:blip r:embed="rId2"/>
          <a:stretch/>
        </p:blipFill>
        <p:spPr>
          <a:xfrm>
            <a:off x="3492360" y="3573360"/>
            <a:ext cx="3097440" cy="279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56000" y="692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ООБЩЕСТВО (БИОЦЕНО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916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звание «биоценоз» ввел в науку немецкий ученый Карл Мебиус в 1877 г. Изучая, как увеличить продуктивность устричного хозяйства на отмелях Северного моря, он обнаружил, что устрицы образуют вместе с другими видами морских животных тесные сообщества, которые приурочены к определенному грунту, солености и температуре воды. В этих сообществах происходит борьба за существование и регуляция численности видов, поэтому их продуктивность имеет пределы. Отсюда следовал практический вывод: «Если желательно увеличить число животных и растений против того, что имеется в естественных сообществах, то следует защитить яйца и молодь от врагов, дать им необходимую пищу и достаточное пространство. Это имеет место при искусственном разведении устриц, в рыболовстве, в лесном, полевом и садовом хозяйстве. В них мы имеем дело с искусственными жизненными сообществами, в которых важным фактором является работа человеческой мысли и работа рук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05264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ПОЛНИТЕЛЬНАЯ ИНФОРМ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&amp;Kcy;. &amp;Mcy;&amp;iecy;&amp;bcy;&amp;icy;&amp;ucy;&amp;scy; (1825 - 1908)"/>
          <p:cNvPicPr/>
          <p:nvPr/>
        </p:nvPicPr>
        <p:blipFill>
          <a:blip r:embed="rId1"/>
          <a:stretch/>
        </p:blipFill>
        <p:spPr>
          <a:xfrm>
            <a:off x="7308720" y="4724280"/>
            <a:ext cx="18352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ЭКО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989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общество живых организмов вместе с физической средой их обитания, объединенные обменов веществ и энергии в единый комплек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270320" cy="320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ГЕОЦЕН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44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ородный участок земной поверхности с определенным составом живых организмов (биоценоз) и определенными условиями среды обитания (биотоп), которые объединены обменом веществ и энергии в единый природный комплек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3.jpg"/>
          <p:cNvPicPr/>
          <p:nvPr/>
        </p:nvPicPr>
        <p:blipFill>
          <a:blip r:embed="rId1"/>
          <a:srcRect l="16144" t="6176" r="16580" b="4237"/>
          <a:stretch/>
        </p:blipFill>
        <p:spPr>
          <a:xfrm>
            <a:off x="250920" y="3693960"/>
            <a:ext cx="2592360" cy="258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ГЕОЦЕН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" descr="5.jpg"/>
          <p:cNvPicPr/>
          <p:nvPr/>
        </p:nvPicPr>
        <p:blipFill>
          <a:blip r:embed="rId1"/>
          <a:stretch/>
        </p:blipFill>
        <p:spPr>
          <a:xfrm>
            <a:off x="0" y="184464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СФ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7309" t="17932" r="9251" b="7674"/>
          <a:stretch/>
        </p:blipFill>
        <p:spPr>
          <a:xfrm>
            <a:off x="1116000" y="1773360"/>
            <a:ext cx="3595680" cy="45370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4464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струируя лесополосы, парки, сады и т.п. , человек подбирает только небольшое число основных видов. В природных биоценозах видов во много раз больше. Значит ли это, что мы не можем создавать устойчивые сообществ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Могут ли в настоящее время сохраниться биоценозы, не подверженные никаким антропогенным воздействиям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Как можно использовать опушечный эффект при планировании сельскохозяйственных угоди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При удалении какого-либо вида из биоценоза остальные занимают его место, повышают численность и выполняют его роль. Зачем тогда заботиться о сохранении видового разнообразия сообществ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Существуют ли в природе неустойчивые сообщества?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9079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ЕМЫ ДИСКУСС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5:51:40Z</dcterms:created>
  <dc:creator>Admin</dc:creator>
  <dc:description/>
  <dc:language>en-US</dc:language>
  <cp:lastModifiedBy>Admin</cp:lastModifiedBy>
  <dcterms:modified xsi:type="dcterms:W3CDTF">2013-03-04T16:10:26Z</dcterms:modified>
  <cp:revision>19</cp:revision>
  <dc:subject/>
  <dc:title>Слайд 1</dc:title>
</cp:coreProperties>
</file>