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16F2-C3FE-4861-967C-30A871B7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0840" y="400032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2DEE-8B17-4FC6-BB4A-66535626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16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5162-06E3-4312-923D-0A065522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692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336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084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692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336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E36F-593C-49A2-8E7E-1D1D7120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06D2-4E32-49D9-B356-F59208F16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CD93-E682-4328-A72E-852E49FF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ECCE-0451-4250-90D8-4FF8425B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3882-F150-4DC2-B829-E22A75AB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0456-6009-4922-BFF5-54552CFF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912680" y="269640"/>
            <a:ext cx="6975000" cy="478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A57A-8C68-4E6C-B13A-BADD9FDD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D73C-F9FA-4287-AA00-6C6B5493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872A-144A-452D-9330-F5C1C76B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16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F44A-585B-48C4-B1B1-2681CD15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DEA3-85EE-4F58-ACF3-0E274BD3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840" y="400032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E301-3571-47EE-8190-353747B4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16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51F6-005C-4611-A2EA-C6A96A268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692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336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084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692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336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9CBC-D420-4E67-9BF9-270590F1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AC583-5EC6-41F9-A088-4EFF94A3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8D29C-37AD-4D03-BB18-115BA441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E7A43-B02B-43D6-BAB8-260D68AF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3EB7E-055F-4EB4-BB4F-25AAF37F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BCAD1-E4BE-40C3-A927-D6E1D1F9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FDA5-8D6A-4DEB-81AA-8C22F5FE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912680" y="269640"/>
            <a:ext cx="6975000" cy="478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B273A-1D35-4F1F-AF97-31E1B029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3B9BA-82CF-4BD1-B341-8F428A43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316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7E552-B6EB-46B5-8C0E-2CD64EC4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A6ECF-19BE-4AFF-AF1F-FE8D2946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0840" y="400032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6FFB4-71B3-4EF4-BA29-A0281246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316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290CB-81D2-4011-9107-3A1F6263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5692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0336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1084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5692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0336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86D5F-B989-4222-9073-401003A6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BAB4-57D0-43E6-9AAA-10E5E583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2602-53D3-4D56-81B3-38C621BB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12680" y="269640"/>
            <a:ext cx="6975000" cy="478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BC3D-4D2B-4FAB-8D95-0C18F572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9882-B95D-4784-BB67-DE303F7F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16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0B7A-47DE-440C-8292-3D16494B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5396-076B-4E9D-A89A-E0B22806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56FB-D63A-47A3-96BB-82A0EE0B85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Блок-схема: задержка 6"/>
          <p:cNvSpPr/>
          <p:nvPr/>
        </p:nvSpPr>
        <p:spPr>
          <a:xfrm>
            <a:off x="142920" y="142920"/>
            <a:ext cx="1714320" cy="1357200"/>
          </a:xfrm>
          <a:prstGeom prst="flowChartDelay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Рисунок 7" descr="7d246940b435.png"/>
          <p:cNvPicPr/>
          <p:nvPr/>
        </p:nvPicPr>
        <p:blipFill>
          <a:blip r:embed="rId2"/>
          <a:stretch/>
        </p:blipFill>
        <p:spPr>
          <a:xfrm>
            <a:off x="285840" y="214200"/>
            <a:ext cx="1247760" cy="120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CBC2-4AA4-4452-8E36-53FC2A12FD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F028-D7A7-4407-9167-390D1E758F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2920" y="2492280"/>
            <a:ext cx="7629120" cy="1326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ba42c"/>
                </a:solidFill>
                <a:latin typeface="Times New Roman"/>
              </a:rPr>
              <a:t>ЭКОЛОГИЧЕСКАЯ СУКЦЕССИЯ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9520" y="279360"/>
            <a:ext cx="8488800" cy="121212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ВОЙСТВА СУКЦЕССИОННЫХ ИЗМЕНЕНИ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74760" y="1824480"/>
            <a:ext cx="8358840" cy="230112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исходит снижение скорости прироста биомассы сообщества (продукции сообщества) и в увеличении количества энергии, требуемой для поддержания его жизни. Это наиболее важное явление сукцессии. На ранних стадиях первичной сукцессии скорость прироста биомассы растениями высока, но на последующих стадиях она падает.</a:t>
            </a:r>
            <a:endParaRPr b="1" lang="en-US" sz="2400" spc="-1" strike="noStrike">
              <a:solidFill>
                <a:srgbClr val="00b050"/>
              </a:solidFill>
              <a:latin typeface="Calibri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rcRect l="6220" t="19528" r="5827" b="16273"/>
          <a:stretch/>
        </p:blipFill>
        <p:spPr>
          <a:xfrm>
            <a:off x="2484360" y="4437000"/>
            <a:ext cx="3936960" cy="21560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871880" y="2289240"/>
            <a:ext cx="3647880" cy="155880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b05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то произойдёт с сообществом  при постепенном зарастании озера?</a:t>
            </a:r>
            <a:endParaRPr b="1" lang="en-US" sz="2400" spc="-1" strike="noStrike">
              <a:solidFill>
                <a:srgbClr val="00b050"/>
              </a:solidFill>
              <a:latin typeface="Calibri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rcRect l="2288" t="0" r="824" b="0"/>
          <a:stretch/>
        </p:blipFill>
        <p:spPr>
          <a:xfrm>
            <a:off x="179280" y="333360"/>
            <a:ext cx="4445280" cy="61214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5158080" y="630720"/>
            <a:ext cx="3363120" cy="285984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b05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смотря на то, что биогеоценозы являются устойчивыми и саморегулирующимися системами, происходит постепенная смена менее устойчивых биогеоценозов на более устойчивые. </a:t>
            </a:r>
            <a:endParaRPr b="1" lang="en-US" sz="2000" spc="-1" strike="noStrike">
              <a:solidFill>
                <a:srgbClr val="00b050"/>
              </a:solidFill>
              <a:latin typeface="Calibri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681800" cy="3511800"/>
          </a:xfrm>
          <a:prstGeom prst="rect">
            <a:avLst/>
          </a:prstGeom>
          <a:ln w="9360">
            <a:solidFill>
              <a:srgbClr val="11895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250920" y="4365720"/>
            <a:ext cx="8713800" cy="1584360"/>
          </a:xfrm>
          <a:prstGeom prst="roundRect">
            <a:avLst>
              <a:gd name="adj" fmla="val 16667"/>
            </a:avLst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следовательная смена одних сообществ другими на определенной территории носит названи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кологической сукцесси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912680" y="269640"/>
            <a:ext cx="6975000" cy="103140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РВИЧНАЯ СУКЦЕССИ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61080" y="1675440"/>
            <a:ext cx="8421840" cy="139104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b05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кцессия, которая начинается на абсолютно лишенном жизни месте, называетс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вично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b050"/>
              </a:solidFill>
              <a:latin typeface="Calibri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2"/>
          <a:srcRect l="0" t="16301" r="0" b="0"/>
          <a:stretch/>
        </p:blipFill>
        <p:spPr>
          <a:xfrm>
            <a:off x="1042920" y="3573360"/>
            <a:ext cx="7020000" cy="2711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912680" y="269640"/>
            <a:ext cx="6975000" cy="103140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ТОРИЧНАЯ СУКЦЕССИ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60720" y="1675440"/>
            <a:ext cx="8456760" cy="139104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b05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сли сообщество развивается на месте, где существовал хорошо развитый биоценоз, то сукцессия буде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торично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b05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403280" y="3429000"/>
            <a:ext cx="6191280" cy="2990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47920" y="268200"/>
            <a:ext cx="8100720" cy="147132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ДОЛЖИТЕЛЬНОСТЬ СУКЦЕССИИ ОПРЕДЕЛЯЕТС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rcRect l="34615" t="30699" r="13370" b="23102"/>
          <a:stretch/>
        </p:blipFill>
        <p:spPr>
          <a:xfrm>
            <a:off x="1042920" y="1989000"/>
            <a:ext cx="712800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39800" y="269640"/>
            <a:ext cx="8147880" cy="103140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ДОЛЖИТЕЛЬНОСТЬ СУКЦЕССИ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95640" y="1710000"/>
            <a:ext cx="8386920" cy="204012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должительность основных стадий вторичной сукцессии в умеренном климате:</a:t>
            </a:r>
            <a:endParaRPr b="1" lang="en-US" sz="1800" spc="-1" strike="noStrike">
              <a:solidFill>
                <a:srgbClr val="00b050"/>
              </a:solidFill>
              <a:latin typeface="Calibri"/>
            </a:endParaRPr>
          </a:p>
          <a:p>
            <a:pPr indent="1857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ервая – травянистая растительность – около 10 лет</a:t>
            </a:r>
            <a:endParaRPr b="1" lang="en-US" sz="1800" spc="-1" strike="noStrike">
              <a:solidFill>
                <a:srgbClr val="00b050"/>
              </a:solidFill>
              <a:latin typeface="Calibri"/>
            </a:endParaRPr>
          </a:p>
          <a:p>
            <a:pPr indent="1857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торая – кустарники – 10-25 лет</a:t>
            </a:r>
            <a:endParaRPr b="1" lang="en-US" sz="1800" spc="-1" strike="noStrike">
              <a:solidFill>
                <a:srgbClr val="00b050"/>
              </a:solidFill>
              <a:latin typeface="Calibri"/>
            </a:endParaRPr>
          </a:p>
          <a:p>
            <a:pPr indent="1857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ретья – лиственные деревья – 25-100 лет</a:t>
            </a:r>
            <a:endParaRPr b="1" lang="en-US" sz="1800" spc="-1" strike="noStrike">
              <a:solidFill>
                <a:srgbClr val="00b050"/>
              </a:solidFill>
              <a:latin typeface="Calibri"/>
            </a:endParaRPr>
          </a:p>
          <a:p>
            <a:pPr indent="1857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четвертая – хвойные деревья – более 100 лет</a:t>
            </a:r>
            <a:endParaRPr b="1" lang="en-US" sz="1800" spc="-1" strike="noStrike">
              <a:solidFill>
                <a:srgbClr val="00b050"/>
              </a:solidFill>
              <a:latin typeface="Calibri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1116000" y="3886200"/>
            <a:ext cx="702000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9520" y="279360"/>
            <a:ext cx="8488800" cy="121212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ВОЙСТВА СУКЦЕССИОННЫХ ИЗМЕНЕНИ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5680" y="1878120"/>
            <a:ext cx="8397000" cy="195012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ы растений и животных в процессе сукцессии непрерывно сменяются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менение видового состава часто определяется соперничеством разных видов за одни и те же пищевые или иные ресурсы; ведь происходящие в ходе сукцессии изменения экосистемы создают благоприятные условия для колонизации сообщества новыми видами.</a:t>
            </a:r>
            <a:endParaRPr b="1" lang="en-US" sz="2400" spc="-1" strike="noStrike">
              <a:solidFill>
                <a:srgbClr val="00b05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89520" y="279360"/>
            <a:ext cx="8488800" cy="121212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ВОЙСТВА СУКЦЕССИОННЫХ ИЗМЕНЕНИ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36240" y="1785600"/>
            <a:ext cx="8435880" cy="158580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05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укцессионные изменения всегда сопровождаются повышением видового богатства, т.е. разнообразия организмов.</a:t>
            </a:r>
            <a:endParaRPr b="1" lang="en-US" sz="2400" spc="-1" strike="noStrike">
              <a:solidFill>
                <a:srgbClr val="00b050"/>
              </a:solidFill>
              <a:latin typeface="Calibri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250920" y="3860640"/>
            <a:ext cx="8713800" cy="217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9520" y="279360"/>
            <a:ext cx="8488800" cy="121212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ВОЙСТВА СУКЦЕССИОННЫХ ИЗМЕНЕНИ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17160" y="1766520"/>
            <a:ext cx="8474040" cy="123516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исходит увеличение биомассы органического вещества. Население сообщества как бы уплотняется по мере увеличения видового богатства. </a:t>
            </a:r>
            <a:endParaRPr b="1" lang="en-US" sz="2400" spc="-1" strike="noStrike">
              <a:solidFill>
                <a:srgbClr val="00b05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06:29:43Z</dcterms:created>
  <dc:creator>Admin</dc:creator>
  <dc:description/>
  <dc:language>en-US</dc:language>
  <cp:lastModifiedBy>Admin</cp:lastModifiedBy>
  <dcterms:modified xsi:type="dcterms:W3CDTF">2013-03-10T14:10:21Z</dcterms:modified>
  <cp:revision>28</cp:revision>
  <dc:subject/>
  <dc:title>Слайд 1</dc:title>
</cp:coreProperties>
</file>