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069-D49B-486E-85B8-3ECC00D0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801-9CD6-467E-99F9-AF6B4403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D69-A5AD-4FA3-801E-60E3693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8A9-F43A-45F8-A096-BD13BE49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411-A083-4A61-A418-75240769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81C4-F3E8-4FC9-8AC3-8778C00C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7A3B-BA17-49EC-9059-9FDFB29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EB4-46EC-4CEE-B4EF-31579A0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237-7225-4E78-941E-4FB3C8C8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E1A6-951D-405D-8814-F369E0E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FA4-52DF-4684-908F-AEDA93A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76F-9F36-4FDA-B2E8-AE23D2DF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9D5-BDCE-4857-B566-4429F2E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9FAB-EA14-4FE0-A699-8F873C2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D75-48F6-4C6A-B382-51FE39E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F8F-0138-4A8F-A6B5-349535AC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5A7B-75CC-4FB4-A523-4DDAC8E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CB2-EE5D-4693-9271-BFA817E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882-7720-4446-AFAA-C12254B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F68-B69D-439D-A9BA-D9D944E4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AD5-8BE8-4AF2-B23B-E5716B6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937-51C8-496E-BE54-F90C243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7E6-344E-4468-AC14-3F0DF2B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830-6879-401B-A886-BE34BC0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62F-EF20-4EDB-B153-CC6399E0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"/>
            <p:cNvSpPr/>
            <p:nvPr/>
          </p:nvSpPr>
          <p:spPr>
            <a:xfrm>
              <a:off x="442440" y="190800"/>
              <a:ext cx="1603440" cy="6930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90800"/>
              <a:ext cx="1363680" cy="6994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7000" y="190800"/>
              <a:ext cx="1492920" cy="8470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8400" y="306360"/>
              <a:ext cx="82908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9440" y="498600"/>
              <a:ext cx="331560" cy="2307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960" y="782640"/>
              <a:ext cx="465480" cy="37044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63960" y="758520"/>
              <a:ext cx="244080" cy="5486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92920" y="190800"/>
              <a:ext cx="552600" cy="6544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5960" y="344880"/>
              <a:ext cx="1105560" cy="6544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2" name=""/>
            <p:cNvSpPr/>
            <p:nvPr/>
          </p:nvSpPr>
          <p:spPr>
            <a:xfrm>
              <a:off x="341280" y="291240"/>
              <a:ext cx="2308680" cy="112608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20" y="478800"/>
              <a:ext cx="1194120" cy="1000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" y="666360"/>
              <a:ext cx="795960" cy="687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8920" y="791640"/>
              <a:ext cx="477360" cy="3751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252800"/>
              <a:ext cx="669960" cy="602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213920"/>
              <a:ext cx="351360" cy="891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360" y="291240"/>
              <a:ext cx="79560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56160" y="541440"/>
              <a:ext cx="159192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160" y="228600"/>
              <a:ext cx="1353240" cy="100080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7600" y="979200"/>
              <a:ext cx="143280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1D86-45EB-4CF8-9659-B934FF28A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8;&#1080;&#1090;&#1077;&#1088;&#1080;&#1080;%20&#1074;&#1080;&#1076;&#1072;.ppt" TargetMode="External"/><Relationship Id="rId2" Type="http://schemas.openxmlformats.org/officeDocument/2006/relationships/hyperlink" Target="file:///&#1069;&#1082;&#1086;&#1083;&#1086;&#1075;&#1080;&#1095;&#1077;&#1089;&#1082;&#1080;&#1077;%20&#1092;&#1072;&#1082;&#1090;&#1086;&#1088;&#1099;.pptx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8;&#1086;&#1092;&#1080;&#1095;&#1077;&#1089;&#1082;&#1072;&#1103;%20&#1089;&#1090;&#1088;&#1091;&#1082;&#1090;&#1091;&#1088;&#1072;%20&#1089;&#1086;&#1086;&#1073;&#1097;&#1077;&#1089;&#1090;&#1074;&#1072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0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ела программы по биолог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ганизации жив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066920" y="407628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ООШ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анихин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6453360"/>
            <a:ext cx="403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ижний Новгород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лич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е новообразование подростничества – "чувство взрослости" – отношение подростка к себе как к взрос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самосознания (формирование "Я-концепции" система внутренне согласованных представлений о себе, образов "Я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ичность мышления, склонность к рефлексии, формирование само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 роста, половое созревание, сексуальные переживания, интерес к противополож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возбудимость, неуравновешенность, частая смена на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тное развитие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самоутверждении, в деятельности, имеющий личност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792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/пони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понятий «вид», «критерии вида», «популяция», «экология», «экологический фактор», «сообщество», «экосистема», «биогеоценоз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у разных сооб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при переходе с одного трофического уровня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свойства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смены биоценозов, формирования новых сооб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ировать видовой состав биоценозов; компоненты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отдельные формы взаимоотношений в биоценоз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являть пищевые сети в конкретных условия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траивать цепи и сети питания для разных би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роли продуцентов, консументов и редуц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яснять причины устойчивости и смены эко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вать искусственный и естественный биоцен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среды обитания организмов, экологические факторы (абиотические, биотические, антропоген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ывать роль биологического разнообразия, регулирования численности видов, охраны природных сообществ в сохранении равновесия в би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блюдения правил поведения в природн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ания актуальности проблемы сохранения биологическ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образия видов и сообщест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5832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оддерж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е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692600"/>
            <a:ext cx="21430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е: сообщения, рассказ, беседа, работа с учебником, работа с ученической тетрадью, работа с дидактическими карточками, работа с до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глядные: демонстрация таблиц и картин, педагогический рисунок, биологически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954080" cy="156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ле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-обособ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4432320"/>
            <a:ext cx="35924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ТЕКУЩЕЙ УЧЕБ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изучения нового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формирования и совершенствования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обобщения и систематизации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контроля и коррекции знаний,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бинированн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– основная единица образовательного процесса, четко ограниченная временными рамками (чаще всего 45 мин), планом работы и составом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34136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онно-видовой уровен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068640"/>
            <a:ext cx="84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ид, его критерии. Структура вида. Популяция – форма существования вида. Ла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. Изучение морфологического критерия ви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.1,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3. Экология как наука (записи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Урок 4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Экологические факт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9.1, 9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981000"/>
            <a:ext cx="676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ный уровень (8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9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5. Сообщество, экосистема, биогеоцено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6. Видовое разнообразие сообщества. Морфологическая и пространственн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рофическ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8. Потоки вещества и энергии в экосистеме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9. Продуктивность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50. Экологическая сукцессия. Значение экологической сукцесси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и 51-52. Экскурсия в биогеоценоз (запи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4941720"/>
            <a:ext cx="66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 к комплекту учебников, созданных под руководством В.В.Пасечника/ авт.-сост. Г.М.Пальдяева. – М.: Дрофа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19_small_134492592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05040" cy="4319640"/>
          </a:xfrm>
          <a:prstGeom prst="rect">
            <a:avLst/>
          </a:prstGeom>
          <a:ln w="6480">
            <a:solidFill>
              <a:srgbClr val="99cc00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07120" y="4437000"/>
            <a:ext cx="1798920" cy="217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205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: Биология. 5-11 классы: программы для общеобразовательных учреждений к комплекту учебников, созданных под руководством В.В. Пасечника/ авт.-сост. Г.М. Пальдяева. – М.: Дроф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менский А.А., Криксунов Е.А., Пасечник В.В. Биология. Введение в общую биологию и экологию. 9 класс. – М.: Дрофа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4437000"/>
            <a:ext cx="1895400" cy="212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0600" y="1301760"/>
            <a:ext cx="9023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stiv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фестиваль педагогических идей «Открытый ур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bioword.narod.ru (биологический словарь он-ла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uchportal.ru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ительский по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wikipedi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икипедия – свободная энцикл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charko.narod.ru/tekst/an4/1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овременные образовательные техн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tana.ucoz.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toskay.ucoz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ulitina.3dn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biovaneeva.ucoz.org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7280" y="1844640"/>
            <a:ext cx="7056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: Каменский А.А., Криксунов Е.А., Пасечник В.В. Биология. Введение в общую биологию и экологию. 9 кл. – М.: Дрофа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54520" cy="4392720"/>
          </a:xfrm>
          <a:prstGeom prst="rect">
            <a:avLst/>
          </a:prstGeom>
          <a:ln w="6480">
            <a:solidFill>
              <a:srgbClr val="33cccc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по экологии в курсе биологии 9 класса включают в себе широкий круг понятий, которые можно сгруппировать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сколько бл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– понятия о среде и экологических факторах (например, урок «Экология как наук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 – популяционно-экологические понятия (например, урок «Популяция – форма существования вид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иогеоценозные понятия (например, урок «Видовое разнообразие сообществ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 – социально-экологические понятия (например, урок «Экологические кризисы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щиеся формируют представление об популяционно-видовом и экосистемном уровнях организации живого; продолжают формирование умения логически мыслить, выстраивать причинно-следственные связи, анализировать синтезировать сравнивать и обобщ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15160" y="530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накомятся с сущностью понятий «вид», «популяция», «биоценоз», «биогеоценоз», «экосистема» и «биосфе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акрепляют понятия «экология», «экологические факто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формируют знания об основных закономерностях живых систем, о взаимосвязях организмов и надорганизменных систем с окружающей средой, о круговороте веществ и потоке энергии в биогеоценозе как необходимом условии его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уточняют и закрепляют знания пищевых связей, которые отображают реальный путь круговорот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ся развивают умения синтеза и анализа информации, посредством выделения главных моментов популяционно-видового и экосистемного уровнях организации жи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еники продолжают развивать логическое мышление и умение устанавливать причинно-следственные связи при выяснении условий устойчивости сообществ, влияния экологических условий на орган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чатся выявлять закономерности изменчивости биогеоценозов, основных факторов, которые эти изменения выз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формируют не только знания, но и убеждения в необходимости сохранения ценности и устойчивости эко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беждаются в том, что знания об изменениях в природных биогеоценозах необходимы для их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е особенности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остковый возр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ческий словар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5:10:38Z</dcterms:created>
  <dc:creator>Admin</dc:creator>
  <dc:description/>
  <dc:language>en-US</dc:language>
  <cp:lastModifiedBy>Admin</cp:lastModifiedBy>
  <dcterms:modified xsi:type="dcterms:W3CDTF">2013-04-14T06:02:51Z</dcterms:modified>
  <cp:revision>67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