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7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E22-26E6-4B3C-B2B1-4AB5CC7A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015-B8D6-43D1-A271-249EAE83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DAF-8985-415E-ACE6-3526FF07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60F-3DCE-4A9B-AF1F-10407C4C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C1FE-B12D-4016-A287-26AC26EF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9DBF-2255-41C4-81D4-7C575633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A8EC-0E6C-4F17-B591-66A99535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6DFF-D0FB-4DCB-838A-A6903C14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38AA-9CE0-48A2-8960-18DB7752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4736-6D6C-49C0-9CE4-778E5586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2913-1494-475D-8AA0-3F5561A5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C07-7C96-4A19-BA8C-37A6CD92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0511-9F0A-4B64-A77E-DAB5C084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BD2D-43CE-4F52-B2CD-9CF66B2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5D28-BF4D-4602-85CC-5B557E26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9E23-302B-4087-8565-FD5CFA0F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6773-D1A8-4F72-95A2-E157C11F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E29-8A95-47E1-A038-F86E6479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BB6-EF0E-41F6-9100-6A9575FA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A12-533A-4910-8DAC-CE53EFEF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4BC-6FBA-4502-A427-27611AFE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C45-D1D4-4D8F-AF2E-7C6F01BD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977-136C-4E10-90E2-8E8F7DA3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C33-3D27-441D-B25A-945B14A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7194-D1C2-43E8-BA05-6BE833A7F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"/>
            <p:cNvSpPr/>
            <p:nvPr/>
          </p:nvSpPr>
          <p:spPr>
            <a:xfrm>
              <a:off x="442440" y="190800"/>
              <a:ext cx="1603440" cy="69300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2000" y="169920"/>
              <a:ext cx="595440" cy="12016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190800"/>
              <a:ext cx="1363680" cy="69948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69640" y="442800"/>
              <a:ext cx="1787400" cy="18900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7000" y="190800"/>
              <a:ext cx="1492920" cy="8470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08400" y="306360"/>
              <a:ext cx="829080" cy="615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8560" y="421560"/>
              <a:ext cx="552960" cy="4233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9440" y="498600"/>
              <a:ext cx="331560" cy="2307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63960" y="782640"/>
              <a:ext cx="465480" cy="37044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63960" y="758520"/>
              <a:ext cx="244080" cy="54864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92920" y="190800"/>
              <a:ext cx="552600" cy="6544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5960" y="344880"/>
              <a:ext cx="1105560" cy="6544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31920" y="152280"/>
              <a:ext cx="939600" cy="61596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95400" y="614160"/>
              <a:ext cx="995040" cy="1152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" descr="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2" name=""/>
            <p:cNvSpPr/>
            <p:nvPr/>
          </p:nvSpPr>
          <p:spPr>
            <a:xfrm>
              <a:off x="341280" y="291240"/>
              <a:ext cx="2308680" cy="112608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6520" y="257040"/>
              <a:ext cx="857520" cy="19522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76320" y="291240"/>
              <a:ext cx="1963800" cy="113616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2880" y="700560"/>
              <a:ext cx="2573640" cy="30708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1720" y="291240"/>
              <a:ext cx="2149560" cy="13762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0320" y="478800"/>
              <a:ext cx="1194120" cy="100080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440" y="666360"/>
              <a:ext cx="795960" cy="687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8920" y="791640"/>
              <a:ext cx="477360" cy="3751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252800"/>
              <a:ext cx="669960" cy="60228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213920"/>
              <a:ext cx="351360" cy="89136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4360" y="291240"/>
              <a:ext cx="795600" cy="10630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56160" y="541440"/>
              <a:ext cx="1591920" cy="10630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160" y="228600"/>
              <a:ext cx="1353240" cy="100080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37600" y="979200"/>
              <a:ext cx="1432800" cy="18756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45AF-58AB-49FB-9F1A-15A0677E8D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0;&#1088;&#1080;&#1090;&#1077;&#1088;&#1080;&#1080;%20&#1074;&#1080;&#1076;&#1072;.ppt" TargetMode="External"/><Relationship Id="rId2" Type="http://schemas.openxmlformats.org/officeDocument/2006/relationships/hyperlink" Target="file:///&#1069;&#1082;&#1086;&#1083;&#1086;&#1075;&#1080;&#1095;&#1077;&#1089;&#1082;&#1080;&#1077;%20&#1092;&#1072;&#1082;&#1090;&#1086;&#1088;&#1099;.pptx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8;&#1088;&#1086;&#1092;&#1080;&#1095;&#1077;&#1089;&#1082;&#1072;&#1103;%20&#1089;&#1090;&#1088;&#1091;&#1082;&#1090;&#1091;&#1088;&#1072;%20&#1089;&#1086;&#1086;&#1073;&#1097;&#1077;&#1089;&#1090;&#1074;&#1072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0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ическая разработк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дела программы по биолог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рганизации жив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066920" y="407628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БОУ ООШ №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банихина Мар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6453360"/>
            <a:ext cx="403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Нижний Новгород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обенности личности подро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е новообразование подростничества – "чувство взрослости" – отношение подростка к себе как к взросл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е самосознания (формирование "Я-концепции" система внутренне согласованных представлений о себе, образов "Я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ичность мышления, склонность к рефлексии, формирование само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ности роста, половое созревание, сексуальные переживания, интерес к противоположному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возбудимость, неуравновешенность, частая смена настро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тное развитие волев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ребность в самоутверждении, в деятельности, имеющий личност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2852280"/>
            <a:ext cx="7921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нать/поним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ия понятий «вид», «критерии вида», «популяция», «экология», «экологический фактор», «сообщество», «экосистема», «биогеоценоз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уктуру разных сооб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цессы, происходящие при переходе с одного трофического уровня на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новные свойства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чины смены биоценозов, формирования новых сооб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8930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ировать видовой состав биоценозов; компоненты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делять отдельные формы взаимоотношений в биоценоз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являть пищевые сети в конкретных условиях об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страивать цепи и сети питания для разных би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роли продуцентов, консументов и редуц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ъяснять причины устойчивости и смены экосист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авнивать искусственный и естественный биоцено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среды обитания организмов, экологические факторы (абиотические, биотические, антропоген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ывать роль биологического разнообразия, регулирования численности видов, охраны природных сообществ в сохранении равновесия в би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блюдения правил поведения в природн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ания актуальности проблемы сохранения биологическ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нообразия видов и сообщест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15920"/>
            <a:ext cx="5832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диционная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поддержк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гр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е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4692600"/>
            <a:ext cx="214308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есные: сообщения, рассказ, беседа, работа с учебником, работа с ученической тетрадью, работа с дидактическими карточками, работа с до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глядные: демонстрация таблиц и картин, педагогический рисунок, биологический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954080" cy="156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5483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упп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лек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ивидуально-обособ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48360" y="4432320"/>
            <a:ext cx="359244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Ы ОРГАНИЗАЦИИ ТЕКУЩЕЙ УЧЕБ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изучения нового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формирования и совершенствования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обобщения и систематизации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контроля и коррекции знаний,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бинированный 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484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– основная единица образовательного процесса, четко ограниченная временными рамками (чаще всего 45 мин), планом работы и составом уча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341360"/>
            <a:ext cx="67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пуляционно-видовой уровен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 ч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068640"/>
            <a:ext cx="8424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Вид, его критерии. Структура вида. Популяция – форма существования вида. Ла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. Изучение морфологического критерия ви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.1, 4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3. Экология как наука (записи в тетр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Урок 4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Экологические факторы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9.1, 9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981000"/>
            <a:ext cx="6769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косистемный уровень (8 час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89000"/>
            <a:ext cx="842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5. Сообщество, экосистема, биогеоценоз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6. Видовое разнообразие сообщества. Морфологическая и пространственн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рофическ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8. Потоки вещества и энергии в экосистеме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9. Продуктивность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50. Экологическая сукцессия. Значение экологической сукцессии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и 51-52. Экскурсия в биогеоценоз (запис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340000" y="4941720"/>
            <a:ext cx="662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Ы для общеобразовательных учреждений к комплекту учебников, созданных под руководством В.В.Пасечника/ авт.-сост. Г.М.Пальдяева. – М.: Дрофа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419_small_134492592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705040" cy="4319640"/>
          </a:xfrm>
          <a:prstGeom prst="rect">
            <a:avLst/>
          </a:prstGeom>
          <a:ln w="6480">
            <a:solidFill>
              <a:srgbClr val="99cc00"/>
            </a:solidFill>
            <a:miter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107120" y="4437000"/>
            <a:ext cx="1798920" cy="2171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220500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: Биология. 5-11 классы: программы для общеобразовательных учреждений к комплекту учебников, созданных под руководством В.В. Пасечника/ авт.-сост. Г.М. Пальдяева. – М.: Дрофа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менский А.А., Криксунов Е.А., Пасечник В.В. Биология. Введение в общую биологию и экологию. 9 класс. – М.: Дрофа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Й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969240" y="4437000"/>
            <a:ext cx="1895400" cy="212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0600" y="1301760"/>
            <a:ext cx="90234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stiva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фестиваль педагогических идей «Открытый урок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ww.bioword.narod.ru (биологический словарь он-ла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uchportal.ru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учительский по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wikipedia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икипедия – свободная энциклопе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charko.narod.ru/tekst/an4/1.htm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овременные образовательные техн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tana.ucoz.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otoskay.ucoz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ulitina.3dn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biovaneeva.ucoz.org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187280" y="1844640"/>
            <a:ext cx="7056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835280" y="5157360"/>
            <a:ext cx="698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: Каменский А.А., Криксунов Е.А., Пасечник В.В. Биология. Введение в общую биологию и экологию. 9 кл. – М.: Дрофа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954520" cy="4392720"/>
          </a:xfrm>
          <a:prstGeom prst="rect">
            <a:avLst/>
          </a:prstGeom>
          <a:ln w="6480">
            <a:solidFill>
              <a:srgbClr val="33cccc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ния по экологии в курсе биологии 9 класса включают в себе широкий круг понятий, которые можно сгруппировать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сколько бло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 – понятия о среде и экологических факторах (например, урок «Экология как наук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I – популяционно-экологические понятия (например, урок «Популяция – форма существования вид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биогеоценозные понятия (например, урок «Видовое разнообразие сообществ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 – социально-экологические понятия (например, урок «Экологические кризисы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ащиеся формируют представление об популяционно-видовом и экосистемном уровнях организации живого; продолжают формирование умения логически мыслить, выстраивать причинно-следственные связи, анализировать синтезировать сравнивать и обобщать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15160" y="5300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накомятся с сущностью понятий «вид», «популяция», «биоценоз», «биогеоценоз», «экосистема» и «биосфер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акрепляют понятия «экология», «экологические фактор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формируют знания об основных закономерностях живых систем, о взаимосвязях организмов и надорганизменных систем с окружающей средой, о круговороте веществ и потоке энергии в биогеоценозе как необходимом условии его существ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уточняют и закрепляют знания пищевых связей, которые отображают реальный путь круговорота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учающиеся развивают умения синтеза и анализа информации, посредством выделения главных моментов популяционно-видового и экосистемного уровнях организации жив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еники продолжают развивать логическое мышление и умение устанавливать причинно-следственные связи при выяснении условий устойчивости сообществ, влияния экологических условий на организ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чатся выявлять закономерности изменчивости биогеоценозов, основных факторов, которые эти изменения выз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формируют не только знания, но и убеждения в необходимости сохранения ценности и устойчивости экосис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беждаются в том, что знания об изменениях в природных биогеоценозах необходимы для их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е особенности подростков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ростковый возра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стадия онтогенетического развития между детством и взрослостью (от 11–12 до 16–17 лет), которая характеризуется качественными изменениями, связанными с половым созреванием и вхождением во взрослую жизн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ческий словар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5:10:38Z</dcterms:created>
  <dc:creator>Admin</dc:creator>
  <dc:description/>
  <dc:language>en-US</dc:language>
  <cp:lastModifiedBy>Admin</cp:lastModifiedBy>
  <dcterms:modified xsi:type="dcterms:W3CDTF">2013-04-14T06:02:51Z</dcterms:modified>
  <cp:revision>67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