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1C3A-9850-413A-9BC1-BC7533E41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C535-A264-4759-99CC-36CC4DD6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2262-2B18-4EBE-8234-F4D8F6953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429E-283F-45B6-A5BB-A238A8004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64BF-6C20-445C-B063-848852768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0619-45B9-41DF-9ABF-AE20FF6C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59DD-AB9C-43F1-8686-B1D0EF45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A106-E3E8-4B91-877A-EB227337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C34DB-7D3B-46E0-ACB3-10E786F4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F0A3-3601-4B8E-A117-6162A18E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D2D6-D1BE-41C9-A0E8-533A9DB7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A310-B7FE-4784-ABE7-84D67FF6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689B-4CB0-4392-A76E-4917BD6C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E30FF-8524-443C-8F2B-6859883F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E315-0728-458D-AF7D-E9DFEA41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DAFF-C34A-4839-A1BA-599743C0D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8868-FAB4-401A-B5DA-4A52A5584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49FF2-95B9-4B4B-95FE-0D750EEE5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863BE-338A-4470-8301-13B608C3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CFD24-71F5-4EB9-94A9-08232AA6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0D0BF-B6E7-4A31-BE01-1E731693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28BAD-D021-4DAB-AAFF-E40E1B1A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6B7F-5E48-40CB-8980-0573BE27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C4E76-E615-41BC-B158-50C92C33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F2551-3C13-43CF-BA54-06747D3B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9223A-67D9-460B-97B5-C57ACA9C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EFFA2-FA7D-491F-B98B-9ADF52FB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F8A92-B90A-4DEE-9A69-5C3F57A7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AE18C-5E9B-4E3C-B8C3-C7CE9514E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ACD6D-B279-4A9A-B177-9A3127191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47D0-918A-4EDF-8CC4-3FAD3DF9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842B-6E8F-424F-964E-083CDE5E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E61F-AE68-461E-87F1-BB2F9744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26D5-013D-430F-81DF-A0250519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9AC9-F795-4927-B746-7E056C59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F4C6-6F34-4450-A319-12E53F05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a9337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7ECB-0E7D-4AF6-921F-BDBB92D1314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a9337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4E31-A0CF-4D6A-B409-AF753700677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a9337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1415-458F-4276-95EA-F17A9A7E418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79280" y="404640"/>
            <a:ext cx="662472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76d1d"/>
                </a:solidFill>
                <a:latin typeface="Times New Roman"/>
              </a:rPr>
              <a:t>ПРОДУКТИВНОСТЬ СООБЩЕСТ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684036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ой вклад в образование биомассы планеты вносит Мировой океан?</a:t>
            </a:r>
            <a:endParaRPr b="0" lang="en-US" sz="2400" spc="-1" strike="noStrike">
              <a:solidFill>
                <a:srgbClr val="387026"/>
              </a:solidFill>
              <a:latin typeface="Constanti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3816360" cy="25448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572000" y="3933720"/>
            <a:ext cx="3816360" cy="25844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 чего зависит и как измеряется плодородие сельскохозяйственного участка?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3500280"/>
            <a:ext cx="822960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изменяется плодородие в различных географических зонах Зем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дуктивност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свойство организмов преобразовывать неорганическое вещество в свою биомассу.</a:t>
            </a:r>
            <a:endParaRPr b="0" lang="en-US" sz="24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ДУКТИВНОСТЬ</a:t>
            </a:r>
            <a:endParaRPr b="1" lang="en-US" sz="32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3068640"/>
            <a:ext cx="822960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иомасс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совокупность органического вещества всех организ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ДУКТИВНОСТЬ</a:t>
            </a:r>
            <a:endParaRPr b="1" lang="en-US" sz="32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дуктивность рассчитывается на единицу площади экосистем.</a:t>
            </a:r>
            <a:endParaRPr b="0" lang="en-US" sz="24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2852640"/>
            <a:ext cx="82296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дуктивность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прирост биомассы за единицу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ДУКЦИЯ</a:t>
            </a:r>
            <a:endParaRPr b="1" lang="en-US" sz="32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дукци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общая (суммарная) величина приращения биомассы за единицу времени.</a:t>
            </a:r>
            <a:endParaRPr b="0" lang="en-US" sz="24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2637000"/>
            <a:ext cx="2665440" cy="576000"/>
          </a:xfrm>
          <a:prstGeom prst="rect">
            <a:avLst/>
          </a:prstGeom>
          <a:noFill/>
          <a:ln w="19080">
            <a:solidFill>
              <a:srgbClr val="476d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ДУ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16000" y="3573360"/>
            <a:ext cx="2665440" cy="863640"/>
          </a:xfrm>
          <a:prstGeom prst="rect">
            <a:avLst/>
          </a:prstGeom>
          <a:noFill/>
          <a:ln w="19080">
            <a:solidFill>
              <a:srgbClr val="476d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вичная проду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59280" y="3573360"/>
            <a:ext cx="2665440" cy="863640"/>
          </a:xfrm>
          <a:prstGeom prst="rect">
            <a:avLst/>
          </a:prstGeom>
          <a:noFill/>
          <a:ln w="19080">
            <a:solidFill>
              <a:srgbClr val="476d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торичная проду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5013360"/>
            <a:ext cx="2089080" cy="1297080"/>
          </a:xfrm>
          <a:prstGeom prst="rect">
            <a:avLst/>
          </a:prstGeom>
          <a:noFill/>
          <a:ln w="19080">
            <a:solidFill>
              <a:srgbClr val="476d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ловая первичная проду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00360" y="5013360"/>
            <a:ext cx="2089080" cy="1297080"/>
          </a:xfrm>
          <a:prstGeom prst="rect">
            <a:avLst/>
          </a:prstGeom>
          <a:noFill/>
          <a:ln w="19080">
            <a:solidFill>
              <a:srgbClr val="476d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истая первичная проду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556000" y="3284640"/>
            <a:ext cx="792000" cy="215640"/>
          </a:xfrm>
          <a:prstGeom prst="line">
            <a:avLst/>
          </a:prstGeom>
          <a:ln w="28440">
            <a:solidFill>
              <a:srgbClr val="407d2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96000" y="3284640"/>
            <a:ext cx="792000" cy="215640"/>
          </a:xfrm>
          <a:prstGeom prst="line">
            <a:avLst/>
          </a:prstGeom>
          <a:ln w="28440">
            <a:solidFill>
              <a:srgbClr val="407d2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971640" y="4508640"/>
            <a:ext cx="792000" cy="360360"/>
          </a:xfrm>
          <a:prstGeom prst="line">
            <a:avLst/>
          </a:prstGeom>
          <a:ln w="28440">
            <a:solidFill>
              <a:srgbClr val="407d2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32000" y="4508640"/>
            <a:ext cx="719280" cy="360360"/>
          </a:xfrm>
          <a:prstGeom prst="line">
            <a:avLst/>
          </a:prstGeom>
          <a:ln w="28440">
            <a:solidFill>
              <a:srgbClr val="407d2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ВИЧНАЯ ПРОДУКЦИЯ</a:t>
            </a:r>
            <a:endParaRPr b="1" lang="en-US" sz="32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вичная продукция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масса продуцентов, накопленная в результате фотосинтеза или хемосинтеза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2997360"/>
            <a:ext cx="822960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аловая первичная продукц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вся биомасса, накопленная в результате фотосинте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4076640"/>
            <a:ext cx="82296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истая первичная продукц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фактическая скорость наращивания биомас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ТОРИЧНАЯ ПРОДУКЦИЯ</a:t>
            </a:r>
            <a:endParaRPr b="1" lang="en-US" sz="32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торичная продукци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суммарная биомасса консументов и редуцентов.</a:t>
            </a:r>
            <a:endParaRPr b="0" lang="en-US" sz="2400" spc="-1" strike="noStrike">
              <a:solidFill>
                <a:srgbClr val="387026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684036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каких экосистемах наблюдается наибольшая продуктивность и почему?</a:t>
            </a:r>
            <a:endParaRPr b="0" lang="en-US" sz="2400" spc="-1" strike="noStrike">
              <a:solidFill>
                <a:srgbClr val="387026"/>
              </a:solidFill>
              <a:latin typeface="Constanti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3672000" cy="2522520"/>
          </a:xfrm>
          <a:prstGeom prst="rect">
            <a:avLst/>
          </a:prstGeom>
          <a:ln w="9360">
            <a:solidFill>
              <a:srgbClr val="407d2f"/>
            </a:solidFill>
            <a:miter/>
          </a:ln>
        </p:spPr>
      </p:pic>
      <p:sp>
        <p:nvSpPr>
          <p:cNvPr id="151" name=""/>
          <p:cNvSpPr/>
          <p:nvPr/>
        </p:nvSpPr>
        <p:spPr>
          <a:xfrm>
            <a:off x="1979640" y="3429000"/>
            <a:ext cx="208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ропический л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356000" y="3789360"/>
            <a:ext cx="3672000" cy="2521080"/>
          </a:xfrm>
          <a:prstGeom prst="rect">
            <a:avLst/>
          </a:prstGeom>
          <a:ln w="9360">
            <a:solidFill>
              <a:srgbClr val="407d2f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5364000" y="5877000"/>
            <a:ext cx="2665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ес умеренной з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684036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каких экосистемах наблюдается наименьшая продуктивность и почему?</a:t>
            </a:r>
            <a:endParaRPr b="0" lang="en-US" sz="2400" spc="-1" strike="noStrike">
              <a:solidFill>
                <a:srgbClr val="387026"/>
              </a:solidFill>
              <a:latin typeface="Constanti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3305160" cy="24796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2411280" y="3716280"/>
            <a:ext cx="1222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усты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4427640" y="4076640"/>
            <a:ext cx="3313080" cy="244800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4500720" y="4149720"/>
            <a:ext cx="1079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унд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06:16:55Z</dcterms:created>
  <dc:creator>Admin</dc:creator>
  <dc:description/>
  <dc:language>en-US</dc:language>
  <cp:lastModifiedBy>Admin</cp:lastModifiedBy>
  <dcterms:modified xsi:type="dcterms:W3CDTF">2013-03-04T16:23:46Z</dcterms:modified>
  <cp:revision>17</cp:revision>
  <dc:subject/>
  <dc:title>Слайд 1</dc:title>
</cp:coreProperties>
</file>