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68C-747F-4124-818A-4C7BF61E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775-A181-41A4-B72E-539FAD9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D90-94DE-4FC8-9700-4D568C63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43D-992F-4412-8EA0-BC3DF33D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2992-6BF1-4920-9417-D3B82074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3D53-F72D-479A-9E85-E00D5758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B812-605E-479D-BA18-077184B5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EC50-7F98-4688-AAF1-B97B0913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BF76-405A-40EF-BB97-5E8D4B9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E41-BAA6-43D5-BEA8-372ECBE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F395-345D-4A0F-AB58-EB150CE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DE0-4748-4073-8830-372B981B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343-C4BD-4095-A724-2091DB24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9B3E-7E2E-459E-A9D5-899464D0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026-8F7A-4024-B0BF-1650530C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16DA-765B-45EA-9E4D-C1874200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EC0-48FF-48A7-A223-9F6C6A7B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A22-8F98-4EC5-B747-095A8EBC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0DE-967B-40B2-89DC-76791C7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1A4-CB63-4C9D-AF18-885B2C8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5E9-B337-4C0E-A034-E62D572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4C1-107B-4C86-B8EB-BB8EBC0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C87-033B-4C26-BBCE-F9F77AF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0AB-8ABD-45ED-9EDC-3059598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5F4-E783-4964-8EA4-1CA064C62D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AAC-20E0-42A2-84E6-A3472F014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5e25"/>
                </a:solidFill>
                <a:latin typeface="Times New Roman"/>
              </a:rPr>
              <a:t>ПОТОКИ ВЕЩЕСТВА И ЭНЕРГИИ В ЭКОСИСТЕМЕ</a:t>
            </a:r>
            <a:endParaRPr b="1" lang="en-US" sz="44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867920"/>
            <a:ext cx="59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нергия не возникает из ничего и не превращается ни во что, но из одного вида может превратиться в другое и передаваться от одного тела другому»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20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разных пищевых цепей в лесном (озерном, степном) сообществах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2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происходят при переходе с одного трофического уровня на другой?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РОТ ВЕЩЕСТВ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3516" t="24519" r="12520" b="41248"/>
          <a:stretch/>
        </p:blipFill>
        <p:spPr>
          <a:xfrm>
            <a:off x="395280" y="1484280"/>
            <a:ext cx="464328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ЭНЕРГИИ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1" descr="10.jpg"/>
          <p:cNvPicPr/>
          <p:nvPr/>
        </p:nvPicPr>
        <p:blipFill>
          <a:blip r:embed="rId1"/>
          <a:srcRect l="1978" t="0" r="1775" b="4429"/>
          <a:stretch/>
        </p:blipFill>
        <p:spPr>
          <a:xfrm>
            <a:off x="4356000" y="2997360"/>
            <a:ext cx="4579920" cy="3409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557360"/>
            <a:ext cx="63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общее число трофических уровней редко превышает три – четыре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13000"/>
            <a:ext cx="396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и энергии при переходе с одного трофического уровня на другой определяют количество этих уровней и соотношение численности хищников и жертв. Подсчитано, что на любой трофический уровень поступает лишь около 10% энергии предыдущего уровня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84596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АМИДЫ ЧИСЛЕННОСТИ И БИОМАС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численность отдельных организмов на каждом уровне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9746" t="27618" r="41811" b="35423"/>
          <a:stretch/>
        </p:blipFill>
        <p:spPr>
          <a:xfrm>
            <a:off x="4932360" y="3290760"/>
            <a:ext cx="399240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365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экологической пирамиды: чем выше уровень, тем ниже общая биомасса и численность составляющих ее организмов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биомасс – соотношение масс организмов разных трофических уровней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8964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ЕРНУТ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в природе появляются перевернутые пирамиды численности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60224" t="27618" r="14383" b="35423"/>
          <a:stretch/>
        </p:blipFill>
        <p:spPr>
          <a:xfrm>
            <a:off x="179280" y="119700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38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только плотность организмов на каждом трофическом уровне, но не скорость самообразования организмов, поэтому пирамиды могут быть перевернутыми, т.е. плотность организмов в данный конкретный момент времени на низком трофическом уровне может быть ниже, чем плотность организмов на высоком уровне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5:31:11Z</dcterms:created>
  <dc:creator>Admin</dc:creator>
  <dc:description/>
  <dc:language>en-US</dc:language>
  <cp:lastModifiedBy>Admin</cp:lastModifiedBy>
  <dcterms:modified xsi:type="dcterms:W3CDTF">2013-03-04T16:07:43Z</dcterms:modified>
  <cp:revision>12</cp:revision>
  <dc:subject>урок</dc:subject>
  <dc:title>Слайд 1</dc:title>
</cp:coreProperties>
</file>