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EC3-62FC-40E9-AC87-65412FAD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3F9-C30D-43DB-9BAA-22DD5374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AED-00AD-4CB4-8503-E9F3B3AC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CF8-D462-49A2-8932-FBD97DE6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8B0C-C75D-4EBC-BFBE-587450ED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6FB8-96CD-46BC-998F-7527403A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1B95-7969-42B1-9DB7-7FC3C52F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841F-E33F-4D1A-9812-0BC22DE9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893D-578F-4734-9DA7-184732D4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1D23-9059-4088-8156-6450ADC5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13C0-6BB5-4463-9BF5-DB99C67A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456-B582-4C28-B287-C8FA809D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B7D2-B6D4-48B0-A86F-E74DD5CC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670F-D1F0-4EDF-9DEC-09917D38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BC60-B233-4BA5-80A5-87470301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5F53-9F8A-41D8-A631-BB53BEB9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D149-2913-40B4-9944-890A813C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D874-9088-4334-A4F8-8A2A9B9D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7580-6827-4914-B498-0F3F68A1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0219F-62E9-49B4-B07E-715CC8E2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34102-84FD-4F3E-964B-11F310C1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DF2E-2152-4D50-BE39-A5614498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7F4-94FB-4FEE-88FA-42CF030F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58163-DB56-4D5A-B65C-07749D05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60AC9-A685-4E08-A83A-708AD0F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DC0B-F7A5-4073-8871-ADB6DB36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9439A-87EB-45F5-89CC-D0CA3E1D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DE376-8722-439D-B13C-540707DF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0742-A017-4C63-8CAA-1C80F679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A2C5-2084-4A49-AAA3-349008B5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F9D-C84C-4701-BE8C-2FFA203F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0FD-C6E5-44AF-94C3-D59E4B1B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0A4-22F0-4BA0-B221-66904ECB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699-B44E-4097-A214-057C8D31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1E8-BB41-4544-AE4D-FA78002C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5E0-F28D-4FE0-8AE2-7F903F34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F122-F69A-47E2-B494-31400140A8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3601-9FCE-4930-8C55-C02DA9AF10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B250-D198-4EB2-97F7-5501FD2A8E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404640"/>
            <a:ext cx="6624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76d1d"/>
                </a:solidFill>
                <a:latin typeface="Times New Roman"/>
              </a:rPr>
              <a:t>ПРОДУКТИВНОСТЬ СООБЩ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й вклад в образование биомассы планеты вносит Мировой океан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816360" cy="2544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3933720"/>
            <a:ext cx="3816360" cy="2584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чего зависит и как измеряется плодородие сельскохозяйственного участка?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500280"/>
            <a:ext cx="8229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изменяется плодородие в различных географических зонах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свойство организмов преобразовывать неорганическое вещество в свою биомассу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068640"/>
            <a:ext cx="82296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асс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совокупность органического вещества все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тивность рассчитывается на единицу площади экосистем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85264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тивнос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прирост биомассы за единицу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общая (суммарная) величина приращения биомассы за единицу времени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637000"/>
            <a:ext cx="2665440" cy="57600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3573360"/>
            <a:ext cx="2665440" cy="86364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3573360"/>
            <a:ext cx="2665440" cy="86364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5013360"/>
            <a:ext cx="2089080" cy="129708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овая 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013360"/>
            <a:ext cx="2089080" cy="129708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тая 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56000" y="3284640"/>
            <a:ext cx="792000" cy="21564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3284640"/>
            <a:ext cx="792000" cy="21564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971640" y="4508640"/>
            <a:ext cx="792000" cy="36036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508640"/>
            <a:ext cx="719280" cy="36036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масса продуцентов, накопленная в результате фотосинтеза или хемосинтез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2997360"/>
            <a:ext cx="82296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овая первичная проду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вся биомасса, накопленная в результате фотосинт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07664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тая первичная проду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фактическая скорость наращивания био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ТОРИЧНАЯ 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ая продук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суммарная биомасса консументов и редуцентов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их экосистемах наблюдается наибольшая продуктивность и почему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672000" cy="2522520"/>
          </a:xfrm>
          <a:prstGeom prst="rect">
            <a:avLst/>
          </a:prstGeom>
          <a:ln w="9360">
            <a:solidFill>
              <a:srgbClr val="407d2f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1979640" y="342900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опически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356000" y="3789360"/>
            <a:ext cx="3672000" cy="2521080"/>
          </a:xfrm>
          <a:prstGeom prst="rect">
            <a:avLst/>
          </a:prstGeom>
          <a:ln w="9360">
            <a:solidFill>
              <a:srgbClr val="407d2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5364000" y="5877000"/>
            <a:ext cx="266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с умеренной з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их экосистемах наблюдается наименьшая продуктивность и почему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305160" cy="2479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2411280" y="3716280"/>
            <a:ext cx="12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сты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3313080" cy="2448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4500720" y="4149720"/>
            <a:ext cx="107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нд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16:55Z</dcterms:created>
  <dc:creator>Admin</dc:creator>
  <dc:description/>
  <dc:language>en-US</dc:language>
  <cp:lastModifiedBy>Admin</cp:lastModifiedBy>
  <dcterms:modified xsi:type="dcterms:W3CDTF">2013-03-04T16:23:46Z</dcterms:modified>
  <cp:revision>17</cp:revision>
  <dc:subject/>
  <dc:title>Слайд 1</dc:title>
</cp:coreProperties>
</file>