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811C-FCEF-4BF4-BBD6-F1EADDC6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E726-361C-4621-86CC-04C890E2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A0E8B1-68C4-4981-81C9-3E85E178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C8A7C5-F027-4594-A509-53404A01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20C2C-B8A2-4904-B1E0-AC287310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C248DF-492F-45EF-9E38-A71B2655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73FA0-80B8-4FF8-82A5-DCA71151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817D5D-4AF1-44C9-B5AE-B1B1135E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20CD5-C043-44EA-9AFD-AF13D348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B52F5-B343-4A20-823E-ED3772A0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601DC8-32B3-4E19-9AE5-ABDA41CF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ABBE5-E1BC-427C-9BF1-061E20A9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9095-F4F5-4033-82D4-E4C9B994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BECF10-1011-44A1-B406-EDE3C0F8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DDD26-E733-4C0A-BAE8-9521BE24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6ACFF0-B6DD-4C23-9C66-097F5DB6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1BC27-C5DA-4490-A465-0CB0B538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77330-BDC4-47A1-8506-0848FC77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046DA-D472-4A9D-9C7E-2BEA4817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24037B-ACB0-4B00-9568-A08EDBE5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974CCB-46E5-4BF9-B573-AB3CA031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17C202-23B9-4E3F-9AE1-D947A15C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69D1D-3C31-477B-BA96-EE28F4A4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EF6-BDF8-4526-BFE8-CF2AA0B0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30DFBF-1848-4484-A0E8-732A2372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6C032-88B4-4ACC-B567-3F117444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50385-FD09-4DDB-A2FB-EFECA67A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13E96-F4F5-4E54-86C6-8E2FCA03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ACC2F-B01E-49C4-88A5-5C7BF77F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69E84-DDB2-477E-90CA-5F0F976B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0315F-1ADD-4195-BF1E-84E716A2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52F78-31BA-4CC1-881B-4F3B7E76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A49B1-E005-4522-AA59-1CBCA207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39459-A891-4D94-A930-BC64F240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F6D0-26BC-48F5-9228-E608F8D9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DE583-770A-401F-9836-7F0E033F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078A6-8C24-45E1-A2EB-A29367C0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9B898-BC77-48BE-89A5-8030CE32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B1A4BC-035B-411F-BAD7-77ED2646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C387DF-082B-47E6-9CD9-DEC7BF75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2433B9-D443-4A9F-95A0-1500C09D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A586F-692C-44A5-81A2-ECAE8629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DC710C-724F-4F70-80E8-B301791A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0253E1-DEF6-4DBC-B828-04E4FED3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6C8DA8-15CE-47A2-898C-963CDCB1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BA10-B767-4A6F-894E-D2279C16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CCEAD5-4F3C-4B41-B9ED-CA949E13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B8307-5E2A-4EAB-B268-DDC3DA12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A5152-3423-4E42-961E-4A956D3E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55BB4C-321F-4B8A-AD82-C0707C05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3EDAA4-A90F-41AA-ABFF-18586A43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329F-035E-4A8D-BFC6-CBC42A9F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4856-4279-4CC5-83D7-D09B4468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07CF-B1ED-479F-B026-1D4995FF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20E3-E465-42AB-826C-6E5C045E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23F7-6620-4CB2-ACA5-C8DEDF11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B7A-10A3-4C7A-B6A7-CF4075BA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79E8-909F-4A20-B2B9-EBC2F2B6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E32B-A4D2-44F9-8BD5-E27D6B9D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5B30-D513-48D2-ACBE-D162C6D8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F0F6-DFC2-4172-8BC0-35467137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F55A-9156-4E7F-92FA-52964F42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5A8B1-A8C5-422A-A573-7C7663D4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C1647-2B62-4B19-91D4-96B816CB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3E3E0-21EB-4BC6-B2A9-58665608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2E68D-3282-471C-96EF-3E64A9A4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A87C4-D5F0-4CEA-A450-2CC64F9C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E43-272D-4EA7-993F-FEE12D22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D9CDD-B112-435C-B65E-010D5A66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CBDEB-F1C5-4B19-AF55-E328E2C3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C976D-2A05-438B-95F9-BC8C1B44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F13BE-89D5-42BD-BC3D-5C314BB6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9F6B2-8DE5-4884-BF81-D2E47907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0CAD1-15A7-432E-8065-1B02F669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D6C1E-AF9B-4653-BABA-4959CA8B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43E65-0CD8-41B0-A5BC-0BD1EE2A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99AE8-515C-4AF0-9F43-0D25DEC3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3FEA6-B27F-4161-A343-04511CDE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791E-8661-4661-82ED-3E6BA2AE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900E4-52DB-4124-8757-EC909C6E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3D218-2327-4211-BA33-8B04B362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57559-54A5-41B2-9AC1-0951C802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E8B01-2C6A-4079-AFFC-2C3E1D0D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390F9-E019-457F-8897-DD4B70B1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C3E13-4E21-493D-9EBD-D40DE6CE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DA449-3FEB-44DD-9693-4DC99591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5C6F3-B23E-45EF-8D27-AEF0DBD1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0D5B2-1E11-4831-B101-F2A54892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6B0D5-DF57-4B54-913E-0BD0C5B2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5A27-9E8B-4F77-B366-9319239A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5E790-4E6C-420A-A45F-96BABD1F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D173B-6924-416C-BE39-BB3952A3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63312-F120-4178-9264-D85EB8E9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C548F-9087-48A8-88E4-05BF9E9F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31921-10DE-4D36-9110-67977997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46EC6-B7DB-4870-AD42-FCAF99B8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A066C-8A3F-4347-9D3A-3F37267C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AB1F6-A4D5-43F5-BD33-8DD3A70F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15829-A7AA-4A56-B80F-244073DB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2E448-2BF6-468F-85D1-83AF4DF8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8E3-A438-4F8D-BAD4-89A767AA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F0CB0-D92F-4CCD-AEBE-8E5F8E4F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280F2-E161-41EE-BA30-6B8230E3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0A63D-41EC-4A4E-B734-EE72B5CC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7631D-851F-4216-B9E6-CC3ADD3B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BB1AC-16AD-472E-98A8-19F43D1C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F54D2-CB3A-426A-A197-709CB0DD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DE172-BBCC-4CB7-A0F1-58F23A4C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BD586-954A-4F19-97DF-B5AC3C0D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4D41D-55E5-46CA-A062-6443570B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96EAE-9B67-47B8-8C03-BC2AA71B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6E4-25D1-4EAD-8FD5-2AC23291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4AB85-27E7-4A01-81A1-96181A90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B9DB9-66C7-4B20-9356-A6B4C687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54FA0-325E-4A29-9264-D284E149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F849A-58C5-4600-96CD-4A9E5E74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E5722-BE6D-40DD-B57C-64195F44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29661-FBCB-48F1-AD48-77D0B41C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40E3A-B353-4BEF-ABDD-61999B2A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28D12-4373-4569-B78C-F043B140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D2054-2A01-4CED-AE5B-B766A9F3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BD5ED-16A6-4696-B240-AE64B740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2615-811E-4136-BF54-7A549D8E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551FF-B652-41D6-8619-12FF2C8C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8E09B-5F23-45A4-BCAB-36B6A842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60BA8-ABA6-484D-85FB-FDD89890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C7E96-821F-4BA9-A13A-87983ABF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5EA2C-D556-4704-872C-2FEDA09F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604FA-B48D-4AD5-BA5D-48BE396C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5B7B4-9F3A-4B51-A0F1-9D31FA40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14A45-0B5C-4626-ACD3-EAA3C312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6B1D3-91B2-4E71-A744-60C21CB4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5A3E2-5BF3-4E1F-8FD0-A53491E1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CBF-ED72-45C4-A7E3-B96B0F50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280AF-91D6-450D-B73F-7DE6125F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2C11C-27C7-4A90-92E5-728F1DFD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CA60E-0C3A-4DB7-AA0B-22F8D738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1F56E-A6C0-4787-B906-99D211A8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9C6E8-CD90-4FDE-BDCA-55FAAAC6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A312D-943D-41FA-A86E-8D677BFE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93C42-EC95-4DB3-A541-4FF60C42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D4D670-526B-44F3-93C2-24C4E5AE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538779-E550-417D-8381-4D5643A5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E0EDC-DED4-4ACF-9BF0-DA4B72DC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D77E-5D74-44AC-A95F-A72E28A6CDF9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1039-B941-4595-93C6-C4D8016BE52F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781F-AB71-498A-9C9D-FEA168F5C8AB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6717-80F0-404A-9B34-55FF1D0CB349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1CD1-0D3A-4059-9402-9956E0E5F1EE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D912-854F-4A1A-BDB8-A4D47896C064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E4C4-4E97-4B90-A4B5-DB6548BC414C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38CB-1096-4849-A93B-26D4CA3BDBE0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B568-4E19-40EB-86AB-2CD923EB1BEE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094F-287C-4BEB-907A-745144E4C571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B3A1-0F75-4A0E-BF61-31AA9311D0E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6862-8590-41FC-A99F-69134018CAB7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io.1september.ru/2003/42/11.gif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bio.1september.ru/2003/42/9.gif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3124080" y="685800"/>
            <a:ext cx="563904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ВИД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олог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124080" y="685440"/>
            <a:ext cx="563904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том, что два вида не могут занимать одну экологическую нишу. Следовательно, каждый вид характеризуется своими собственными отношениями со средой обит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Текст 2"/>
          <p:cNvSpPr/>
          <p:nvPr/>
        </p:nvSpPr>
        <p:spPr>
          <a:xfrm>
            <a:off x="250920" y="3357720"/>
            <a:ext cx="252864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соби одного вида могут жить в несколько различающихся условия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дуванчик может расти и в лесу, и на луг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{59CA379D-97F2-428B-889F-896C00A210DC}"/>
          <p:cNvPicPr/>
          <p:nvPr/>
        </p:nvPicPr>
        <p:blipFill>
          <a:blip r:embed="rId1"/>
          <a:stretch/>
        </p:blipFill>
        <p:spPr>
          <a:xfrm>
            <a:off x="5508720" y="3213000"/>
            <a:ext cx="3349440" cy="319104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5840" y="914400"/>
            <a:ext cx="24573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зиолог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24000" y="4292640"/>
            <a:ext cx="24573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сть близкие виды, имеющие сходные процессы жизнедеятельност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132000" y="691920"/>
            <a:ext cx="563904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сходстве процессов жизнедеятельности и возможности получения плодовитого потомства при скрещиван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Picture 3" descr="C:\Documents and Settings\USER\Рабочий стол\урок\рисунки\горбуша.jpg"/>
          <p:cNvPicPr/>
          <p:nvPr/>
        </p:nvPicPr>
        <p:blipFill>
          <a:blip r:embed="rId1"/>
          <a:stretch/>
        </p:blipFill>
        <p:spPr>
          <a:xfrm>
            <a:off x="3059280" y="2276640"/>
            <a:ext cx="4213080" cy="20556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" descr="C:\Documents and Settings\USER\Рабочий стол\урок\рисунки\кета.jpeg"/>
          <p:cNvPicPr/>
          <p:nvPr/>
        </p:nvPicPr>
        <p:blipFill>
          <a:blip r:embed="rId2"/>
          <a:stretch/>
        </p:blipFill>
        <p:spPr>
          <a:xfrm>
            <a:off x="4716360" y="4276800"/>
            <a:ext cx="4213440" cy="208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тор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124080" y="685440"/>
            <a:ext cx="563904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изучении истории вида или группы видов. Этот критерий носит комплексный характер, поскольку включает сравнительный анализ современных ареалов видо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нет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2928960" y="685440"/>
            <a:ext cx="621504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явлении репродуктивной изоляц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buClr>
                <a:srgbClr val="04617b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ные сроки размножен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buClr>
                <a:srgbClr val="04617b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ное устройство половых аппарато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buClr>
                <a:srgbClr val="04617b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оплодотворение произошло, то погибает зародыш или молодой организм рождается нежизнеспособны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buClr>
                <a:srgbClr val="04617b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гибрид жизнеспособен, то он неплодовит (примеры: лошак, мул, хонорик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2" descr="C:\Documents and Settings\USER\Рабочий стол\урок\рисунки\xonorik.jpg"/>
          <p:cNvPicPr/>
          <p:nvPr/>
        </p:nvPicPr>
        <p:blipFill>
          <a:blip r:embed="rId1"/>
          <a:stretch/>
        </p:blipFill>
        <p:spPr>
          <a:xfrm>
            <a:off x="6300720" y="4149720"/>
            <a:ext cx="2397240" cy="2117880"/>
          </a:xfrm>
          <a:prstGeom prst="rect">
            <a:avLst/>
          </a:prstGeom>
          <a:ln w="0">
            <a:noFill/>
          </a:ln>
        </p:spPr>
      </p:pic>
      <p:sp>
        <p:nvSpPr>
          <p:cNvPr id="654" name="Текст 2"/>
          <p:cNvSpPr/>
          <p:nvPr/>
        </p:nvSpPr>
        <p:spPr>
          <a:xfrm>
            <a:off x="179280" y="4005360"/>
            <a:ext cx="26640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Хонорик – гибрид, полученный в результате  скрещивания хорька и европейской но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13840" y="914400"/>
            <a:ext cx="2643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ирование выводов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916000" y="1052640"/>
            <a:ext cx="604836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того, чтобы определить принадлежность особи к какому-то виду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едостаточно одного критер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еобходимо учитывать совокупнос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х критериев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Содержимое 3"/>
          <p:cNvSpPr/>
          <p:nvPr/>
        </p:nvSpPr>
        <p:spPr>
          <a:xfrm>
            <a:off x="2916360" y="2349360"/>
            <a:ext cx="6048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овые критерии, по которым отличается один вид от другого, в совокупности обусловливают генетическую изоляцию видов, обеспечивая самостоятельность каждого вида и разнообразие их в прир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Содержимое 3"/>
          <p:cNvSpPr/>
          <p:nvPr/>
        </p:nvSpPr>
        <p:spPr>
          <a:xfrm>
            <a:off x="2916360" y="4005360"/>
            <a:ext cx="60483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indent="17820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т ни одного видового критерия, который можно было признать абсолютным и универсаль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Содержимое 3"/>
          <p:cNvSpPr/>
          <p:nvPr/>
        </p:nvSpPr>
        <p:spPr>
          <a:xfrm>
            <a:off x="2916360" y="5013360"/>
            <a:ext cx="6048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 представляет собой генетически относительно изолированную систему, что доказывает реальность существования видов в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2737080" cy="15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абораторная работ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Изучение морфологического критерия вида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2842920" y="1341360"/>
            <a:ext cx="604836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: составить морфологическую характеристику двух растений одного рода, сравнить их и сделать вывод о причинах сходства и различ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ОРУДОВАНИЕ: живые растения, гербарные материалы (рисунки как дополнительный источник информации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2737080" cy="15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абораторная работ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Изучение морфологического критерия вида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2987640" y="1125360"/>
          <a:ext cx="5870520" cy="4457880"/>
        </p:xfrm>
        <a:graphic>
          <a:graphicData uri="http://schemas.openxmlformats.org/drawingml/2006/table">
            <a:tbl>
              <a:tblPr/>
              <a:tblGrid>
                <a:gridCol w="3062160"/>
                <a:gridCol w="144000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Е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Е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КОРНЕВОЙ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ые, слож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жилк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ие на стеб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орасполо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Б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янистый, одревесневш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стоячий, стелющийся, цепляющийся, вьющий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ВЕ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тория введения термина «Вид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2643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987640" y="691920"/>
            <a:ext cx="5857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1782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ж. Рей (1686 г.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иболее мелкие совокупности организмов, тождественных морфологически, тождественно размножающихся и дающих потомство, сохраняющее эти свойств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5" descr="33_127_06"/>
          <p:cNvPicPr/>
          <p:nvPr/>
        </p:nvPicPr>
        <p:blipFill>
          <a:blip r:embed="rId1"/>
          <a:stretch/>
        </p:blipFill>
        <p:spPr>
          <a:xfrm>
            <a:off x="285840" y="2000160"/>
            <a:ext cx="2500200" cy="3816360"/>
          </a:xfrm>
          <a:prstGeom prst="rect">
            <a:avLst/>
          </a:prstGeom>
          <a:ln w="28440">
            <a:solidFill>
              <a:srgbClr val="dbf5f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1" name="Picture 6" descr="45_178"/>
          <p:cNvPicPr/>
          <p:nvPr/>
        </p:nvPicPr>
        <p:blipFill>
          <a:blip r:embed="rId2"/>
          <a:stretch/>
        </p:blipFill>
        <p:spPr>
          <a:xfrm>
            <a:off x="250920" y="1989000"/>
            <a:ext cx="2500200" cy="3929040"/>
          </a:xfrm>
          <a:prstGeom prst="rect">
            <a:avLst/>
          </a:prstGeom>
          <a:ln w="28440">
            <a:solidFill>
              <a:srgbClr val="dbf5f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2" name="Picture 5" descr="45_179"/>
          <p:cNvPicPr/>
          <p:nvPr/>
        </p:nvPicPr>
        <p:blipFill>
          <a:blip r:embed="rId3"/>
          <a:stretch/>
        </p:blipFill>
        <p:spPr>
          <a:xfrm>
            <a:off x="250920" y="1989000"/>
            <a:ext cx="2500200" cy="3929040"/>
          </a:xfrm>
          <a:prstGeom prst="rect">
            <a:avLst/>
          </a:prstGeom>
          <a:ln w="28440">
            <a:solidFill>
              <a:srgbClr val="dbf5f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3" name="Picture 5" descr="42_162"/>
          <p:cNvPicPr/>
          <p:nvPr/>
        </p:nvPicPr>
        <p:blipFill>
          <a:blip r:embed="rId4"/>
          <a:stretch/>
        </p:blipFill>
        <p:spPr>
          <a:xfrm>
            <a:off x="250920" y="1989000"/>
            <a:ext cx="2571480" cy="4000680"/>
          </a:xfrm>
          <a:prstGeom prst="rect">
            <a:avLst/>
          </a:prstGeom>
          <a:ln w="19080">
            <a:solidFill>
              <a:srgbClr val="dbf5f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4" name="Picture 10" descr="C:\Documents and Settings\USER\Рабочий стол\урок\mayr_90.JPG"/>
          <p:cNvPicPr/>
          <p:nvPr/>
        </p:nvPicPr>
        <p:blipFill>
          <a:blip r:embed="rId5"/>
          <a:stretch/>
        </p:blipFill>
        <p:spPr>
          <a:xfrm>
            <a:off x="250920" y="1989000"/>
            <a:ext cx="2571480" cy="4071960"/>
          </a:xfrm>
          <a:prstGeom prst="rect">
            <a:avLst/>
          </a:prstGeom>
          <a:ln w="0">
            <a:noFill/>
          </a:ln>
        </p:spPr>
      </p:pic>
      <p:sp>
        <p:nvSpPr>
          <p:cNvPr id="615" name="Содержимое 3"/>
          <p:cNvSpPr/>
          <p:nvPr/>
        </p:nvSpPr>
        <p:spPr>
          <a:xfrm>
            <a:off x="2916360" y="1773360"/>
            <a:ext cx="585792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рл Линней (1735 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жество родственных и сходных по строению организмов, при размножении непрерывно воспроизводящих себе подоб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атривал виды как объективно существующие группы живых организмов, достаточно легко отличимые друг от дру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читал их неизменными, раз и навсегда созданными бог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Содержимое 3"/>
          <p:cNvSpPr/>
          <p:nvPr/>
        </p:nvSpPr>
        <p:spPr>
          <a:xfrm>
            <a:off x="2916360" y="3500280"/>
            <a:ext cx="5857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Ж.Б. Ламарк (1802 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ы постоянно изменяются, эволюционируют, поэтому реально в природе не существу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Содержимое 3"/>
          <p:cNvSpPr/>
          <p:nvPr/>
        </p:nvSpPr>
        <p:spPr>
          <a:xfrm>
            <a:off x="2916360" y="4365720"/>
            <a:ext cx="58579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арльз Дарв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ы реально существуют, но изменяются, т.е. относительно постоянны и являются результатом эволюционного разви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Содержимое 3"/>
          <p:cNvSpPr/>
          <p:nvPr/>
        </p:nvSpPr>
        <p:spPr>
          <a:xfrm>
            <a:off x="2987640" y="5157720"/>
            <a:ext cx="5857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рнст Майр (1942 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иологическая концепция вида: виды определяются не различием, а обособленностью, состоят из популяций, главным свойством вида является репродуктивная изоля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термина «Вид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2987280" y="1557000"/>
            <a:ext cx="59641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 – исторически сложившаяся совокупность особей, обладающих наследственным сходством морфологических, физиологических и биохимических особенностей, свободно скрещивающихся и дающих плодовитое потомство, приспособленных к определенным условиям жизни и занимающих определенный ареа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термина «Популяция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2987280" y="1557000"/>
            <a:ext cx="59641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ПУЛЯЦИЯ - совокупность особей того или иного вида, в течение большого числа поколений населяющих определенное пространство, внутри которого особи могут относительно свободно скрещиваться друг с другом, в то время как обмен особями с соседними популяциями в значительной мере затруднен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терии вида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2987280" y="1341360"/>
            <a:ext cx="56386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ВИДА – это признаки, по которым один вид можно отличить от другого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фолог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иолог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нет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граф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тор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79280" y="914400"/>
            <a:ext cx="266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фолог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2928960" y="685800"/>
            <a:ext cx="603576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существовании морфологических признаков, характерных для одного вида, но отсутствующих у других вид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5" descr="45_183"/>
          <p:cNvPicPr/>
          <p:nvPr/>
        </p:nvPicPr>
        <p:blipFill>
          <a:blip r:embed="rId1"/>
          <a:stretch/>
        </p:blipFill>
        <p:spPr>
          <a:xfrm>
            <a:off x="4140360" y="2708280"/>
            <a:ext cx="3421080" cy="3298680"/>
          </a:xfrm>
          <a:prstGeom prst="rect">
            <a:avLst/>
          </a:prstGeom>
          <a:ln w="19080">
            <a:solidFill>
              <a:srgbClr val="dbf5f9"/>
            </a:solidFill>
            <a:miter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3840" y="914400"/>
            <a:ext cx="2786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фолог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85840" y="1981080"/>
            <a:ext cx="2457360" cy="13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уществуют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иды-двойник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6" descr="i?id=40698598&amp;tov=4"/>
          <p:cNvPicPr/>
          <p:nvPr/>
        </p:nvPicPr>
        <p:blipFill>
          <a:blip r:embed="rId1"/>
          <a:stretch/>
        </p:blipFill>
        <p:spPr>
          <a:xfrm>
            <a:off x="5500800" y="2928960"/>
            <a:ext cx="3446280" cy="338616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  <p:pic>
        <p:nvPicPr>
          <p:cNvPr id="631" name="Picture 4" descr="i?id=9041691&amp;tov=7"/>
          <p:cNvPicPr/>
          <p:nvPr/>
        </p:nvPicPr>
        <p:blipFill>
          <a:blip r:embed="rId2"/>
          <a:stretch/>
        </p:blipFill>
        <p:spPr>
          <a:xfrm>
            <a:off x="3000240" y="642960"/>
            <a:ext cx="2857680" cy="285732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  <p:sp>
        <p:nvSpPr>
          <p:cNvPr id="632" name=""/>
          <p:cNvSpPr/>
          <p:nvPr/>
        </p:nvSpPr>
        <p:spPr>
          <a:xfrm>
            <a:off x="2987640" y="4292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ха-журчалка и 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ограф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2928960" y="685800"/>
            <a:ext cx="583416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том, что каждый вид занимает определенную территорию (или акваторию) – географический ареал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10" descr="Картинка 1 из 3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221000"/>
            <a:ext cx="3024360" cy="214344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  <p:pic>
        <p:nvPicPr>
          <p:cNvPr id="636" name="Picture 8" descr="Картинка 1 из 3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9280" y="2708280"/>
            <a:ext cx="3024000" cy="212868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13840" y="914400"/>
            <a:ext cx="2529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ограф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2643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одном ареале могут жить особи разных видов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ареал распространения серебристой чайки и клуши-хохотунь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Documents and Settings\USER\Рабочий стол\урок\рисунки\ареал чайки.jpg"/>
          <p:cNvPicPr/>
          <p:nvPr/>
        </p:nvPicPr>
        <p:blipFill>
          <a:blip r:embed="rId1"/>
          <a:stretch/>
        </p:blipFill>
        <p:spPr>
          <a:xfrm>
            <a:off x="3000240" y="571680"/>
            <a:ext cx="5929560" cy="5808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04T16:06:17Z</dcterms:modified>
  <cp:revision>68</cp:revision>
  <dc:subject/>
  <dc:title>PowerPoint Presentation</dc:title>
</cp:coreProperties>
</file>