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0302-6CA5-44B9-98E0-BC4A403C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0840" y="400032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4B1-739E-452C-9CA3-1728E533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16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00CD-DF83-4BCF-81AC-F09E0198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692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336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084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692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336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FB33-E154-4153-B78A-C78D2D21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6139-90C8-4E74-9A87-9F42DE77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BAA4-56CB-469D-AC00-6C7BFE91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7BEF-5EFE-417D-9E4E-98470E93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B35E-B12C-4D66-9D61-AA83E9B3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7531-4FC1-4189-A2DA-B560C324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912680" y="269640"/>
            <a:ext cx="6975000" cy="478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AE4A-DA13-466A-80A9-EEBD6901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B0B0-9D90-4BAD-AF7E-22D5263B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7D74-EBD7-48BA-85CD-E8A2A0CE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16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8DD2-9E1E-4FF5-9695-C76FE820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8D6B-F1C2-43F6-8A32-7735599B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840" y="400032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84C9-FCA0-4E7B-8136-87328476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16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02AD-8EA1-468E-A441-55695888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692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336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084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692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336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E9C9-CD88-43CA-859C-3AA53552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C6F30-AB8B-4672-946C-FCBF86A1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DBA8A-AC94-48BA-B34F-F753553A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BD25F-7B55-4663-B9C6-EF9EC9B3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EDD97-4686-496F-8537-0B0D7E4C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401F3-28BE-44AF-B0CD-AC8E8404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3ACF-58AB-465E-B834-A60AF996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912680" y="269640"/>
            <a:ext cx="6975000" cy="478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CB6C1-DF8D-4121-9C37-29477282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A9FE7-777B-4CD6-B229-E01C8C5C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316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A4510-844B-437A-9A31-89C606C9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B3674-FDC9-4577-BAC5-BD8CF19C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0840" y="400032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F3D4F-FE66-4E76-955D-2296A238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316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3D4C0-3A92-41DE-B5DD-D0A2CB88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5692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0336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1084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5692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0336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353C6-65F5-479B-A85D-EF0F2A48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7F41-8F13-4DDC-9719-A62AC5DC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C3D0-0338-4C70-BD1C-A494C4E6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12680" y="269640"/>
            <a:ext cx="6975000" cy="478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F384-BF69-4A76-A2E7-FB7F6027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8BD6-82EF-46EB-8DDD-6F70467B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16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0408-1303-414E-8B3C-4BAB3686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A798-05D6-4395-B091-45AD5022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6F15-58BC-4A1F-B3D6-51538B1AAD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Блок-схема: задержка 6"/>
          <p:cNvSpPr/>
          <p:nvPr/>
        </p:nvSpPr>
        <p:spPr>
          <a:xfrm>
            <a:off x="142920" y="142920"/>
            <a:ext cx="1714320" cy="1357200"/>
          </a:xfrm>
          <a:prstGeom prst="flowChartDelay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Рисунок 7" descr="7d246940b435.png"/>
          <p:cNvPicPr/>
          <p:nvPr/>
        </p:nvPicPr>
        <p:blipFill>
          <a:blip r:embed="rId2"/>
          <a:stretch/>
        </p:blipFill>
        <p:spPr>
          <a:xfrm>
            <a:off x="285840" y="214200"/>
            <a:ext cx="1247760" cy="120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9335-E3F5-4C7B-8449-14DD1A06AB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6491-1997-4551-BF30-D9B71C97B1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2920" y="2492280"/>
            <a:ext cx="7629120" cy="1326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ba42c"/>
                </a:solidFill>
                <a:latin typeface="Times New Roman"/>
              </a:rPr>
              <a:t>ЭКОЛОГИЧЕСКАЯ СУКЦЕССИЯ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9520" y="279360"/>
            <a:ext cx="8488800" cy="121212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ОЙСТВА СУКЦЕССИОННЫХ ИЗМЕНЕН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4760" y="1824480"/>
            <a:ext cx="8358840" cy="230112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исходит снижение скорости прироста биомассы сообщества (продукции сообщества) и в увеличении количества энергии, требуемой для поддержания его жизни. Это наиболее важное явление сукцессии. На ранних стадиях первичной сукцессии скорость прироста биомассы растениями высока, но на последующих стадиях она падает.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rcRect l="6220" t="19528" r="5827" b="16273"/>
          <a:stretch/>
        </p:blipFill>
        <p:spPr>
          <a:xfrm>
            <a:off x="2484360" y="4437000"/>
            <a:ext cx="3936960" cy="21560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871880" y="2289240"/>
            <a:ext cx="3647880" cy="155880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b05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произойдёт с сообществом  при постепенном зарастании озера?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rcRect l="2288" t="0" r="824" b="0"/>
          <a:stretch/>
        </p:blipFill>
        <p:spPr>
          <a:xfrm>
            <a:off x="179280" y="333360"/>
            <a:ext cx="4445280" cy="61214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5158080" y="630720"/>
            <a:ext cx="3363120" cy="285984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b05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смотря на то, что биогеоценозы являются устойчивыми и саморегулирующимися системами, происходит постепенная смена менее устойчивых биогеоценозов на более устойчивые. </a:t>
            </a:r>
            <a:endParaRPr b="1" lang="en-US" sz="20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681800" cy="3511800"/>
          </a:xfrm>
          <a:prstGeom prst="rect">
            <a:avLst/>
          </a:prstGeom>
          <a:ln w="9360">
            <a:solidFill>
              <a:srgbClr val="11895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250920" y="4365720"/>
            <a:ext cx="8713800" cy="1584360"/>
          </a:xfrm>
          <a:prstGeom prst="roundRect">
            <a:avLst>
              <a:gd name="adj" fmla="val 16667"/>
            </a:avLst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ледовательная смена одних сообществ другими на определенной территории носит названи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кологической сукцесси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912680" y="269640"/>
            <a:ext cx="6975000" cy="103140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ВИЧНАЯ СУКЦЕСС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61080" y="1675440"/>
            <a:ext cx="8421840" cy="139104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b05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кцессия, которая начинается на абсолютно лишенном жизни месте, называетс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вично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2"/>
          <a:srcRect l="0" t="16301" r="0" b="0"/>
          <a:stretch/>
        </p:blipFill>
        <p:spPr>
          <a:xfrm>
            <a:off x="1042920" y="3573360"/>
            <a:ext cx="7020000" cy="2711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912680" y="269640"/>
            <a:ext cx="6975000" cy="103140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ТОРИЧНАЯ СУКЦЕСС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60720" y="1675440"/>
            <a:ext cx="8456760" cy="139104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b05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сли сообщество развивается на месте, где существовал хорошо развитый биоценоз, то сукцессия буде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торично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403280" y="3429000"/>
            <a:ext cx="6191280" cy="2990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47920" y="268200"/>
            <a:ext cx="8100720" cy="147132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ДОЛЖИТЕЛЬНОСТЬ СУКЦЕССИИ ОПРЕДЕЛЯЕТС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34615" t="30699" r="13370" b="23102"/>
          <a:stretch/>
        </p:blipFill>
        <p:spPr>
          <a:xfrm>
            <a:off x="1042920" y="1989000"/>
            <a:ext cx="712800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39800" y="269640"/>
            <a:ext cx="8147880" cy="103140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ДОЛЖИТЕЛЬНОСТЬ СУКЦЕССИ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5640" y="1710000"/>
            <a:ext cx="8386920" cy="204012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должительность основных стадий вторичной сукцессии в умеренном климате:</a:t>
            </a:r>
            <a:endParaRPr b="1" lang="en-US" sz="1800" spc="-1" strike="noStrike">
              <a:solidFill>
                <a:srgbClr val="00b050"/>
              </a:solidFill>
              <a:latin typeface="Calibri"/>
            </a:endParaRPr>
          </a:p>
          <a:p>
            <a:pPr indent="1857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ервая – травянистая растительность – около 10 лет</a:t>
            </a:r>
            <a:endParaRPr b="1" lang="en-US" sz="1800" spc="-1" strike="noStrike">
              <a:solidFill>
                <a:srgbClr val="00b050"/>
              </a:solidFill>
              <a:latin typeface="Calibri"/>
            </a:endParaRPr>
          </a:p>
          <a:p>
            <a:pPr indent="1857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торая – кустарники – 10-25 лет</a:t>
            </a:r>
            <a:endParaRPr b="1" lang="en-US" sz="1800" spc="-1" strike="noStrike">
              <a:solidFill>
                <a:srgbClr val="00b050"/>
              </a:solidFill>
              <a:latin typeface="Calibri"/>
            </a:endParaRPr>
          </a:p>
          <a:p>
            <a:pPr indent="1857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ретья – лиственные деревья – 25-100 лет</a:t>
            </a:r>
            <a:endParaRPr b="1" lang="en-US" sz="1800" spc="-1" strike="noStrike">
              <a:solidFill>
                <a:srgbClr val="00b050"/>
              </a:solidFill>
              <a:latin typeface="Calibri"/>
            </a:endParaRPr>
          </a:p>
          <a:p>
            <a:pPr indent="1857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четвертая – хвойные деревья – более 100 лет</a:t>
            </a:r>
            <a:endParaRPr b="1" lang="en-US" sz="18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1116000" y="3886200"/>
            <a:ext cx="70200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9520" y="279360"/>
            <a:ext cx="8488800" cy="121212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ОЙСТВА СУКЦЕССИОННЫХ ИЗМЕНЕН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5680" y="1878120"/>
            <a:ext cx="8397000" cy="195012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ы растений и животных в процессе сукцессии непрерывно сменяются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менение видового состава часто определяется соперничеством разных видов за одни и те же пищевые или иные ресурсы; ведь происходящие в ходе сукцессии изменения экосистемы создают благоприятные условия для колонизации сообщества новыми видами.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89520" y="279360"/>
            <a:ext cx="8488800" cy="121212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ОЙСТВА СУКЦЕССИОННЫХ ИЗМЕНЕН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36240" y="1785600"/>
            <a:ext cx="8435880" cy="158580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кцессионные изменения всегда сопровождаются повышением видового богатства, т.е. разнообразия организмов.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250920" y="3860640"/>
            <a:ext cx="8713800" cy="217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9520" y="279360"/>
            <a:ext cx="8488800" cy="121212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ОЙСТВА СУКЦЕССИОННЫХ ИЗМЕНЕН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7160" y="1766520"/>
            <a:ext cx="8474040" cy="123516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исходит увеличение биомассы органического вещества. Население сообщества как бы уплотняется по мере увеличения видового богатства. 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06:29:43Z</dcterms:created>
  <dc:creator>Admin</dc:creator>
  <dc:description/>
  <dc:language>en-US</dc:language>
  <cp:lastModifiedBy>Admin</cp:lastModifiedBy>
  <dcterms:modified xsi:type="dcterms:W3CDTF">2013-03-10T14:10:21Z</dcterms:modified>
  <cp:revision>28</cp:revision>
  <dc:subject/>
  <dc:title>Слайд 1</dc:title>
</cp:coreProperties>
</file>