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591-F600-4124-BEC9-706ACB6D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4A1-283E-4D5C-848C-67EBF360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79D-2288-4253-AD33-B9B3AB54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3FF-A317-4705-803C-11506820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AB0-CF74-4DD5-A2AE-E535C308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8A6-1BDF-48EE-82EA-0E444BAA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ACB-E3A6-4890-B0D0-13A28D2C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E43-7A0F-4592-BB13-D12B370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7B0-60D3-4CC4-80D7-7B541708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F6C-1EA7-40C5-8994-9C0DC23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744-1952-40E0-809D-5C56A8F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04D-5B90-4E53-935D-C03D6415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5F9-26E5-4CAC-B48F-24C494F2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952560"/>
            <a:ext cx="73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Comic Sans MS"/>
              </a:rPr>
              <a:t>Экология как нау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опия ecology"/>
          <p:cNvPicPr/>
          <p:nvPr/>
        </p:nvPicPr>
        <p:blipFill>
          <a:blip r:embed="rId1"/>
          <a:stretch/>
        </p:blipFill>
        <p:spPr>
          <a:xfrm>
            <a:off x="6227640" y="3213000"/>
            <a:ext cx="2025720" cy="1652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 rot="1091400">
            <a:off x="5866920" y="2997360"/>
            <a:ext cx="26434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03280" y="9810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363920" cy="327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484360" y="5661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692360" y="134136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124000" y="18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5364000" y="2637000"/>
            <a:ext cx="352908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403280" y="2276640"/>
            <a:ext cx="381636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00360" y="4508640"/>
            <a:ext cx="388764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63640" y="3860640"/>
            <a:ext cx="684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30920" y="2997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802560" y="2997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7020000" y="1917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2565360"/>
            <a:ext cx="6840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03280" y="1341360"/>
            <a:ext cx="77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332000" y="83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547640" y="148428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00720" y="3645000"/>
            <a:ext cx="381636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32000" y="9079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42670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1052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5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Admin</cp:lastModifiedBy>
  <dcterms:modified xsi:type="dcterms:W3CDTF">2013-03-04T16:18:06Z</dcterms:modified>
  <cp:revision>18</cp:revision>
  <dc:subject/>
  <dc:title>Экология Рядом!</dc:title>
</cp:coreProperties>
</file>