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gif" ContentType="image/gif"/>
  <Override PartName="/ppt/media/image14.png" ContentType="image/png"/>
  <Override PartName="/ppt/media/image17.gif" ContentType="image/gif"/>
  <Override PartName="/ppt/media/image3.png" ContentType="image/png"/>
  <Override PartName="/ppt/media/image15.gif" ContentType="image/gif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gif" ContentType="image/gif"/>
  <Override PartName="/ppt/media/image13.gif" ContentType="image/gif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23E4-D1DC-4A26-9BD4-D5D645B4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265-61C3-4BD2-A3B6-734D6BF8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804D-DE67-45D7-BF4D-B0A106F7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3EDB-0615-4FA3-A09C-18A53C24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B874-375A-4A80-B455-E2BB61E1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4314-499F-4E34-8D04-FB00698F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ADFB-75B1-4249-9F22-BEF8304E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1E9A-1AF9-4FC2-BECA-67EF6EFE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9169-E0A7-406E-9205-64402B36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DD95-D7A4-4BCA-8826-7E36E59E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6339-E7ED-4730-B170-D40362F0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5905-64E0-4BF4-B747-E4E4AAA5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3377-1E25-4B5C-98F0-A2FA6520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227A-80B8-483A-8E09-ACFAEC3F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A052-532E-4494-9708-8BA915E6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94BF-90C7-4168-BF65-A6500A2C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64CB-9A4A-4B8B-BFE0-5075E478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63AF-636F-48BB-B5C3-6E607754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CF7-726F-4A1A-98D6-9C5464F7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DE97-98DE-4D91-8D29-411C8A31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8A9B-9388-47A9-9D78-929C7BCA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01E2-25EA-4FF8-B1E7-4402CCF6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178F-7E68-4709-A646-EFEDC15F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4BC-44E8-4E03-836A-B7E786B3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A51A-F334-4FF0-88A6-45767B26B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 rot="20256000">
            <a:off x="7619760" y="5791320"/>
            <a:ext cx="1218960" cy="79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0320" y="990720"/>
            <a:ext cx="1371600" cy="1295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11360" y="990720"/>
            <a:ext cx="1371600" cy="1295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92400" y="990720"/>
            <a:ext cx="1371600" cy="1295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86400" y="988920"/>
            <a:ext cx="1371600" cy="1295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3280" y="979560"/>
            <a:ext cx="1371600" cy="12952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88080" y="992160"/>
            <a:ext cx="1371600" cy="12952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7467480" y="5181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BFBB-ACF1-43BF-9075-90670D2FB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07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ОФИЧЕСКАЯ СТРУКТУРА СООБ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15400" y="4017600"/>
            <a:ext cx="616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ды в биогеоценозе приспособл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руг к другу настолько, что их сообще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ставляет системное цел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пы пищевых цепей, начинающиеся с фотосинтезирующих организмов, носят название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астбищных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ли цепей выедани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п пищевых цепей, начинающихся с отмерших остатков растений, трупов и экскрементов животных, относят к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тритным пищевым цепям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цепям разложени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дание: на основе анализа текста, постройте пищевые цепи, состоящую из организмов, упомянутых в тек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улиганы-воробьишки – превосходные вори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 зерно лишь подавай – поуменьшат урож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т китайцы подсчитали, сколько зерен потеря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издали свой декрет – воробьев свести на н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били всех подряд, ждут – каков же результа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началу, в самом деле, закрома их пополн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потом пришла беда – отворяйте ворот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е посевы, урожай насекомые сожр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х в таком большом числе прежде не было ниг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азалось, воробьята не едят совсем зерна-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 родители с полей тащут мошек и черв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ло тут властям понятно – надо птиц вернуть обра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пришлось им воробьев из чужих вести кра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все с плеча рубить, можно дело загубить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дание: на основе анализа текста, постройте пищевые цепи, состоящую из организмов, упомянутых в тек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36831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у что же, подведем балан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тоб в стихотво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косистему юный гл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четливей увид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а система потом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то в ней по форме стро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обходимый всем проду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дет своей дорог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кто системе служи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Живет себе, не туж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22600" y="3492720"/>
            <a:ext cx="3592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т на зеленый стебел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дится пестрый мотыле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пил нектар со всех цве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х опылил – и в путь го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 тут попался – Боже мой!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завтрак птице луг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 у нее гнездо в тра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куча птенчиков в гнез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уж, конечно, их пом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итание траве д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ЧЕБНЫЙ МОЗГОВОЙ ШТУРМ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Задача Чарльза Дарви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4652640"/>
            <a:ext cx="5219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: какая существует связь между числом старых дев, проживающих в Англии, и удоем коров (количеством молока, которое дают коровы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5080" y="1700280"/>
            <a:ext cx="3054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днажды англич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метили, что 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стет пшеница гуще 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де проживает больше д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чтенных старых лед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Что больше всех на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ботятся о кошках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58640" y="1773360"/>
            <a:ext cx="337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умай-ка немножк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вот загадка реш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вет у ловкого ко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ышей переловил дав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мыши что едят? – Зе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почку разглядишь не сра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то наука есть и разум.      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М. Х. Левитман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57760" y="5084640"/>
            <a:ext cx="3486240" cy="163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ЧЕБНЫЙ МОЗГОВОЙ ШТУРМ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Задача Чарльза Дарви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2059200"/>
            <a:ext cx="78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дание: Постройте пищевые цепи на основе текста решения зада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07520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: как вы думаете, какое значение имеют пищевые сети в природе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§ 5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550px-9_5_22_5" descr="&amp;Scy;&amp;tcy;&amp;rcy;&amp;ucy;&amp;kcy;&amp;tcy;&amp;ucy;&amp;rcy;&amp;acy; &amp;dcy;&amp;vcy;&amp;ucy;&amp;khcy; &amp;tcy;&amp;icy;&amp;pcy;&amp;ocy;&amp;vcy; &amp;scy;&amp;ocy;&amp;ocy;&amp;bcy;&amp;shchcy;&amp;iecy;&amp;scy;&amp;tcy;&amp;vcy;"/>
          <p:cNvPicPr/>
          <p:nvPr/>
        </p:nvPicPr>
        <p:blipFill>
          <a:blip r:embed="rId1"/>
          <a:stretch/>
        </p:blipFill>
        <p:spPr>
          <a:xfrm>
            <a:off x="5292720" y="1413000"/>
            <a:ext cx="3381480" cy="4114800"/>
          </a:xfrm>
          <a:prstGeom prst="rect">
            <a:avLst/>
          </a:prstGeom>
          <a:ln w="6480">
            <a:solidFill>
              <a:srgbClr val="969696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468360" y="2133720"/>
            <a:ext cx="4402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дание: проанализируйте рис. 63 стр. 156 и выявите различия и сходства надземной и водной эко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195640" y="2060640"/>
            <a:ext cx="54007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то на уроке было главны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то было интересны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то вы узнали новог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ему вы научил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2421000" cy="2852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484360" y="765000"/>
            <a:ext cx="4033800" cy="475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3860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то является важным показателем разнообразия условий жизни организмов в сообщест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765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ие факторы увеличивают видовое разнообразие в сообщест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213372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ие свойства сообщества характеризуют разнообразие вид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ПОСОБЫ ПИТАНИЯ ОРГАНИЗ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1197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вт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51280" y="1197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кс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88000" y="1197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етер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1916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хем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916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от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2708280"/>
            <a:ext cx="15130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ер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хлоре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поро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2637000"/>
            <a:ext cx="151272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итрифици-ру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к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1280" y="3141720"/>
            <a:ext cx="151272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вглена зеле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ос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1916280"/>
            <a:ext cx="18000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втотроф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етер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9079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9079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80360" y="9079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1557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1557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1628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852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2349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2349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436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протроф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04000" y="37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раз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4508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хищ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479736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равоя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4360" y="2492280"/>
            <a:ext cx="1513080" cy="13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ждевой чер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к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32720" y="4365720"/>
            <a:ext cx="1871640" cy="13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уберкулезная па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рут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76720" y="5229360"/>
            <a:ext cx="15130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едв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л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5373720"/>
            <a:ext cx="1512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л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я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85080" y="1557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85080" y="2276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1628640"/>
            <a:ext cx="0" cy="201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41497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156360" y="1628640"/>
            <a:ext cx="720720" cy="2737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6000" y="5013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932000" y="1628640"/>
            <a:ext cx="1655640" cy="3024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67280" y="51577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345440" cy="4665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2997000"/>
            <a:ext cx="843588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сните, что означает стрелка между редуцентами и продуцент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жет ли энергия передаваться по замкнутому круг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произойдёт, если Солнце перестанет существ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1141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ищевая цеп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это последовательность организмов, в которой каждый из них съедает или разлагает друг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ждое звено пищевой цепи называют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рофическим уровне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4221000"/>
            <a:ext cx="1728720" cy="1729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564000" y="4437000"/>
            <a:ext cx="1008000" cy="781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227640" y="3933720"/>
            <a:ext cx="1727280" cy="1943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050920" y="4797360"/>
            <a:ext cx="122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48360" y="4797360"/>
            <a:ext cx="1225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ИЩЕВЫЕ ЦЕП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ав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заяц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ол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к розового кус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л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ожья коров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ау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екомоядная пт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хищная п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960" y="4651920"/>
            <a:ext cx="49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: что объединяет эти цеп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ИЩЕВЫЕ ЦЕП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стовая подстил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ждевой черв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черный дроз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стреб-перепеля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ртвое животно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личинки падальных мух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травяная лягуш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обыкновенный у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кскременты животных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уки-навозник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пт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08320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: чем они принципиально отличаются от цепей первой группы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7632720" cy="5340240"/>
          </a:xfrm>
          <a:prstGeom prst="rect">
            <a:avLst/>
          </a:prstGeom>
          <a:ln w="6480">
            <a:solidFill>
              <a:srgbClr val="c0c0c0"/>
            </a:solidFill>
            <a:miter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04:27:13Z</dcterms:created>
  <dc:creator>Admin</dc:creator>
  <dc:description/>
  <dc:language>en-US</dc:language>
  <cp:lastModifiedBy>Admin</cp:lastModifiedBy>
  <dcterms:modified xsi:type="dcterms:W3CDTF">2013-03-16T03:43:27Z</dcterms:modified>
  <cp:revision>49</cp:revision>
  <dc:subject>биология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