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EE04-3B16-437A-B78D-D04D01F4F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EEFB-11F1-4FBF-8748-4638E1BE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3DFD-6A57-474D-80FB-A3962D40F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3120-E838-4159-AC08-3CC23F90D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1F96-76F8-4A0E-8F01-8D06DB34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175D-8665-414B-BA22-BFAEA2DD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0CBB-CE47-4C40-9A5A-09904AEF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B6A2-2925-4121-BAB7-15FD93F5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289F-E9C5-4EE8-9317-49012DD4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8E3F-A0BB-4DEE-8032-D9EDBEA3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B621-F638-4F72-B2D7-17B8D08A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3DE0-282E-4B79-8B00-327126F5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3040-66B4-4345-9003-3159EF82CC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042920" y="907920"/>
            <a:ext cx="7345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Экологический светофо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042920" y="580536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Разработала учитель МБОУ СОШ №9 Савина Н.Б., октябрь 2011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1332000" y="4680000"/>
            <a:ext cx="717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Урок - игра для 5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0000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Планета Земля и Луна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Центр галакти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46" name="zdravstvuy_skazka.mp3" descr=""/>
          <p:cNvPicPr/>
          <p:nvPr/>
        </p:nvPicPr>
        <p:blipFill>
          <a:blip r:embed="rId2"/>
          <a:stretch/>
        </p:blipFill>
        <p:spPr>
          <a:xfrm>
            <a:off x="357120" y="714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ANd9GcTlgCCR_sYgV8Cng8KJyAYCEq00vdSyk0xpwvnrK1dbxHT_ON2Pqg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Солнечная система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ANd9GcTRRAWpz4lq2QRiKUEtkdBZJq4qTgvl57b5tU86neR8IVrKFLf10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16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556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265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1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6T20:20:10Z</dcterms:created>
  <dc:creator>1</dc:creator>
  <dc:description/>
  <dc:language>en-US</dc:language>
  <cp:lastModifiedBy>Щелкунова Н.А.</cp:lastModifiedBy>
  <dcterms:modified xsi:type="dcterms:W3CDTF">2011-10-24T08:08:27Z</dcterms:modified>
  <cp:revision>12</cp:revision>
  <dc:subject/>
  <dc:title>Слайд 1</dc:title>
</cp:coreProperties>
</file>