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140C-E806-4B73-A53B-842935BC0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EC13-E37A-495A-83DC-56F40BDA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6705-06CE-4B7B-AC9F-AE1B8758C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053A-5B52-4E5B-9FB8-64E9F36C1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ED90-895B-418A-99EB-908C9663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A331-EBB2-4210-B823-2019E28C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170D-5DBB-4B81-A443-1BB8802A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1CEA-C27B-4102-92FB-E10DD5B6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1ED3-CC36-42BC-9918-D3BA6DD5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B5DB-5CD9-4879-B0EC-7F49E1FB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D973-8CC5-4F57-A4FD-EC5F2829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A806-5715-4311-BFFD-2842C525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11A0-4FFF-4667-817F-DB08164C0F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osmusor.info/" TargetMode="External"/><Relationship Id="rId3" Type="http://schemas.openxmlformats.org/officeDocument/2006/relationships/hyperlink" Target="http://biodat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4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7640" y="1196640"/>
            <a:ext cx="65502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«Спасти свой город от свал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3500280"/>
            <a:ext cx="80103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Команда «Робинзоны», МБОУ СОШ №9 г.Кулеба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Члены команды: Сазанов Андрей Анатольевич, 7а , Шихова Юлия Владимиовна, 7а , Шумова Валерия Алексеевна, 8б, Коженкова Дарья Максимовна, 8б, Симонова Виктория Сергеевна, 8б, Логинов Владимир Александрович, 8б, Борисов Алексей Васильевич, 8б</a:t>
            </a:r>
            <a:r>
              <a:rPr b="0" lang="ru-RU" sz="1400" spc="-1" strike="noStrike">
                <a:solidFill>
                  <a:srgbClr val="cc66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Руководители: Савина Наталья Борисовна, Любшин Евгений Владимир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картинки мусор"/>
          <p:cNvPicPr/>
          <p:nvPr/>
        </p:nvPicPr>
        <p:blipFill>
          <a:blip r:embed="rId1"/>
          <a:stretch/>
        </p:blipFill>
        <p:spPr>
          <a:xfrm>
            <a:off x="7667640" y="538164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i?id=467232035-52-72&amp;n=21"/>
          <p:cNvPicPr/>
          <p:nvPr/>
        </p:nvPicPr>
        <p:blipFill>
          <a:blip r:embed="rId2"/>
          <a:stretch/>
        </p:blipFill>
        <p:spPr>
          <a:xfrm>
            <a:off x="0" y="0"/>
            <a:ext cx="18860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51280" y="1341000"/>
            <a:ext cx="6192720" cy="71640"/>
          </a:xfrm>
          <a:prstGeom prst="rect">
            <a:avLst/>
          </a:prstGeom>
          <a:noFill/>
          <a:ln w="0">
            <a:noFill/>
          </a:ln>
        </p:spPr>
        <p:txBody>
          <a:bodyPr tIns="25920" bIns="25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79280" y="2708280"/>
            <a:ext cx="86407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Откажись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…от покупки ненужной ве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чини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ремонт вещи продлит ей жизнь, съэкономит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требляй меньше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используй вещи с большим сроком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Используй повторно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ходи в магазин со своей сум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Выбирай продукты с минимумом упаковки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окупай целое, а не часть, ее не надо упаковы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Раздельный сбор мус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8"/>
          <p:cNvSpPr/>
          <p:nvPr/>
        </p:nvSpPr>
        <p:spPr>
          <a:xfrm>
            <a:off x="539640" y="189000"/>
            <a:ext cx="64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539640" y="260280"/>
            <a:ext cx="6624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Оптимальным путем решения проблемы мусора в нашем городе мы считаем…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роведение бес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картинки мусор"/>
          <p:cNvPicPr/>
          <p:nvPr/>
        </p:nvPicPr>
        <p:blipFill>
          <a:blip r:embed="rId2"/>
          <a:stretch/>
        </p:blipFill>
        <p:spPr>
          <a:xfrm>
            <a:off x="7000920" y="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1"/>
          <p:cNvSpPr/>
          <p:nvPr/>
        </p:nvSpPr>
        <p:spPr>
          <a:xfrm>
            <a:off x="324000" y="1268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Мы молодые и сильные. Когда мы вместе нам легче. Вместе мы си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539640" y="206064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Выработка жизненной стратегии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Diagram 5"/>
          <p:cNvGrpSpPr/>
          <p:nvPr/>
        </p:nvGrpSpPr>
        <p:grpSpPr>
          <a:xfrm>
            <a:off x="2460600" y="1231920"/>
            <a:ext cx="4154400" cy="4003560"/>
            <a:chOff x="2460600" y="1231920"/>
            <a:chExt cx="4154400" cy="4003560"/>
          </a:xfrm>
        </p:grpSpPr>
        <p:sp>
          <p:nvSpPr>
            <p:cNvPr id="92" name="_s1028"/>
            <p:cNvSpPr/>
            <p:nvPr/>
          </p:nvSpPr>
          <p:spPr>
            <a:xfrm flipH="1" flipV="1">
              <a:off x="3509640" y="3053880"/>
              <a:ext cx="515880" cy="166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029"/>
            <p:cNvSpPr/>
            <p:nvPr/>
          </p:nvSpPr>
          <p:spPr>
            <a:xfrm>
              <a:off x="2460600" y="2347920"/>
              <a:ext cx="1077840" cy="1077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Сжигание - 2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30"/>
            <p:cNvSpPr/>
            <p:nvPr/>
          </p:nvSpPr>
          <p:spPr>
            <a:xfrm flipH="1">
              <a:off x="3903480" y="3821040"/>
              <a:ext cx="317160" cy="439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031"/>
            <p:cNvSpPr/>
            <p:nvPr/>
          </p:nvSpPr>
          <p:spPr>
            <a:xfrm>
              <a:off x="3048120" y="4157640"/>
              <a:ext cx="1077840" cy="107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Н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интересно -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032"/>
            <p:cNvSpPr/>
            <p:nvPr/>
          </p:nvSpPr>
          <p:spPr>
            <a:xfrm>
              <a:off x="4853160" y="3821040"/>
              <a:ext cx="318960" cy="43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033"/>
            <p:cNvSpPr/>
            <p:nvPr/>
          </p:nvSpPr>
          <p:spPr>
            <a:xfrm>
              <a:off x="4950000" y="4157640"/>
              <a:ext cx="1077840" cy="107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трудняюс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ответить- 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034"/>
            <p:cNvSpPr/>
            <p:nvPr/>
          </p:nvSpPr>
          <p:spPr>
            <a:xfrm flipV="1">
              <a:off x="5048280" y="3052440"/>
              <a:ext cx="514440" cy="16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035"/>
            <p:cNvSpPr/>
            <p:nvPr/>
          </p:nvSpPr>
          <p:spPr>
            <a:xfrm>
              <a:off x="5537160" y="2349360"/>
              <a:ext cx="1077840" cy="1078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хорон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 предела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района-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6"/>
            <p:cNvSpPr/>
            <p:nvPr/>
          </p:nvSpPr>
          <p:spPr>
            <a:xfrm flipV="1">
              <a:off x="4537080" y="2307960"/>
              <a:ext cx="0" cy="54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37"/>
            <p:cNvSpPr/>
            <p:nvPr/>
          </p:nvSpPr>
          <p:spPr>
            <a:xfrm>
              <a:off x="3998880" y="1231920"/>
              <a:ext cx="1077840" cy="107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Переработка - 7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038"/>
            <p:cNvSpPr/>
            <p:nvPr/>
          </p:nvSpPr>
          <p:spPr>
            <a:xfrm>
              <a:off x="3998880" y="2849400"/>
              <a:ext cx="1077840" cy="1078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</a:rPr>
                <a:t>мусо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17"/>
          <p:cNvSpPr/>
          <p:nvPr/>
        </p:nvSpPr>
        <p:spPr>
          <a:xfrm>
            <a:off x="611280" y="404640"/>
            <a:ext cx="763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Какие способы утилизации отходов являются наиболее приемлемыми? (по результатам опро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8" descr="картинки мусор"/>
          <p:cNvPicPr/>
          <p:nvPr/>
        </p:nvPicPr>
        <p:blipFill>
          <a:blip r:embed="rId7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%D0%BC%D1%83%D1%81%D0%BE%D1%80"/>
          <p:cNvPicPr/>
          <p:nvPr/>
        </p:nvPicPr>
        <p:blipFill>
          <a:blip r:embed="rId1"/>
          <a:stretch/>
        </p:blipFill>
        <p:spPr>
          <a:xfrm>
            <a:off x="0" y="333360"/>
            <a:ext cx="3924360" cy="2698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9"/>
          <p:cNvSpPr/>
          <p:nvPr/>
        </p:nvSpPr>
        <p:spPr>
          <a:xfrm>
            <a:off x="4140360" y="620640"/>
            <a:ext cx="48243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Бюджет нашего плана прост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Лозунги и плакаты пишем на старых обоях (их много в каждом доме, а старых красок море у каждог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Одежду для выступлений шьем сами из старых вещей на рук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Изготовление поделок «домовенков» из старых вещей и предметов бы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Фримаркет старых вещей и прочитанных книг, посуды, бытовой утва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3" descr="18965"/>
          <p:cNvPicPr/>
          <p:nvPr/>
        </p:nvPicPr>
        <p:blipFill>
          <a:blip r:embed="rId3"/>
          <a:stretch/>
        </p:blipFill>
        <p:spPr>
          <a:xfrm>
            <a:off x="0" y="3338640"/>
            <a:ext cx="406728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7" descr="e83bb8c65e7de2f6e83f136e5cd87b95"/>
          <p:cNvPicPr/>
          <p:nvPr/>
        </p:nvPicPr>
        <p:blipFill>
          <a:blip r:embed="rId1"/>
          <a:stretch/>
        </p:blipFill>
        <p:spPr>
          <a:xfrm>
            <a:off x="179280" y="2781360"/>
            <a:ext cx="2776680" cy="3887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6156360" y="260280"/>
            <a:ext cx="2808360" cy="3097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картинки мусор"/>
          <p:cNvPicPr/>
          <p:nvPr/>
        </p:nvPicPr>
        <p:blipFill>
          <a:blip r:embed="rId4"/>
          <a:stretch/>
        </p:blipFill>
        <p:spPr>
          <a:xfrm>
            <a:off x="2700360" y="260280"/>
            <a:ext cx="3240000" cy="3240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1"/>
          <p:cNvSpPr/>
          <p:nvPr/>
        </p:nvSpPr>
        <p:spPr>
          <a:xfrm>
            <a:off x="3348000" y="364500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Наши лозун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Ожидания от реализации нашего пл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24000" y="1628640"/>
            <a:ext cx="85690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Наш город станет самым чистым и уютным на 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Жители нашего города будут складывать песни о красоте городских окрестностей, а не частушки о свалках мус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Мы будем радоваться приходу весны и наблюдать как просыпается природа городских окрестностей, украшенная первоцветами, а не свал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9" descr="картинки мусор"/>
          <p:cNvPicPr/>
          <p:nvPr/>
        </p:nvPicPr>
        <p:blipFill>
          <a:blip r:embed="rId1"/>
          <a:stretch/>
        </p:blipFill>
        <p:spPr>
          <a:xfrm>
            <a:off x="7020000" y="4437000"/>
            <a:ext cx="2124000" cy="2421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1"/>
          <p:cNvSpPr/>
          <p:nvPr/>
        </p:nvSpPr>
        <p:spPr>
          <a:xfrm>
            <a:off x="971640" y="62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сточники информаци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395280" y="1125360"/>
            <a:ext cx="8280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иленко И.В. Земля твой дом. –М.,Недра, 19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митриев Ю.Д.О природе для больших и маленьких. – М., Педагогика, 19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ин М. –М., детская литература, 197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osmusor.info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Министерство экологии и природных рес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iodat.ru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i?id=464967952-09-72&amp;n=21"/>
          <p:cNvPicPr/>
          <p:nvPr/>
        </p:nvPicPr>
        <p:blipFill>
          <a:blip r:embed="rId1"/>
          <a:stretch/>
        </p:blipFill>
        <p:spPr>
          <a:xfrm>
            <a:off x="0" y="549360"/>
            <a:ext cx="5580000" cy="4010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9"/>
          <p:cNvSpPr/>
          <p:nvPr/>
        </p:nvSpPr>
        <p:spPr>
          <a:xfrm>
            <a:off x="5867280" y="1268280"/>
            <a:ext cx="280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ы живем в небольшом, но красивом городке Кулебаки, затерявшемся среди островков знаменитых Муромских лесов, на юго-западе Нижегоро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картинки мусор"/>
          <p:cNvPicPr/>
          <p:nvPr/>
        </p:nvPicPr>
        <p:blipFill>
          <a:blip r:embed="rId3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347760" y="96840"/>
            <a:ext cx="8667720" cy="1719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Мы провели опрос среди родителей и учащихся нашей школы, а также сами провели наблюдения и выяснили, что самой актуальной экологической проблемой является загрязнение территории бытовым мусо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C:\Users\Привет\Desktop\кулебаки\2013-04-25 14.16.28.jpg"/>
          <p:cNvPicPr/>
          <p:nvPr/>
        </p:nvPicPr>
        <p:blipFill>
          <a:blip r:embed="rId2"/>
          <a:stretch/>
        </p:blipFill>
        <p:spPr>
          <a:xfrm>
            <a:off x="366840" y="3735360"/>
            <a:ext cx="3973320" cy="2544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Привет\Desktop\кулебаки\2013-04-25 14.07.47.jpg"/>
          <p:cNvPicPr/>
          <p:nvPr/>
        </p:nvPicPr>
        <p:blipFill>
          <a:blip r:embed="rId3"/>
          <a:stretch/>
        </p:blipFill>
        <p:spPr>
          <a:xfrm>
            <a:off x="4572000" y="3716280"/>
            <a:ext cx="3984480" cy="254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картинки мусор"/>
          <p:cNvPicPr/>
          <p:nvPr/>
        </p:nvPicPr>
        <p:blipFill>
          <a:blip r:embed="rId4"/>
          <a:stretch/>
        </p:blipFill>
        <p:spPr>
          <a:xfrm>
            <a:off x="7956720" y="5734080"/>
            <a:ext cx="1187280" cy="1123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картинки мусор"/>
          <p:cNvPicPr/>
          <p:nvPr/>
        </p:nvPicPr>
        <p:blipFill>
          <a:blip r:embed="rId5"/>
          <a:stretch/>
        </p:blipFill>
        <p:spPr>
          <a:xfrm>
            <a:off x="3059280" y="3645000"/>
            <a:ext cx="2143080" cy="17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395280" y="26028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Улицы нашего города чистые или грязны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8"/>
          <p:cNvGraphicFramePr/>
          <p:nvPr/>
        </p:nvGraphicFramePr>
        <p:xfrm>
          <a:off x="1476360" y="119700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1970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0008-014-Iz-okoshek-musor-ne-brosajte-territoriju-ne-zasorjajte"/>
          <p:cNvPicPr/>
          <p:nvPr/>
        </p:nvPicPr>
        <p:blipFill>
          <a:blip r:embed="rId1"/>
          <a:stretch/>
        </p:blipFill>
        <p:spPr>
          <a:xfrm>
            <a:off x="0" y="404640"/>
            <a:ext cx="4859280" cy="3240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9"/>
          <p:cNvSpPr/>
          <p:nvPr/>
        </p:nvSpPr>
        <p:spPr>
          <a:xfrm>
            <a:off x="0" y="4076640"/>
            <a:ext cx="73087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При строительстве многоквартирных домов были заложены площадки для мусорных баков. Поэтому он вывозился кое-как на свалку, что расположена за город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частном секторе никогда не было мусорных контейнеров и жителям приходилось либо закапывать мусор, либо его сжигать. За многие десятилетия его накопилось так много, что не осталось около домов «свободного» для посадки растений ме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859280" y="260280"/>
            <a:ext cx="381636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городе преобладает малоэтажная застройка, которая возводилась в конце 17 века вокруг строящегося в те времена металлургического завода братьев Баташев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Районы «многоэтажек» находятся на северо – вост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4211640" y="260280"/>
            <a:ext cx="47530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При этом значительно изменился состав мусора: пластиковые пакеты, сумки, вилки, бутылки, стаканчики. Увеличился срок «разложения» такого мусора в сотни р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Люди стали жить лучше, поэтому многие вещи перестали служить долго и мы их выбрасываем. Из-за подобных отходов на современных свалках пищевые отходы разлагаются не полностью. Поэтому они гниют с выделением ядовитой жид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А ведь это очень опасно для нас. Мы все пьем воду, добытую из артезианских скважин, которые находятся в черте гор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5165640"/>
            <a:ext cx="1692360" cy="16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Users\Привет\Desktop\кулебаки\2013-04-25 14.11.07.jpg"/>
          <p:cNvPicPr/>
          <p:nvPr/>
        </p:nvPicPr>
        <p:blipFill>
          <a:blip r:embed="rId2"/>
          <a:stretch/>
        </p:blipFill>
        <p:spPr>
          <a:xfrm>
            <a:off x="179280" y="333360"/>
            <a:ext cx="3984840" cy="2735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Привет\Desktop\кулебаки\2013-04-25 14.11.07.jpg"/>
          <p:cNvPicPr/>
          <p:nvPr/>
        </p:nvPicPr>
        <p:blipFill>
          <a:blip r:embed="rId3"/>
          <a:stretch/>
        </p:blipFill>
        <p:spPr>
          <a:xfrm>
            <a:off x="179280" y="3429000"/>
            <a:ext cx="39848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Что сделано уже для решения данной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84360" y="981000"/>
            <a:ext cx="8135640" cy="51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ще год назад наш город утопал в мусорных свалках, которые были не только около мусорных контейнеров, не убранных в срок, но и просто на дорожках в скверах и садах. У нас просто не было в городе «мусорок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ейчас их можно увидеть везде и рука уже сама не поднимается выбросить фантик на землю или бросить использованную одноразовую посу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В городе налажена система вывоза бытового мусора. Редко увидишь переполненные контейн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Но сознание некоторых «кулебачан» еще не готово к таким благам цивилизации. Поэтому они по-старинке выбрасывают мусор около дома соседа или по- дороге на работу, так как контейнеры стоят далеко от их дома. Это действительно так. Пара контейнеров может «обслуживать» два десятка ул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Ура, наконец- то в нашем городе появились общественные туале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жегодно в городе и районе проводятся конкурсы на «самую чистую улицу» или «самый чистый подьезд», «самый зеленый балко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812000" y="5445000"/>
            <a:ext cx="1332000" cy="14130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8"/>
          <p:cNvSpPr/>
          <p:nvPr/>
        </p:nvSpPr>
        <p:spPr>
          <a:xfrm>
            <a:off x="0" y="1844640"/>
            <a:ext cx="611280" cy="64764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0"/>
          <p:cNvSpPr/>
          <p:nvPr/>
        </p:nvSpPr>
        <p:spPr>
          <a:xfrm>
            <a:off x="0" y="2852640"/>
            <a:ext cx="68436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1"/>
          <p:cNvSpPr/>
          <p:nvPr/>
        </p:nvSpPr>
        <p:spPr>
          <a:xfrm>
            <a:off x="0" y="3789360"/>
            <a:ext cx="61128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0" y="5084640"/>
            <a:ext cx="611280" cy="4320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3"/>
          <p:cNvSpPr/>
          <p:nvPr/>
        </p:nvSpPr>
        <p:spPr>
          <a:xfrm>
            <a:off x="0" y="5589720"/>
            <a:ext cx="647640" cy="5032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24000" y="1125360"/>
          <a:ext cx="8569080" cy="5739120"/>
        </p:xfrm>
        <a:graphic>
          <a:graphicData uri="http://schemas.openxmlformats.org/drawingml/2006/table">
            <a:tbl>
              <a:tblPr/>
              <a:tblGrid>
                <a:gridCol w="2855880"/>
                <a:gridCol w="2857320"/>
                <a:gridCol w="2855880"/>
              </a:tblGrid>
              <a:tr h="92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ути решения 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еимущества данного решения проблемы 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достатки данного решения проблемы (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1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оводить беседы с населени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Охватываются большие слои насел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Разные формы провед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и умения в разных областя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которые жители потребительски относятся к своему городу, считая недостойным убирать за со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2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увеличить число мусорных баков в горо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Мусор собирается и упаковывается для ути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Тратиться много средств на изготовление емкостей для сбора мусора и транспортировку 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3 путь - чаше устраивать суббот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За короткое время можно навести порядок на большой территор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 вместе мы –сил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е творчество на благо всех украшая наш гор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гда найдутся те, кто будет отговаривать других или искать самые легкие для себя пу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" name="Picture 34" descr="картинки мусор"/>
          <p:cNvPicPr/>
          <p:nvPr/>
        </p:nvPicPr>
        <p:blipFill>
          <a:blip r:embed="rId1"/>
          <a:stretch/>
        </p:blipFill>
        <p:spPr>
          <a:xfrm>
            <a:off x="8028000" y="5589720"/>
            <a:ext cx="1116000" cy="12682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7"/>
          <p:cNvSpPr/>
          <p:nvPr/>
        </p:nvSpPr>
        <p:spPr>
          <a:xfrm>
            <a:off x="826920" y="2602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Как же можно решить созданную рукотворно проблему мусора в нашем город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331640" y="475920"/>
            <a:ext cx="71485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Наиболее подходящий путь решения проблемы для нас – это субботники. Им нужно уделять больше времени и проводить почаще, хотя бы в пределах своего двора или дома вместе с жильц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Также еще один наиболее оптимальный путь решения проблемы – проводить беседы, убеждать людей в важности защиты окружающей среды от загрязнений (в данном случае от мусо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179280" y="47628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179280" y="278136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4869000"/>
            <a:ext cx="1692360" cy="1989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картинки мусор"/>
          <p:cNvPicPr/>
          <p:nvPr/>
        </p:nvPicPr>
        <p:blipFill>
          <a:blip r:embed="rId2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16:50:26Z</dcterms:created>
  <dc:creator>Admin</dc:creator>
  <dc:description/>
  <dc:language>en-US</dc:language>
  <cp:lastModifiedBy>Катя</cp:lastModifiedBy>
  <dcterms:modified xsi:type="dcterms:W3CDTF">2014-11-11T12:21:59Z</dcterms:modified>
  <cp:revision>12</cp:revision>
  <dc:subject/>
  <dc:title>Экологические проблемы  г. Кулебаки</dc:title>
</cp:coreProperties>
</file>