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png" ContentType="image/png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9F0C5-5299-4663-B142-8AC5D39A0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87D6C-C8B1-49B8-B069-A749A7EE8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D15F3-CDBE-4993-B6B0-790A1B022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D22B9-B0FD-41E0-9056-F092DDC8E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A4059-C181-48CE-AB7F-A94904BF7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52359-9A69-48F1-AF1C-686D828FB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65E06-C783-4E98-AD4D-31A586680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EAA9E-88BB-4361-8879-089F11B60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37CDF-D386-4F13-9D6A-E77472BA8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EF691-6688-48D4-BC9D-8D73EE11B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44D3C-7ED0-46D6-BE92-C27A851B0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45A25-5EC4-41BB-8DC2-303337AE7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FF741-B582-410E-BCD0-0315C1E9D92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3d_11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5"/>
          <p:cNvSpPr/>
          <p:nvPr/>
        </p:nvSpPr>
        <p:spPr>
          <a:xfrm>
            <a:off x="1042920" y="907920"/>
            <a:ext cx="73454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0000"/>
                </a:solidFill>
                <a:latin typeface="Arial"/>
              </a:rPr>
              <a:t>«</a:t>
            </a:r>
            <a:r>
              <a:rPr b="1" i="1" lang="ru-RU" sz="3200" spc="-1" strike="noStrike">
                <a:solidFill>
                  <a:srgbClr val="cc0000"/>
                </a:solidFill>
                <a:latin typeface="Arial"/>
              </a:rPr>
              <a:t>Экологический светофор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6"/>
          <p:cNvSpPr/>
          <p:nvPr/>
        </p:nvSpPr>
        <p:spPr>
          <a:xfrm>
            <a:off x="611280" y="6237360"/>
            <a:ext cx="777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0000"/>
                </a:solidFill>
                <a:latin typeface="Arial"/>
              </a:rPr>
              <a:t>Разработала учитель МБОУ СОШ №9 Савина Н.Б., МБОУ школа 9 г. КУлеба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1332000" y="4680000"/>
            <a:ext cx="717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0000"/>
                </a:solidFill>
                <a:latin typeface="Arial"/>
              </a:rPr>
              <a:t>Урок - игра для 5 клас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155_1024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3d_11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6" descr="000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5" descr="00002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"/>
          <p:cNvPicPr/>
          <p:nvPr/>
        </p:nvPicPr>
        <p:blipFill>
          <a:blip r:embed="rId1"/>
          <a:stretch/>
        </p:blipFill>
        <p:spPr>
          <a:xfrm>
            <a:off x="0" y="20520"/>
            <a:ext cx="9144000" cy="683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Планета Земля и Луна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Центр галактики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pic>
        <p:nvPicPr>
          <p:cNvPr id="46" name="zdravstvuy_skazka.mp3" descr=""/>
          <p:cNvPicPr/>
          <p:nvPr/>
        </p:nvPicPr>
        <p:blipFill>
          <a:blip r:embed="rId2"/>
          <a:stretch/>
        </p:blipFill>
        <p:spPr>
          <a:xfrm>
            <a:off x="357120" y="7142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ANd9GcTlgCCR_sYgV8Cng8KJyAYCEq00vdSyk0xpwvnrK1dbxHT_ON2Pqg"/>
          <p:cNvPicPr/>
          <p:nvPr/>
        </p:nvPicPr>
        <p:blipFill>
          <a:blip r:embed="rId1"/>
          <a:stretch/>
        </p:blipFill>
        <p:spPr>
          <a:xfrm>
            <a:off x="0" y="-15840"/>
            <a:ext cx="9144000" cy="68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Солнечная система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ANd9GcTRRAWpz4lq2QRiKUEtkdBZJq4qTgvl57b5tU86neR8IVrKFLf10Q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8" descr="155_1024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9" descr="16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556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5" descr="2654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7" descr="14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6T20:20:10Z</dcterms:created>
  <dc:creator>1</dc:creator>
  <dc:description/>
  <dc:language>en-US</dc:language>
  <cp:lastModifiedBy>user</cp:lastModifiedBy>
  <dcterms:modified xsi:type="dcterms:W3CDTF">2017-08-21T09:02:04Z</dcterms:modified>
  <cp:revision>13</cp:revision>
  <dc:subject/>
  <dc:title>Слайд 1</dc:title>
</cp:coreProperties>
</file>