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1D3-434A-4EA8-A2C5-73E35C3B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1F6-8799-4CC2-8CFB-15010E8A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109-9EA8-46B0-910E-BBCA0FAE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22D-2450-448F-AA9E-4F345314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4A0F-E28C-41CD-957B-8DDD7CEE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4B64-C986-4CA0-A2A1-708AE55C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3312-C41E-44DC-A871-19BCB05A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04B4-B1C8-4720-8211-3C89A82C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E16A-101C-4581-9625-8194230C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40D6-9333-4789-9E64-EB6672B8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9DD2-5F1D-4EC3-BC75-BF529C6F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B4C-F2C1-44A1-8F30-ADFE36F2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9613-30CF-433F-93D3-779769AD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8966-7F4F-4F27-B48F-5FDD884E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60A9-2063-4D42-9FD0-C6FACE2D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F774-4BE4-4855-B2BB-EA2852C5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BFEE-E231-4647-8EF0-C2B0D188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C66-3F5B-403F-B04F-7F6630CE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5F2-D71E-410C-8EE1-2E87BE48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6DF-9A98-4A8F-8BA3-7D204D52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A1B-63E9-4424-9700-69A9CED4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337-ED8F-4551-92A6-021DC50F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6EB-F324-4E6D-A3D8-0EB8B65A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15F-FF07-4EEE-A95C-569E26B7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FAC3-8EEF-48CB-BAC7-B2DAD8EA6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A8FD-8CEF-41A0-9E50-688B54860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одоём как многоэтажное жилище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 работу: Максименко Вл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обенност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Плотность более высокая, чем плотность воздуха. Благодаря этому огромное число животных способно как бы парить в водной толщине, никогда не опускаться на д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Вода менее прозрачна, чем воздух. На глубине 200 м царят сумерки, а на большие глубины никогда не проникает солнечный с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Вода обладает высокой теплоёмкостью, чем воздух (поэтому купальщики так быстро мёрзну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Бент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ланк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Нект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Литора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4496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Бентос (от греч. бентос – глубина.)  –животные которые можно обнаружить на дне. Это различные губки, кишечнополостные (кораллы и актинии), плоские и кольчатые черви. Так же  креветки, раки и крабы, двухстворчатые и брюхоногие моллю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472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ланктон (от греч. планктос – блуждающие.) – животные у которых плотность тела не отличается от плотности воды и поэтому они способны, «висеть» в её толщине. Помогает им в этом многочисленные выросты на теле. Это радиолярии, медузы, маленькие рачки, гребе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48320" y="1146240"/>
            <a:ext cx="4495680" cy="2806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648320" y="3981600"/>
            <a:ext cx="44956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ектон (от греч. нектос – плывущий.)- это животные которые обитают в толщине воды и легко справляются с самыми сильными течениями и развивают большую скорость. Наиболее типичные нектонные животные – это рыбы, киты, дельфины, кальмары. Развивают скорость очень большую до 130 к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302360" cy="2763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Этажи» водоё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Литораль ( от лат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us –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реговой.)- это животные которые обитают на границе водной и наземно-воздушной среде.  Это крабы, раки, илистый прыгу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411480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2-17T15:14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