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FC8-08B9-478C-8244-3DBA66DF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D57-85DD-482D-AADB-BC9F72A4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F99-6971-42A0-8E35-B56ABFD9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A6A-3B1C-46BD-AFA1-DC1E8810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C763-DF5D-4697-81D4-43235A4B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34E7-4047-42E9-9EF3-98E8369C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3B4F-40E0-4DAA-87A9-CCE1D997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7894-8B90-4041-9825-9AA27807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7300-68EF-4ADB-B56A-76B479C9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7EA9-D1EF-4557-A542-009555E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49DD-AC6F-4B0D-8060-2DA5D9FF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CC4-A155-4FC6-A72B-FF8632D8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FD95-8B13-41C3-A53C-9919D0E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7AD2-CBD3-4EA9-B840-8B20FB7E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89DA-9E18-4EA6-AC93-E91CECF7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8E74-8719-4710-A606-03AA7BE7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5ABA-4F9C-4D61-B9F5-30503193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2E0-C0E6-416C-9AE2-FF48AB6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7FC-A85B-4543-BCA7-4EA61755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992-F752-4A30-8694-CFBBB9A0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ED2-5693-4115-8A7B-4B8051ED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692-7C6D-4716-A17F-66DA676F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70C-22B2-45F1-8A70-118778AA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B9B-2DE4-4187-B0D1-DBA54A85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AF66-9CCD-4344-AD13-0833B0CF3C8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182D-37E8-4B3A-8327-A5657CAFDFA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73120" y="30240"/>
            <a:ext cx="790092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786040" y="4857840"/>
            <a:ext cx="6114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полнил  ученик 7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“A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ласса Котерев Дмитр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гималаи.jpg"/>
          <p:cNvPicPr/>
          <p:nvPr/>
        </p:nvPicPr>
        <p:blipFill>
          <a:blip r:embed="rId1"/>
          <a:stretch/>
        </p:blipFill>
        <p:spPr>
          <a:xfrm>
            <a:off x="285840" y="3143160"/>
            <a:ext cx="450036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8" descr="гималаи 2.jpg"/>
          <p:cNvPicPr/>
          <p:nvPr/>
        </p:nvPicPr>
        <p:blipFill>
          <a:blip r:embed="rId2"/>
          <a:stretch/>
        </p:blipFill>
        <p:spPr>
          <a:xfrm>
            <a:off x="5143680" y="3143160"/>
            <a:ext cx="3714480" cy="33577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9" descr=""/>
          <p:cNvPicPr/>
          <p:nvPr/>
        </p:nvPicPr>
        <p:blipFill>
          <a:blip r:embed="rId3"/>
          <a:stretch/>
        </p:blipFill>
        <p:spPr>
          <a:xfrm>
            <a:off x="171360" y="262080"/>
            <a:ext cx="880128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208080" y="360360"/>
            <a:ext cx="8667720" cy="32241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як.jpg"/>
          <p:cNvPicPr/>
          <p:nvPr/>
        </p:nvPicPr>
        <p:blipFill>
          <a:blip r:embed="rId2"/>
          <a:stretch/>
        </p:blipFill>
        <p:spPr>
          <a:xfrm>
            <a:off x="214200" y="3571920"/>
            <a:ext cx="449604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як 2.jpg"/>
          <p:cNvPicPr/>
          <p:nvPr/>
        </p:nvPicPr>
        <p:blipFill>
          <a:blip r:embed="rId3"/>
          <a:stretch/>
        </p:blipFill>
        <p:spPr>
          <a:xfrm>
            <a:off x="4929120" y="3786120"/>
            <a:ext cx="4038840" cy="2643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508960" cy="287028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снежн коза.jpg"/>
          <p:cNvPicPr/>
          <p:nvPr/>
        </p:nvPicPr>
        <p:blipFill>
          <a:blip r:embed="rId2"/>
          <a:stretch/>
        </p:blipFill>
        <p:spPr>
          <a:xfrm>
            <a:off x="285840" y="3500280"/>
            <a:ext cx="4214880" cy="289728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снежн коза 2.jpg"/>
          <p:cNvPicPr/>
          <p:nvPr/>
        </p:nvPicPr>
        <p:blipFill>
          <a:blip r:embed="rId3"/>
          <a:stretch/>
        </p:blipFill>
        <p:spPr>
          <a:xfrm>
            <a:off x="478620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613720" cy="29876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снежный барс.jpg"/>
          <p:cNvPicPr/>
          <p:nvPr/>
        </p:nvPicPr>
        <p:blipFill>
          <a:blip r:embed="rId2"/>
          <a:stretch/>
        </p:blipFill>
        <p:spPr>
          <a:xfrm>
            <a:off x="214200" y="3500280"/>
            <a:ext cx="4143600" cy="30528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5" descr="снежный барс 2.jpg"/>
          <p:cNvPicPr/>
          <p:nvPr/>
        </p:nvPicPr>
        <p:blipFill>
          <a:blip r:embed="rId3"/>
          <a:stretch/>
        </p:blipFill>
        <p:spPr>
          <a:xfrm>
            <a:off x="4643280" y="35002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139680" y="212760"/>
            <a:ext cx="8864640" cy="2359080"/>
          </a:xfrm>
          <a:prstGeom prst="rect">
            <a:avLst/>
          </a:prstGeom>
          <a:ln w="0">
            <a:noFill/>
          </a:ln>
        </p:spPr>
      </p:pic>
      <p:pic>
        <p:nvPicPr>
          <p:cNvPr id="97" name="Содержимое 4" descr="ламы.jpg"/>
          <p:cNvPicPr/>
          <p:nvPr/>
        </p:nvPicPr>
        <p:blipFill>
          <a:blip r:embed="rId2"/>
          <a:stretch/>
        </p:blipFill>
        <p:spPr>
          <a:xfrm>
            <a:off x="285840" y="2714760"/>
            <a:ext cx="4038480" cy="389556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5" descr="лама 2.jpg"/>
          <p:cNvPicPr/>
          <p:nvPr/>
        </p:nvPicPr>
        <p:blipFill>
          <a:blip r:embed="rId3"/>
          <a:stretch/>
        </p:blipFill>
        <p:spPr>
          <a:xfrm>
            <a:off x="4714920" y="2714760"/>
            <a:ext cx="414324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165240" y="146160"/>
            <a:ext cx="8637480" cy="3444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кондор.JPG"/>
          <p:cNvPicPr/>
          <p:nvPr/>
        </p:nvPicPr>
        <p:blipFill>
          <a:blip r:embed="rId2"/>
          <a:stretch/>
        </p:blipFill>
        <p:spPr>
          <a:xfrm>
            <a:off x="214200" y="3714840"/>
            <a:ext cx="4357800" cy="26748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кондора.jpg"/>
          <p:cNvPicPr/>
          <p:nvPr/>
        </p:nvPicPr>
        <p:blipFill>
          <a:blip r:embed="rId3"/>
          <a:stretch/>
        </p:blipFill>
        <p:spPr>
          <a:xfrm>
            <a:off x="4786200" y="3786120"/>
            <a:ext cx="4038840" cy="26733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1-13T16:15:08Z</dcterms:modified>
  <cp:revision>13</cp:revision>
  <dc:subject/>
  <dc:title>Животные горных областей</dc:title>
</cp:coreProperties>
</file>