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DD1-6596-4474-9003-F6B6835A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99E3-8E28-4C46-834A-60CF6EEB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866-87E1-45B4-AFC6-BA6FB40E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831-3937-4403-BD0F-333728B8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B9AD-84EA-4302-B19D-6E35327A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852E-4D4B-4078-9C20-D7E89F29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0F71-CD42-408B-8FBF-3790BC9B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5816-EAD5-476B-8E67-0F1DAC53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3774-6773-47E4-B8B2-D7BA7157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8EDE-E48A-4AF6-8786-AD90D594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8DE6-AB5C-48EA-9B99-E61C98D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9C0-5DD3-43BD-B572-0AB2B2D6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E4CE-E347-4932-94AA-514468D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9F9E-8937-4410-BC19-14B06E45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51DD-1505-413B-85A6-F7DC5E32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D3CE-CEFE-49A1-B2CA-0F978DD8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C766-80A4-40ED-8FC2-CC5A6002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AF5-C9BD-4A32-82EE-0B332C52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F3D-56CF-4A28-9310-1FDB7D11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4BD-D32D-40F2-976D-5F95BE89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AB7-98AB-44A2-844D-A4712D3E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EB9-D0E6-4747-A221-9A8DD5C2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645-344E-4DFF-9BCC-36EB5342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790-69A9-46A6-AF0A-D11E89F1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959F-822D-4E54-A316-B14EA042C3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0D8B-4ED6-4F25-BC01-D8390F9A95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04920"/>
            <a:ext cx="7610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вотные степей, саванн и прери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24480" y="4724280"/>
            <a:ext cx="1791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полнил: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486400" y="5257800"/>
            <a:ext cx="3219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ченик 7 "А" класса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638680" y="5867280"/>
            <a:ext cx="3009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рютин Дмитри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yote"/>
          <p:cNvPicPr/>
          <p:nvPr/>
        </p:nvPicPr>
        <p:blipFill>
          <a:blip r:embed="rId1"/>
          <a:stretch/>
        </p:blipFill>
        <p:spPr>
          <a:xfrm>
            <a:off x="0" y="990720"/>
            <a:ext cx="4767120" cy="586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unting-coyotes-using-dogs-01"/>
          <p:cNvPicPr/>
          <p:nvPr/>
        </p:nvPicPr>
        <p:blipFill>
          <a:blip r:embed="rId2"/>
          <a:stretch/>
        </p:blipFill>
        <p:spPr>
          <a:xfrm>
            <a:off x="5210280" y="3048120"/>
            <a:ext cx="3933720" cy="3809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990720" y="228600"/>
            <a:ext cx="2662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й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4876920" y="228600"/>
            <a:ext cx="3971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нешне очень сильно похож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4876920" y="838080"/>
            <a:ext cx="2305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дворняж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7238880" y="838080"/>
            <a:ext cx="1905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размерам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4876920" y="1295280"/>
            <a:ext cx="42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йот сильно уступает вол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ronghorn_120607"/>
          <p:cNvPicPr/>
          <p:nvPr/>
        </p:nvPicPr>
        <p:blipFill>
          <a:blip r:embed="rId1"/>
          <a:stretch/>
        </p:blipFill>
        <p:spPr>
          <a:xfrm>
            <a:off x="228600" y="685800"/>
            <a:ext cx="4826160" cy="5918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ronghorn-002"/>
          <p:cNvPicPr/>
          <p:nvPr/>
        </p:nvPicPr>
        <p:blipFill>
          <a:blip r:embed="rId2"/>
          <a:stretch/>
        </p:blipFill>
        <p:spPr>
          <a:xfrm>
            <a:off x="5257800" y="2514600"/>
            <a:ext cx="3657600" cy="40892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1981080" y="0"/>
            <a:ext cx="22291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лорог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10120" y="228600"/>
            <a:ext cx="41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расивое,стройное живо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938840" y="609480"/>
            <a:ext cx="420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мерами схоже с нашей косуле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0016c8b53ff0a62962319"/>
          <p:cNvPicPr/>
          <p:nvPr/>
        </p:nvPicPr>
        <p:blipFill>
          <a:blip r:embed="rId1"/>
          <a:stretch/>
        </p:blipFill>
        <p:spPr>
          <a:xfrm>
            <a:off x="228600" y="25146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886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914400" y="914400"/>
            <a:ext cx="6058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громная равнина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7086600" y="990720"/>
            <a:ext cx="1828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ходяща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895480" y="1523880"/>
            <a:ext cx="4077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горизонту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29" name="Picture 10" descr="DSC_0084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4172497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371600" y="0"/>
            <a:ext cx="7562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йгак-единственное копы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1371600" y="457200"/>
            <a:ext cx="746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лекопитающее, живуще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371600" y="914400"/>
            <a:ext cx="5295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степях России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4" name="Picture 9" descr="379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16_1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3733920" y="0"/>
            <a:ext cx="5410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изон-ближайший родственник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724280" y="533520"/>
            <a:ext cx="1600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убра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295280" y="2286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зо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9" descr="american-bison-45961"/>
          <p:cNvPicPr/>
          <p:nvPr/>
        </p:nvPicPr>
        <p:blipFill>
          <a:blip r:embed="rId2"/>
          <a:stretch/>
        </p:blipFill>
        <p:spPr>
          <a:xfrm>
            <a:off x="4724280" y="2647800"/>
            <a:ext cx="4419720" cy="42102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5943600" y="2895480"/>
            <a:ext cx="21099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убр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83"/>
          <p:cNvPicPr/>
          <p:nvPr/>
        </p:nvPicPr>
        <p:blipFill>
          <a:blip r:embed="rId1"/>
          <a:stretch/>
        </p:blipFill>
        <p:spPr>
          <a:xfrm>
            <a:off x="0" y="1038240"/>
            <a:ext cx="4800600" cy="54388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9907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ки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5334120" y="0"/>
            <a:ext cx="328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 одно из самых  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4943520" y="457200"/>
            <a:ext cx="4200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лоизученных копытных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6400800" y="838080"/>
            <a:ext cx="1114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мир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6" name="Picture 9" descr="275px-Sichuan_Takin_Juvenile_159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533520"/>
            <a:ext cx="4267080" cy="594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3505320" y="0"/>
            <a:ext cx="20574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ванн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343400" y="609480"/>
            <a:ext cx="3181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фриканская 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4343400" y="1143000"/>
            <a:ext cx="2781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ртугальского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315200" y="106668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значает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4648320" y="1600200"/>
            <a:ext cx="3333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степь с деревьями"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911-c8552a3a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imals_Beasts_Lion_king_of_beasts_016447_"/>
          <p:cNvPicPr/>
          <p:nvPr/>
        </p:nvPicPr>
        <p:blipFill>
          <a:blip r:embed="rId2"/>
          <a:stretch/>
        </p:blipFill>
        <p:spPr>
          <a:xfrm>
            <a:off x="4495680" y="25909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4038480" y="228600"/>
            <a:ext cx="1395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5638680" y="380880"/>
            <a:ext cx="2514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ый круп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4038480" y="914400"/>
            <a:ext cx="2181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семейств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400800" y="990720"/>
            <a:ext cx="1562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шачьих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heetah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efault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3809880" y="228600"/>
            <a:ext cx="1690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пард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572000" y="1066680"/>
            <a:ext cx="457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е быстрое животное в мире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4648320" y="1523880"/>
            <a:ext cx="41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Его скорость свыше 100 км/ч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12626"/>
          <p:cNvPicPr/>
          <p:nvPr/>
        </p:nvPicPr>
        <p:blipFill>
          <a:blip r:embed="rId1"/>
          <a:stretch/>
        </p:blipFill>
        <p:spPr>
          <a:xfrm>
            <a:off x="228600" y="304920"/>
            <a:ext cx="484812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o13"/>
          <p:cNvPicPr/>
          <p:nvPr/>
        </p:nvPicPr>
        <p:blipFill>
          <a:blip r:embed="rId2"/>
          <a:stretch/>
        </p:blipFill>
        <p:spPr>
          <a:xfrm>
            <a:off x="5257800" y="35812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35812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р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791320" y="457200"/>
            <a:ext cx="280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с франц.prairie-луг)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181480" y="990720"/>
            <a:ext cx="3962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ысокотравная растительност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5105520" y="1371600"/>
            <a:ext cx="4038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ного типа на черноземных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5105520" y="1676520"/>
            <a:ext cx="10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х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44:53Z</dcterms:created>
  <dc:creator>Jurist</dc:creator>
  <dc:description/>
  <dc:language>en-US</dc:language>
  <cp:lastModifiedBy>Жена_Мастера</cp:lastModifiedBy>
  <dcterms:modified xsi:type="dcterms:W3CDTF">2011-11-13T10:18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