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AD3-D264-4833-BD9E-A203ECCF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9E8-CC2B-499A-987C-F71B4043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0A7-F083-4727-AE23-B9D4FA56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288-E55B-4911-9512-5D98E35B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6802-D873-4AF7-8CC8-03442C0E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640C-0344-4409-A166-9EC73D66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B16E-2121-415D-A117-A8488B9A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4041-114F-4754-B615-D275821C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5EC6-15F2-43C8-8C85-F56B1B16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9528-E93D-4C01-8FBC-6D4E80DD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2AB5-DBE8-49DD-8CFF-E64C1BA1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197-7801-4A52-934D-E600593F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D686-1A8D-488D-8F9B-08F63132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14BA-5E94-4D72-ADD3-5AE8F39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E27D-1C30-4630-B124-4599703A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6667-D679-458C-8DCC-7BE77360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7FE8-338F-4632-B8CA-62FCD118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A92-E4A2-476D-9BF5-51085386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FE3-8156-4C6E-BD90-CE3000DC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842-6FA5-4117-B596-519356AD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028-1F31-401D-9E91-B2DB3710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91B-B339-40CC-AC40-4692DD33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2EF-C950-44C5-8EDF-E72D10F6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010-A933-42AC-9ADB-1390140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6745-EBF7-4FED-A53B-8C22BA4016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7602-9CC2-4A3C-B1F5-9E8BD5CFB8E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97;&#1085;&#1099;&#1077;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0;&#1088;&#1072;&#1089;&#1085;&#1072;&#1103;_&#1082;&#1085;&#1080;&#1075;&#1072;_&#1056;&#1086;&#1089;&#1089;&#1080;&#1080;" TargetMode="External"/><Relationship Id="rId4" Type="http://schemas.openxmlformats.org/officeDocument/2006/relationships/hyperlink" Target="http://ru.wikipedia.org/wiki/&#1064;&#1072;&#1073;&#1083;&#1086;&#1085;:&#1044;&#1086;&#1084;&#1072;&#1096;&#1085;&#1080;&#1077;_&#1078;&#1080;&#1074;&#1086;&#1090;&#1085;&#1099;&#1077;" TargetMode="External"/><Relationship Id="rId5" Type="http://schemas.openxmlformats.org/officeDocument/2006/relationships/hyperlink" Target="http://ru.wikipedia.org/wiki/&#1054;&#1073;&#1089;&#1091;&#1078;&#1076;&#1077;&#1085;&#1080;&#1077;_&#1096;&#1072;&#1073;&#1083;&#1086;&#1085;&#1072;:&#1044;&#1086;&#1084;&#1072;&#1096;&#1085;&#1080;&#1077;_&#1078;&#1080;&#1074;&#1086;&#1090;&#1085;&#1099;&#1077;" TargetMode="External"/><Relationship Id="rId6" Type="http://schemas.openxmlformats.org/officeDocument/2006/relationships/hyperlink" Target="http://ru.wikipedia.org/w/index.php?title=&#1064;&#1072;&#1073;&#1083;&#1086;&#1085;:&#1044;&#1086;&#1084;&#1072;&#1096;&#1085;&#1080;&#1077;_&#1078;&#1080;&#1074;&#1086;&#1090;&#1085;&#1099;&#1077;&amp;action=edi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4;&#1084;&#1080;&#1085;&#1075;" TargetMode="External"/><Relationship Id="rId2" Type="http://schemas.openxmlformats.org/officeDocument/2006/relationships/hyperlink" Target="http://ru.wikipedia.org/wiki/&#1043;&#1086;&#1088;&#1085;&#1086;&#1089;&#1090;&#1072;&#1081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2060280"/>
            <a:ext cx="5834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Животные</a:t>
            </a:r>
            <a:r>
              <a:rPr b="0" lang="ru-RU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ндры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полнила ученица 7 «А»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У СОШ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рисова Кс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87200" y="-720"/>
            <a:ext cx="79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3624"/>
                </a:solidFill>
                <a:latin typeface="Tahoma"/>
              </a:rPr>
              <a:t>В северных тундрах обитает особый вид белой куропатки</a:t>
            </a:r>
            <a:r>
              <a:rPr b="0" lang="en-US" sz="1800" spc="-1" strike="noStrike">
                <a:solidFill>
                  <a:srgbClr val="e2362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622520"/>
            <a:ext cx="2050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Окраска оперения в зимний период белая, за исключением черных рулевых перьев (на их концах — белые вершинные полоски), черного клюва и темных-когтей. Стержни первостепенных маховых перьев также темны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268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Тундряная куропатка ведет преимущественно наземный образ жизни и хорошо передвигается как по твердому грунту, так и по рыхлому снег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91240"/>
            <a:ext cx="58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20000" y="1700280"/>
            <a:ext cx="212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Питание тундряных куропаток  весьма разнообразно. В бесснежный период основу рациона составляют семена различных растений, цветы и листья голубики, черники, андромеды, луковички гречихи живородящей, ягоды, листья и стебли вороники, ягоды черники, брусники и толокнянки, листья дриады и различных видов ив, коробочки мх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39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 севере Евразии и Американского континента простираются просторы тунд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жалуй, не найти на Земле более суровых мест:зимой,когда дуют пронзительные ветры и метет колючая пурга, температура в тундре может опускаться до -4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и даже ниже, а летом не поднимается выше +1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496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49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Растительный покров тундры-это разнообразные лишайники, олений корм-ягель,мхи,осоки,низкорослые кустарнички и кустарники, карликовые березки, полярные 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Тундра полна жизни, животный мир этой природной зоны богат и разнообразен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49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-2763720"/>
            <a:ext cx="777240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f097"/>
                </a:solidFill>
                <a:latin typeface="Blackadder ITC"/>
              </a:rPr>
              <a:t>В тундровой зоне обитает достаточно много млекопитающих</a:t>
            </a:r>
            <a:r>
              <a:rPr b="1" i="1" lang="en-US" sz="1600" spc="-1" strike="noStrike">
                <a:solidFill>
                  <a:srgbClr val="36f097"/>
                </a:solidFill>
                <a:latin typeface="Blackadder ITC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4103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23624"/>
                </a:solidFill>
                <a:latin typeface="Tahoma"/>
              </a:rPr>
              <a:t>Белый медведь — самый крупный наземный представитель млекопитающих отряда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хищных</a:t>
            </a:r>
            <a:r>
              <a:rPr b="0" lang="en-US" sz="1600" spc="-1" strike="noStrike" u="sng">
                <a:solidFill>
                  <a:srgbClr val="e23624"/>
                </a:solidFill>
                <a:uFillTx/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37080" cy="2592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2573280"/>
            <a:ext cx="43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138480"/>
            <a:ext cx="874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aramond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 до 10 см толщиной. Белая окраска способствует маскировке хищника. Хорошо развиты обоняние, слух и зрение — свою добычу медведь может увидеть за несколько километ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5049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aramond"/>
              </a:rPr>
              <a:t>При случае подбирает падаль, дохлую рыбу, яйца и птенцов, может есть траву и морские водоросли, в обжитых местах питается на помой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3421080" cy="2276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4000" y="1658880"/>
            <a:ext cx="36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Обитает на дрейфующих морских льдах, где охотится на свою основную добычу: кольчатую нерпу, морского зайца, моржа и др. морских живот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f097"/>
                </a:solidFill>
                <a:latin typeface="Tahoma"/>
              </a:rPr>
              <a:t>По бескрайним просторам тундры перемещается стада северных оленей в поисках лишайникового корм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Северный олень — мигрирующий вид. Широкие копыта позволяют перемещаться по рыхлому снегу и раскапывать его в поисках пищи. Жажду этот олень 9 месяцев в году утоляют снегом. Люди одомашнили северных оленей, изолировав часть стада диких животных. Домашние северные олени живут на полувольном выпасе, а от диких животных отличаются тем, что привыкли к людям и в случае опасности не разбегаются в стороны, а собираются вместе, надеясь на защиту людей. От оленей люди получают молоко, мясо, шерсть, рога, кости, от человека оленям нужна только сол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73708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6165720"/>
          <a:ext cx="9144000" cy="927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Северный олень</a:t>
                      </a:r>
                      <a:r>
                        <a:rPr b="0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 на территории России находится на грани исчезновения и занесён в 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Edwardian Script ITC"/>
                          <a:hlinkClick r:id="rId3"/>
                        </a:rPr>
                        <a:t>Красную книгу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1508040"/>
          <a:ext cx="182520" cy="44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показать]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о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72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тундре обитают мелкие грызуны-лемминги, на которых охотятся песцы и совы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270320"/>
            <a:ext cx="770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6f097"/>
                </a:solidFill>
                <a:latin typeface="Tahoma"/>
              </a:rPr>
              <a:t>Песец</a:t>
            </a:r>
            <a:r>
              <a:rPr b="0" i="1" lang="en-US" sz="1400" spc="-1" strike="noStrike">
                <a:solidFill>
                  <a:srgbClr val="36f097"/>
                </a:solidFill>
                <a:latin typeface="Tahoma"/>
              </a:rPr>
              <a:t>.    - промысловый пушной зверь, которого иногда называют полярной лисицей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Распространены песцы по всей тундре: к северу — до побережья океана и к югу - до северной границы леса. Летом песцы питаются в основном леммингами и полевками, а также поедают яйца, птенцов и даже взрослых птиц, в частности белых куропаток, зиме песцы жиреют, что в условиях холодной и долгой зимы является полезным приспособлением, так как зимой кормов становится меньше, голод заставляет песцов пожирать буквально все мало-мальски съедобное - водоросли, падаль, экскременты людей и животных. Примерно с ноября начинаются массовые перекочевки песцов в места, более благоприятные в отношении кормов. К весне возвращаются в тундру, роют себе новые норы или ремонтируют старые, а затем приступают к размножению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489744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00"/>
                </a:solidFill>
                <a:latin typeface="Tahoma"/>
              </a:rPr>
              <a:t>Коротким полярным летом тундра оживает. В это время сюда прилетает  огромное количество птиц.На побережье материков и на скалистых арктических островах птицы разных видов, питающиеся морской рыбой, образуют огромные совместные населения-птичьи базары. Здесь гнездятся кайры и чистики, гагары и чай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66920" cy="4319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462560" y="2533680"/>
            <a:ext cx="46814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1155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23624"/>
                </a:solidFill>
                <a:latin typeface="Garamond"/>
              </a:rPr>
              <a:t>Белая</a:t>
            </a:r>
            <a:r>
              <a:rPr b="0" i="1" lang="en-US" sz="1800" spc="-1" strike="noStrike">
                <a:solidFill>
                  <a:srgbClr val="e23624"/>
                </a:solidFill>
                <a:latin typeface="Garamond"/>
              </a:rPr>
              <a:t> сова — самая крупная птица из отряда совообразных в тундре. Голова круглая, радужина глаз ярко-жёлт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954000"/>
            <a:ext cx="5903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Полярная сова — активный хищник. Основу её питания составляют мышевидные грызуны, в первую очередь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лемминги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. За год одна сова съедает более 1600 леммингов. Ловит также зайцев, пищух, мелких хищников (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горностай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), птиц (белых куропаток, гусей, уток), не пренебрегает рыбой и падалью. Сова не охотится вблизи гнезда, поэтому птицы охотно селятся поблизости от сов, которые защищают свою территорию от других хищников. Охотится белая сова, главным образом, сидя на земле, предпочтительно на возвышении, и бросаясь на приближающуюся добыч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181120"/>
            <a:ext cx="52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6f097"/>
                </a:solidFill>
                <a:latin typeface="Garamond"/>
              </a:rPr>
              <a:t>Брачное чтиво в марте — апреле, сопровождается сложными ухаживаниями. В некоторых районах белые совы сохраняют постоянные пары на протяжении многих лет; в других пара остаётся вместе только на время одного гнездового сезона</a:t>
            </a:r>
            <a:r>
              <a:rPr b="0" lang="en-US" sz="1600" spc="-1" strike="noStrike">
                <a:solidFill>
                  <a:srgbClr val="36f097"/>
                </a:solidFill>
                <a:latin typeface="Garamond"/>
              </a:rPr>
              <a:t>.</a:t>
            </a:r>
            <a:r>
              <a:rPr b="0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3103560" cy="3756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580000" y="3860640"/>
            <a:ext cx="3564000" cy="299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5:48:55Z</dcterms:created>
  <dc:creator>Максим</dc:creator>
  <dc:description/>
  <dc:language>en-US</dc:language>
  <cp:lastModifiedBy>Максим</cp:lastModifiedBy>
  <dcterms:modified xsi:type="dcterms:W3CDTF">2010-12-08T19:44:59Z</dcterms:modified>
  <cp:revision>2</cp:revision>
  <dc:subject/>
  <dc:title>Животные тундры.</dc:title>
</cp:coreProperties>
</file>