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8B7-54A8-4B66-AF53-A79F8834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9027-15AE-4D67-90C9-6D0B9844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06D-E01F-4ECF-83F1-F3626331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C49C-41D9-40A1-BF47-FB89ED5B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841A-9161-4CEC-9761-C1E4ABCC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E35A-7B30-43CE-BB36-4872AE93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EAFA-BA76-447F-9278-C952C2D1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0C7D-3301-432C-AAF3-4AD2A917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754B-AB3C-43CC-B6BB-8EEF29A0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187A-D1BF-4CED-A509-4EDCE39A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43C2-B20C-4187-A4B9-57B7B57E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F41-A893-41DF-8471-337830E6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50D4-38FD-4596-A25B-48473698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142B-C1FC-4886-A71B-DC478B96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8C98-6240-4D3B-A922-63FBC4C2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4D9F-E0C0-4D86-8468-3C64B7B2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0F95-4AAA-494C-977B-7ED769D0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D19-6409-4ABB-9CAC-2E2B6D24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92CC-828F-4183-A42D-922C94D4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E659-CCCF-43F0-9F6B-6BB31E76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4A8-75D0-4481-8A9C-D335B31C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5D09-6351-4D26-93A6-470626A1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6F8C-C106-4A9A-8583-5D32B914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8412-1A63-45D2-AF17-F8D3627E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EE2B-15C0-418E-92B0-3458CEAACF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A631-455C-42D2-A1CB-BC526E3C2F6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Жилища  животных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038480" y="5334120"/>
            <a:ext cx="5029200" cy="14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: ученик МОУ СОШ № 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н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зные гнезда пти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10" descr="Все гнезда"/>
          <p:cNvPicPr/>
          <p:nvPr/>
        </p:nvPicPr>
        <p:blipFill>
          <a:blip r:embed="rId1"/>
          <a:stretch/>
        </p:blipFill>
        <p:spPr>
          <a:xfrm>
            <a:off x="914400" y="16765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реда об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3440" y="1295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, что окружает живой орган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лище для животных, особенно для тех,которые обитают в воде или поч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сельдь"/>
          <p:cNvPicPr/>
          <p:nvPr/>
        </p:nvPicPr>
        <p:blipFill>
          <a:blip r:embed="rId1"/>
          <a:stretch/>
        </p:blipFill>
        <p:spPr>
          <a:xfrm>
            <a:off x="457200" y="39625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Горбуша"/>
          <p:cNvPicPr/>
          <p:nvPr/>
        </p:nvPicPr>
        <p:blipFill>
          <a:blip r:embed="rId2"/>
          <a:stretch/>
        </p:blipFill>
        <p:spPr>
          <a:xfrm>
            <a:off x="4495680" y="3962520"/>
            <a:ext cx="4267440" cy="2552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676520" y="2133720"/>
            <a:ext cx="5790960" cy="18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нец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Жилищ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дом, в котором тело всегда укрыто от враг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Ручейник1"/>
          <p:cNvPicPr/>
          <p:nvPr/>
        </p:nvPicPr>
        <p:blipFill>
          <a:blip r:embed="rId1"/>
          <a:stretch/>
        </p:blipFill>
        <p:spPr>
          <a:xfrm>
            <a:off x="533520" y="3352680"/>
            <a:ext cx="3733560" cy="289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Реферат 2"/>
          <p:cNvPicPr/>
          <p:nvPr/>
        </p:nvPicPr>
        <p:blipFill>
          <a:blip r:embed="rId2"/>
          <a:stretch/>
        </p:blipFill>
        <p:spPr>
          <a:xfrm>
            <a:off x="4648320" y="3352680"/>
            <a:ext cx="396216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5119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380880"/>
            <a:ext cx="8007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енное или постоянно посещаемое убежищ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Обезьяна"/>
          <p:cNvPicPr/>
          <p:nvPr/>
        </p:nvPicPr>
        <p:blipFill>
          <a:blip r:embed="rId1"/>
          <a:stretch/>
        </p:blipFill>
        <p:spPr>
          <a:xfrm>
            <a:off x="5181480" y="2971800"/>
            <a:ext cx="368136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Белка"/>
          <p:cNvPicPr/>
          <p:nvPr/>
        </p:nvPicPr>
        <p:blipFill>
          <a:blip r:embed="rId2"/>
          <a:stretch/>
        </p:blipFill>
        <p:spPr>
          <a:xfrm>
            <a:off x="457200" y="29718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иды жилищ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п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г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жбища,леж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нез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а об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Дупл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щелина в дереве или скале,пещера,где может укрываться одно животное или несколь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Дупло2"/>
          <p:cNvPicPr/>
          <p:nvPr/>
        </p:nvPicPr>
        <p:blipFill>
          <a:blip r:embed="rId1"/>
          <a:stretch/>
        </p:blipFill>
        <p:spPr>
          <a:xfrm>
            <a:off x="3200400" y="3657600"/>
            <a:ext cx="2209680" cy="274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Дупло3"/>
          <p:cNvPicPr/>
          <p:nvPr/>
        </p:nvPicPr>
        <p:blipFill>
          <a:blip r:embed="rId2"/>
          <a:stretch/>
        </p:blipFill>
        <p:spPr>
          <a:xfrm>
            <a:off x="6095880" y="365760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Дуло3"/>
          <p:cNvPicPr/>
          <p:nvPr/>
        </p:nvPicPr>
        <p:blipFill>
          <a:blip r:embed="rId3"/>
          <a:stretch/>
        </p:blipFill>
        <p:spPr>
          <a:xfrm>
            <a:off x="228600" y="3657600"/>
            <a:ext cx="2438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Нор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может быть система нор, используемых не одним животным,а семьями.В пределах этого жилища проходит вся жизнь:укрытие от врагов,отдых,рождение,кормление и воспитание потомст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Барсук в норе"/>
          <p:cNvPicPr/>
          <p:nvPr/>
        </p:nvPicPr>
        <p:blipFill>
          <a:blip r:embed="rId1"/>
          <a:stretch/>
        </p:blipFill>
        <p:spPr>
          <a:xfrm>
            <a:off x="5029200" y="3581280"/>
            <a:ext cx="3619440" cy="2981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Лиса у норы"/>
          <p:cNvPicPr/>
          <p:nvPr/>
        </p:nvPicPr>
        <p:blipFill>
          <a:blip r:embed="rId2"/>
          <a:stretch/>
        </p:blipFill>
        <p:spPr>
          <a:xfrm>
            <a:off x="380880" y="3581280"/>
            <a:ext cx="3784680" cy="2921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огов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ено на поверхности земли,в укромном мес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Логово волка"/>
          <p:cNvPicPr/>
          <p:nvPr/>
        </p:nvPicPr>
        <p:blipFill>
          <a:blip r:embed="rId1"/>
          <a:stretch/>
        </p:blipFill>
        <p:spPr>
          <a:xfrm>
            <a:off x="152280" y="3733920"/>
            <a:ext cx="2514600" cy="295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Берлога3"/>
          <p:cNvPicPr/>
          <p:nvPr/>
        </p:nvPicPr>
        <p:blipFill>
          <a:blip r:embed="rId2"/>
          <a:stretch/>
        </p:blipFill>
        <p:spPr>
          <a:xfrm>
            <a:off x="6324480" y="3733920"/>
            <a:ext cx="266724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Медведь в спячке1"/>
          <p:cNvPicPr/>
          <p:nvPr/>
        </p:nvPicPr>
        <p:blipFill>
          <a:blip r:embed="rId3"/>
          <a:stretch/>
        </p:blipFill>
        <p:spPr>
          <a:xfrm>
            <a:off x="2819520" y="3733920"/>
            <a:ext cx="3238560" cy="2981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ежбище,леж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ские ластоногие для отдыха и размножения собираются стадами на береговых или ледовых лежбищ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си,олени,зайцы отдыхают и укрываются на леж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Лежбише моржей"/>
          <p:cNvPicPr/>
          <p:nvPr/>
        </p:nvPicPr>
        <p:blipFill>
          <a:blip r:embed="rId1"/>
          <a:stretch/>
        </p:blipFill>
        <p:spPr>
          <a:xfrm>
            <a:off x="380880" y="3733920"/>
            <a:ext cx="3810240" cy="2724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Заяц в лежке"/>
          <p:cNvPicPr/>
          <p:nvPr/>
        </p:nvPicPr>
        <p:blipFill>
          <a:blip r:embed="rId2"/>
          <a:stretch/>
        </p:blipFill>
        <p:spPr>
          <a:xfrm>
            <a:off x="4648320" y="3657600"/>
            <a:ext cx="4209840" cy="2838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незд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800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мелких птиц гнездо имеет временный характер-предназначено только для выведения потомства. Крупные хищники используют  свои гнезда в течение нескольких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незда птиц чрезвычайно  разнообраз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гнездо птицы"/>
          <p:cNvPicPr/>
          <p:nvPr/>
        </p:nvPicPr>
        <p:blipFill>
          <a:blip r:embed="rId1"/>
          <a:stretch/>
        </p:blipFill>
        <p:spPr>
          <a:xfrm>
            <a:off x="609480" y="3962520"/>
            <a:ext cx="3581640" cy="2743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Гнездо2"/>
          <p:cNvPicPr/>
          <p:nvPr/>
        </p:nvPicPr>
        <p:blipFill>
          <a:blip r:embed="rId2"/>
          <a:stretch/>
        </p:blipFill>
        <p:spPr>
          <a:xfrm>
            <a:off x="4648320" y="3962520"/>
            <a:ext cx="3581280" cy="27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а_Мастера</cp:lastModifiedBy>
  <dcterms:modified xsi:type="dcterms:W3CDTF">2011-11-13T09:56:2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