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95B7-2B34-49D5-8CFC-90C9DB2FC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2106-D059-4F99-B012-C7FA6C9E3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483D-8DB9-4C1F-9BB1-E1AA1A52C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7717-FC99-4719-868F-4189A4BFE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6A42E-3CAB-4AC9-B03F-EB2E140F1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5F145-D081-47DB-8406-A17B80B56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EC8AA-AA26-41B5-96B9-2368CA581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404B1-D13D-45A1-BEBF-B3297BA10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9172C-A582-4E54-ADB7-C9B7C753F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2974F-DDEB-4045-9E0B-4E3105868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76920-1823-467A-A3F9-D491AC6C0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97B6-B4E4-42CB-ACB7-3CC080E66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1B298-8C45-4A87-A4A9-0131D8349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17D6C-3A4A-4310-A0BE-E5B96BD04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ED67C-1342-4D56-B20B-58EC95351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9988B-0FF9-4B31-A31E-90D4BDD17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366FC-7C2A-47FD-9F03-6A2B22DF5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C47C-5511-4E7F-A0A4-AAEF5A62E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CE1E-2D11-409C-83E7-F98C29C10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4660-DF71-471D-8E3C-39C2E47E6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6AD6-F0DB-4138-B97A-40B5F4CC5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8723-9904-45EA-92AF-6C9A80EB6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AB6A-E7EC-4907-AF00-F07B62888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933B-A9E1-457D-98F8-696285098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F0036-5EE4-47FF-A936-8DEC3D28CE5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EE896-F277-4F04-86F2-4F861579537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19047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eec94"/>
                </a:solidFill>
                <a:latin typeface="Times New Roman"/>
              </a:rPr>
              <a:t>Влияние температуры среды обитания на жизнь животных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648320" y="5410080"/>
            <a:ext cx="441936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ыполнил: ученик 8 класса «А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орнев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ль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Холоднокровные животные </a:t>
            </a:r>
            <a:br>
              <a:rPr sz="1600"/>
            </a:br>
            <a:r>
              <a:rPr b="1" lang="ru-RU" sz="1600" spc="-1" strike="noStrike">
                <a:solidFill>
                  <a:srgbClr val="feec94"/>
                </a:solidFill>
                <a:latin typeface="Times New Roman"/>
              </a:rPr>
              <a:t>(не имеют постоянной температуры тела)</a:t>
            </a:r>
            <a:br>
              <a:rPr sz="1600"/>
            </a:br>
            <a:r>
              <a:rPr b="1" lang="ru-RU" sz="2000" spc="-1" strike="noStrike">
                <a:solidFill>
                  <a:srgbClr val="feec94"/>
                </a:solidFill>
                <a:latin typeface="Times New Roman"/>
              </a:rPr>
              <a:t>Способы реагирования на температуру среды и соответственно регулирования своей температуры</a:t>
            </a:r>
            <a:endParaRPr b="1" lang="en-US" sz="2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Греться на солнце, чтобы оно освещало и нагревало как можно большую поверхность тела. Этим способом пользуется-кузнечики, саранча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;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есмыкаюшиеся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Picture 5" descr="Кузнечик2"/>
          <p:cNvPicPr/>
          <p:nvPr/>
        </p:nvPicPr>
        <p:blipFill>
          <a:blip r:embed="rId1"/>
          <a:stretch/>
        </p:blipFill>
        <p:spPr>
          <a:xfrm>
            <a:off x="457200" y="1752480"/>
            <a:ext cx="3048120" cy="22100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крулоголов"/>
          <p:cNvPicPr/>
          <p:nvPr/>
        </p:nvPicPr>
        <p:blipFill>
          <a:blip r:embed="rId2"/>
          <a:stretch/>
        </p:blipFill>
        <p:spPr>
          <a:xfrm>
            <a:off x="5334120" y="4314960"/>
            <a:ext cx="2914560" cy="25430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8" descr="ящерица1"/>
          <p:cNvPicPr/>
          <p:nvPr/>
        </p:nvPicPr>
        <p:blipFill>
          <a:blip r:embed="rId3"/>
          <a:stretch/>
        </p:blipFill>
        <p:spPr>
          <a:xfrm>
            <a:off x="457200" y="4343400"/>
            <a:ext cx="3048120" cy="2209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880" y="53341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520" y="152280"/>
            <a:ext cx="861084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зменение окраски тела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тром темная окраска способствует поглощению внешнего тепла, а по мере усиления солнечного тепла она бледнеет. Это  используют пустынные игуаны. Черепахи выставляют из -под панциря свои темные лапы, улавливая тепло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Picture 15" descr="игуана2"/>
          <p:cNvPicPr/>
          <p:nvPr/>
        </p:nvPicPr>
        <p:blipFill>
          <a:blip r:embed="rId1"/>
          <a:stretch/>
        </p:blipFill>
        <p:spPr>
          <a:xfrm>
            <a:off x="4724280" y="3276720"/>
            <a:ext cx="3886200" cy="3276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6" descr="черепаха1"/>
          <p:cNvPicPr/>
          <p:nvPr/>
        </p:nvPicPr>
        <p:blipFill>
          <a:blip r:embed="rId2"/>
          <a:stretch/>
        </p:blipFill>
        <p:spPr>
          <a:xfrm>
            <a:off x="533520" y="3429000"/>
            <a:ext cx="3429000" cy="29718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898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898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228600"/>
            <a:ext cx="82296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зменение двигательной активности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ышечная работа способствует разогреванию тела. При  понижении температуры увеличивается двигательная активность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Picture 4" descr="Мокрица1"/>
          <p:cNvPicPr/>
          <p:nvPr/>
        </p:nvPicPr>
        <p:blipFill>
          <a:blip r:embed="rId1"/>
          <a:stretch/>
        </p:blipFill>
        <p:spPr>
          <a:xfrm>
            <a:off x="4800600" y="3505320"/>
            <a:ext cx="4048200" cy="24526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бабочка бражница1"/>
          <p:cNvPicPr/>
          <p:nvPr/>
        </p:nvPicPr>
        <p:blipFill>
          <a:blip r:embed="rId2"/>
          <a:stretch/>
        </p:blipFill>
        <p:spPr>
          <a:xfrm>
            <a:off x="304920" y="3505320"/>
            <a:ext cx="403848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Оцепенение (реакция  на изменения температуры среды  водных  животных)</a:t>
            </a:r>
            <a:br>
              <a:rPr sz="3200"/>
            </a:b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190760"/>
            <a:ext cx="784872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араси закапываются            Осетры лежат неподвижно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ил, температура их тела          близ дна, их тело покры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пускается.                                  вается толстым слоем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лизи,которая изолирует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т низких температур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Picture 4" descr="карась2"/>
          <p:cNvPicPr/>
          <p:nvPr/>
        </p:nvPicPr>
        <p:blipFill>
          <a:blip r:embed="rId1"/>
          <a:stretch/>
        </p:blipFill>
        <p:spPr>
          <a:xfrm>
            <a:off x="533520" y="1219320"/>
            <a:ext cx="3538440" cy="29718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Осетра"/>
          <p:cNvPicPr/>
          <p:nvPr/>
        </p:nvPicPr>
        <p:blipFill>
          <a:blip r:embed="rId2"/>
          <a:stretch/>
        </p:blipFill>
        <p:spPr>
          <a:xfrm>
            <a:off x="4648320" y="1219320"/>
            <a:ext cx="3733560" cy="29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352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Теплокровные животные</a:t>
            </a:r>
            <a:br>
              <a:rPr sz="4000"/>
            </a:br>
            <a:r>
              <a:rPr b="1" lang="ru-RU" sz="1600" spc="-1" strike="noStrike">
                <a:solidFill>
                  <a:srgbClr val="feec94"/>
                </a:solidFill>
                <a:latin typeface="Times New Roman"/>
              </a:rPr>
              <a:t>(имеют постоянную температуру тела)</a:t>
            </a:r>
            <a:br>
              <a:rPr sz="1600"/>
            </a:br>
            <a:br>
              <a:rPr sz="1600"/>
            </a:br>
            <a:br>
              <a:rPr sz="1600"/>
            </a:b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Способы приспособления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организма к изменениям  температуры среды обитания.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3276360"/>
            <a:ext cx="8229600" cy="216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Густота волосяного покрова или перьевого покров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личие подкожного жир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Частота дыхательных движени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0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067680" y="-669600"/>
            <a:ext cx="7632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66320" y="259092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чень теплый покров имеют: овцебык,северный олень,  белый медведь,  королевский пингвин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800600" y="533160"/>
            <a:ext cx="4038480" cy="186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и приближении зимы количество пуховых перьев на теле чижа увеличивается примерно на одну тысячу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5" name="Picture 5" descr="чиж"/>
          <p:cNvPicPr/>
          <p:nvPr/>
        </p:nvPicPr>
        <p:blipFill>
          <a:blip r:embed="rId1"/>
          <a:stretch/>
        </p:blipFill>
        <p:spPr>
          <a:xfrm>
            <a:off x="152280" y="152280"/>
            <a:ext cx="3581640" cy="23623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1" descr="Пингвин королевский"/>
          <p:cNvPicPr/>
          <p:nvPr/>
        </p:nvPicPr>
        <p:blipFill>
          <a:blip r:embed="rId2"/>
          <a:stretch/>
        </p:blipFill>
        <p:spPr>
          <a:xfrm>
            <a:off x="152280" y="3581280"/>
            <a:ext cx="2895840" cy="32767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3" descr="Северный олень"/>
          <p:cNvPicPr/>
          <p:nvPr/>
        </p:nvPicPr>
        <p:blipFill>
          <a:blip r:embed="rId3"/>
          <a:stretch/>
        </p:blipFill>
        <p:spPr>
          <a:xfrm>
            <a:off x="3276720" y="3581280"/>
            <a:ext cx="2504880" cy="32767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4" descr="белый медведь"/>
          <p:cNvPicPr/>
          <p:nvPr/>
        </p:nvPicPr>
        <p:blipFill>
          <a:blip r:embed="rId4"/>
          <a:stretch/>
        </p:blipFill>
        <p:spPr>
          <a:xfrm>
            <a:off x="6248520" y="3581280"/>
            <a:ext cx="2438280" cy="3276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Поведение животных при температурных изменениях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447920" y="1523880"/>
            <a:ext cx="7315200" cy="133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и сезонном понижении температуры теплокровные животные впадают в спячку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Picture 4" descr="Медведь в спячке1"/>
          <p:cNvPicPr/>
          <p:nvPr/>
        </p:nvPicPr>
        <p:blipFill>
          <a:blip r:embed="rId1"/>
          <a:stretch/>
        </p:blipFill>
        <p:spPr>
          <a:xfrm>
            <a:off x="1371600" y="2514600"/>
            <a:ext cx="6705720" cy="42102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0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2282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ветреную погоду  пингвины сбиваются в плотные группы и внутри их укрывают детенышей. Такой способ поведения позволяет удерживать  внутри группы более высокий уровень температуры и спасать себя и свое потомство от ледяного ветр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Picture 5" descr="penguins_03"/>
          <p:cNvPicPr/>
          <p:nvPr/>
        </p:nvPicPr>
        <p:blipFill>
          <a:blip r:embed="rId1"/>
          <a:stretch/>
        </p:blipFill>
        <p:spPr>
          <a:xfrm>
            <a:off x="1143000" y="2286000"/>
            <a:ext cx="6553080" cy="44197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Жена_Мастера</cp:lastModifiedBy>
  <dcterms:modified xsi:type="dcterms:W3CDTF">2011-11-13T09:42:05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