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6B14-5ACB-4254-8A61-209EA500D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4F3B-713B-4629-9019-DBC55577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60C4-DA0D-48AE-854A-8528E6895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8D86-1EFC-4BF5-A9A5-685AEDD49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463E-CC0E-472D-A171-E5512C90D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A282-2C56-4399-A3C7-556D2E6C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7F3FC-55CB-478A-A0EF-58246DD7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A16D-EE4F-4843-8988-DEC2206D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4F9A-3ACA-4ED1-AE10-A322C6FA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A8AC9-B146-4FB0-8BF2-98AE978C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07CE-E0CF-4B23-A16B-119D251F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6BC9-9826-4C40-979F-DABC68CB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07F77-0214-4032-9FA5-A2DCE18D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8F94B-8710-4D1E-B1CA-F53C4FCC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F014E-C5D6-418E-B58F-5546DE28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33828-9AC9-4BEA-A9CC-4E3CEC5F3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F726-AC9C-40E3-8BD1-198D8E2A1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3D54D5-A609-4CDF-9DE7-379D3FDC1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AB7A20-FA97-483F-89DE-7BA7CCC6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F63045-03F1-4926-8623-99BB8049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559A4F-D367-440C-ADFB-36382FFC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E54B7A-9E1F-4B3A-8570-8A4C053C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0A33-6579-418F-B9C3-7E94A313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75657A-5B98-45A1-898E-DE1C0113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4353F9-9A7C-43C2-948D-F050C46F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0BEA7E-F625-455D-9B7F-1AE0B201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94FC6B-B9F8-4BEB-816E-E0F68231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C5131D-51AD-4253-AD8B-2CA9B084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1A63A1-1F48-47CC-B928-CFD0C7BBA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494F46-AA22-48D3-A146-0BA241C66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7802D-366B-45EE-BC31-6849CD030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AA168-7094-42DA-8BFE-4215DF36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262D3-F12C-414E-892E-A09560D4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99B2-08DE-45BE-9E93-1A49074C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C90C1-CD2C-4BCE-B47A-61176ED5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D04D6-BABC-4F75-BC18-D0A1CB0C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9B6E1-84B0-48DA-9830-B7F5CF3C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8BFEF-CB49-4D4B-B11E-9EC0A966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21C73-DB09-4CDF-BC14-F0607981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AB243-7170-425C-902A-5AF2D4E7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C19B7-7D2C-4482-B7B4-20D1EDA0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55F08-27BF-4A76-B814-0F33F6B85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8B0D1-351E-4925-89B8-F40FE4C0E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AF2B09-79AB-433F-A654-D04DA614C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EA8A-CF3C-451D-9232-90799C8F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675DC6-D41D-4B0B-9E23-E25EA1F7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827E72-93E4-4AF1-BF84-EEBFDD1A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CBE1CD-ED8A-4D5C-9B1F-BBAF63D6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87ADE4-7E25-4C73-A82A-7BE8DAA6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D80DC3-F349-4A51-A134-4F05DE03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520C1D-4FFE-467F-BEE4-FA2E05CF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3F38BF-5642-4B96-85A4-4D4DD637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01A263-B78E-4A37-8AA3-86153557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0C8FD5-F5F7-4110-8786-C80FEFB0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4E0890-8D07-43E0-A593-9BB87104B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34F1-1686-44C3-9DF1-4478803E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4091B5-2266-4206-8E17-5AE426607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1F6432-58FC-4DE1-B6CA-77A38D309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FD2EAF-6CDB-4C8D-98A6-04A2C9B7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4CE03B-4B18-4688-B6D2-7F5090FD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82EC0F-B701-4313-92B1-CE617A39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17E8A2-9931-415F-9446-53C41D57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271A61-B205-47AC-9B76-318B279A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DF8A3F-83FF-4DE7-AEBE-AC4E0DFC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D2E9D0-1A7F-455C-89FB-08A548E5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B1750D-E792-424E-85F5-8FCB51D3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818C-BB7E-4BF5-834C-92F7161B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AEBD96-992A-48C2-8F79-EADE3DF0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248F67-9045-4EB7-8D5A-B389AB102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417CD0-E848-4993-ABC8-F444D4606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B4C45A-E668-4803-8F1B-FE0CBF513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07CC31-D138-424B-A9A2-C1DA5EC5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F0EFDE-8D18-4DFB-B6A1-F56D1FBF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F8B7D4-3651-4689-959F-9728A903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8E415A-44E4-444C-B0BF-6F421157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B9D3FE-2FF9-421B-909D-F645E328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24D44E-1DF0-48CD-A2B1-5DDE3823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53F7-BFCF-4A45-B9E3-2E6316DF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F6D07C-1636-4536-83C1-1101CBD8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3B3E49-6026-4BDC-9631-647579CB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AC2E93-2882-4766-A865-2371017E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E85DF2-6ED9-43AD-B405-38CC3DB31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51E8CA-7A76-443C-92BC-10BEEE9CD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9CCA3-B4A0-4E2C-A532-F80480D95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6419E-7F32-444C-B934-DDB11EC5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809C3-82BA-4DFD-903B-8B99FE56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90D64-F5FE-4287-8645-A638FCEB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A9D10-0BBA-4ECF-8273-C59444EA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C02D-5EC9-46BC-84D3-E53E0F57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84E03-A465-42BD-9492-864A89E0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32F94-956C-41DC-AE89-0D23F454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AF810-0CC6-425E-A006-CA0741CE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D84D0-FD49-4038-ABAB-3E280750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11F1A0-D06B-44A9-8EC8-4802E9BA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E1872-2EA4-4B4E-BC24-3261070D2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A3438-238F-4A16-9F21-A7B7049D3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989B-BA66-4524-ADF7-5CC59D2B073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93FF-D756-4FC1-97A5-FA5273EE4F6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9424-C1A5-4D93-AFFB-6FEC3067EBC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393E-2344-4364-87F6-996E0583F6A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FDF0-2875-4473-A836-5DEF1562552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B7EE-F620-4593-83AF-6C8937878CD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2D4B-F310-42DB-9359-E10FA647D09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B2AE-4FB4-4291-95AF-8C77ADAC837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planurokal@mail.ru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planurokas@mail.ru" TargetMode="External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planurokap@mail.ru" TargetMode="External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planurokaa@mail.ru" TargetMode="External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299736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98989"/>
                </a:solidFill>
                <a:latin typeface="Century Schoolbook"/>
              </a:rPr>
              <a:t>КАФЕДРА НАЧАЛЬНОГО ОБРАЗОВАНИЯ</a:t>
            </a:r>
            <a:br>
              <a:rPr sz="2800"/>
            </a:br>
            <a:r>
              <a:rPr b="1" lang="ru-RU" sz="2800" spc="-1" strike="noStrike">
                <a:solidFill>
                  <a:srgbClr val="898989"/>
                </a:solidFill>
                <a:latin typeface="Century Schoolbook"/>
              </a:rPr>
              <a:t> ГБОУ ДПО </a:t>
            </a:r>
            <a:br>
              <a:rPr sz="2800"/>
            </a:br>
            <a:r>
              <a:rPr b="1" lang="ru-RU" sz="2800" spc="-1" strike="noStrike">
                <a:solidFill>
                  <a:srgbClr val="898989"/>
                </a:solidFill>
                <a:latin typeface="Century Schoolbook"/>
              </a:rPr>
              <a:t>«НИЖЕГОРОДСКИЙ ИНСТИТУТ РАЗВИТИЯ ОБРАЗОВАНИЯ»</a:t>
            </a:r>
            <a:br>
              <a:rPr sz="2900"/>
            </a:br>
            <a:br>
              <a:rPr sz="2700"/>
            </a:b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«ТЕОРИЯ И МЕТОДИКА ПРЕПОДАВАНИЯ В НАЧАЛЬНОЙ ШКОЛЕ В УСЛОВИЯХ РЕАЛИЗАЦИИ ФГОС»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979640" y="5445000"/>
            <a:ext cx="640080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00000"/>
                </a:solidFill>
                <a:latin typeface="Century Schoolbook"/>
              </a:rPr>
              <a:t>Требования к оформлению зачетной работы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00000"/>
                </a:solidFill>
                <a:latin typeface="Century Schoolbook"/>
              </a:rPr>
              <a:t>Квалификационные курсы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00000"/>
                </a:solidFill>
                <a:latin typeface="Century Schoolbook"/>
              </a:rPr>
              <a:t>НИРО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98989"/>
                </a:solidFill>
                <a:latin typeface="Arial"/>
              </a:rPr>
              <a:t>2017 - 2018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c00000"/>
                </a:solidFill>
                <a:latin typeface="Century Schoolbook"/>
              </a:rPr>
              <a:t>ПРОЕКТ УРОКА</a:t>
            </a:r>
            <a:br>
              <a:rPr sz="2700"/>
            </a:br>
            <a:r>
              <a:rPr b="0" lang="ru-RU" sz="2700" spc="-1" strike="noStrike">
                <a:solidFill>
                  <a:srgbClr val="c00000"/>
                </a:solidFill>
                <a:latin typeface="Century Schoolbook"/>
              </a:rPr>
              <a:t>СТРУКТУРА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7200" y="100008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чебный предмет______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МК_________________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ема урока ____________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ип урока: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изучение нового материал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дачи урока_________________________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жидаемые результаты (предметные; метапредметные: познавательные, коммуникативные, регулятивные; личностные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орудован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ходный уровень знаний и умений обучающих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ля изучения данной тем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Этапы урока и хронометраж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держание урока (в таблице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амоанализ уро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заполненный бланк ( в том числе и в электронном виде 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ехнические требов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ТЕМА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улируется 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полно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и точно в соответствии с рекомендациями авторов УМК, данными в рабочей программе и методических рекомендациях по предмет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ЗАДАЧИ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Формулировка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конкретных дидактических задач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полно и точно, так, чтобы можно было отследить их реализацию в ходе уро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Важно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- ставятся только те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задачи, над которыми реально ведется работа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на данном уроке и их реализацию возможно отследить в ходе урок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6840" y="333360"/>
            <a:ext cx="74674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Задачи уро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Формулируются комплексные задачи, связанные с формированием различных компонентов учебной деятельности и УУД, а дидактические задачи включаются в  них как составная част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Например, </a:t>
            </a: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«Развитие познавательных логических УУД анализа и обобщения на основе самостоятельного открытия учащимися нового вычислительного приема сложения с переходом через десяток»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              </a:t>
            </a: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«Развитие регулятивного УУД итогового самоконтроля на основе соотнесения составленного текста и его модели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НЕ допускается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формулировка задач урока в общей форме, например, «Развивать мышление учащихся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ОБОРУДОВАНИЕ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8360" y="126792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казываются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глядные пособи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боры, инструменты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ндивидуальные пособия (карточки, средства обратной связи и др.) прилагаются к конспекту и описываютс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омпьютерная презентация (если есть в ней необходимость), прикладывается к проекту и др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ПЛАН И ХРОНОМЕТРАЖ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робный план, отражает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дидактическую и методическую структуру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краткое содержание каждого этап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казывается время на каждый этап уро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1042920" y="4005360"/>
          <a:ext cx="7705800" cy="1981080"/>
        </p:xfrm>
        <a:graphic>
          <a:graphicData uri="http://schemas.openxmlformats.org/drawingml/2006/table">
            <a:tbl>
              <a:tblPr/>
              <a:tblGrid>
                <a:gridCol w="941400"/>
                <a:gridCol w="4316400"/>
                <a:gridCol w="2448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/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звание этап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ронометра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План урока с хронометражем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римеры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«Открытие способа вычисления площади прямоугольника с применением палетки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«Ознакомление с новым вычислительным приемом вида 9+5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«Самостоятельная работа учащихся по выявлению свойств и состояний воды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Times New Roman"/>
              </a:rPr>
              <a:t>ХОД УРОКА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0" y="981000"/>
          <a:ext cx="8785080" cy="5515200"/>
        </p:xfrm>
        <a:graphic>
          <a:graphicData uri="http://schemas.openxmlformats.org/drawingml/2006/table">
            <a:tbl>
              <a:tblPr/>
              <a:tblGrid>
                <a:gridCol w="1425600"/>
                <a:gridCol w="2174760"/>
                <a:gridCol w="2149560"/>
                <a:gridCol w="3035160"/>
              </a:tblGrid>
              <a:tr h="41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Этап уро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еятельность уч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еятельность учащих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Теоретическое основание: формируемые УУД (группа УУД  и название конкретного УУД) , средства их формирования (формы, методы, приемы и т.п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СОДЕРЖАНИЕ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ражает ход, всё содержание (скан.задания учебника, тетради) и организацию урока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казываются слова учителя и образцы рассуждений учеников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ы работы и способы организации деятельности учащихся 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ражена дифференциация и индивидуализация обучения  младших школьников (указаны упражнения, виды помощи для отдельных учеников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ТЕОРЕТИЧЕСКОЕ ОБОСНОВАНИ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ражает процесс формирования УУД на каждом этапе данного уро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а построения суждения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что формируется (указываетс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группа и конкретное ууд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из этой группы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с помощью чего (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указываютс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конкретны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дидактические и/или методические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редства)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БОУ ДПО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ижегородский институт развития образования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федра начального образов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урсы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«Теория и методика преподавания в начальной школе в условиях реализации ФГОС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(срок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4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20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06.20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ЧЕТНАЯ РАБОТ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ект урока по теме: «     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полнил 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У № _____ _______________район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О _______________________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валификационная категория 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ж работы учителем начальных классов___л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.Новгород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018 год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WordArt 3"/>
          <p:cNvSpPr txBox="1"/>
          <p:nvPr/>
        </p:nvSpPr>
        <p:spPr>
          <a:xfrm rot="5400000">
            <a:off x="-2737080" y="3321000"/>
            <a:ext cx="6337440" cy="215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итульный лист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САМОАНАЛИЗ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роводится в соответствии со схемой анализа (бланк №1 и №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Критерии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 - соответствует требованиям ФГОС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 - частично соответствует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 –не соответствует (отражает требования к традиционному уроку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о этим критериям оценивает работу и преподаватель кафедр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676640" y="1196640"/>
            <a:ext cx="1467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ЦЕНКА ПРОЕКТА УРОКА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ЛАНК №1</a:t>
            </a:r>
            <a:br>
              <a:rPr sz="1800"/>
            </a:br>
            <a:br>
              <a:rPr sz="1400"/>
            </a:b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14400" y="25560"/>
          <a:ext cx="7510320" cy="7500600"/>
        </p:xfrm>
        <a:graphic>
          <a:graphicData uri="http://schemas.openxmlformats.org/drawingml/2006/table">
            <a:tbl>
              <a:tblPr/>
              <a:tblGrid>
                <a:gridCol w="450720"/>
                <a:gridCol w="6122880"/>
                <a:gridCol w="368280"/>
                <a:gridCol w="568440"/>
              </a:tblGrid>
              <a:tr h="420480">
                <a:tc rowSpan="2"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\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араметр оцен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алл (3,2,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амооцен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учител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ценка преподавателя НИР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052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ложность  содержания, его соответствие возможностям уча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08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Реализация компетентностного подх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19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Творческий или репродуктивный характер учебных заданий, их целесообразность и обоснова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08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Развивающая направленность зад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11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Логика построения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01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ормы учебной  работы, их разнообразие и оптимальность выбо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19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Методы обучения и методические приемы, целесообразность их выбо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08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Характер используемой нагляд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19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Целесообразность и функциональность используемых средств об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052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существление дифференцированного подхода к учащимся, учет их индивидуальных особен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052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ормирование мотивационного компонента учебно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80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остановка учебных задач. Организация целеполаг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08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ормирование познавательных У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11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ормирование регулятивных У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80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ормирование коммуникативных У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10240">
                <a:tc gridSpan="2"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                        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Всего бал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43" name="Rectangle 2"/>
          <p:cNvSpPr/>
          <p:nvPr/>
        </p:nvSpPr>
        <p:spPr>
          <a:xfrm>
            <a:off x="7524720" y="2175480"/>
            <a:ext cx="16192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ьная сумм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5 баллов (разработанный урок полностью соответствует ФГОС), минимальна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 баллов (урок является традиционным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9679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АЛИЗ СООТВЕТСТВИЯ СТРУКТУРНЫХ ЧАСТЕЙ ПРОЕКТА УРОКА                                                         БЛАНК №2</a:t>
            </a:r>
            <a:br>
              <a:rPr sz="1800"/>
            </a:b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250920" y="620640"/>
          <a:ext cx="8640720" cy="4803840"/>
        </p:xfrm>
        <a:graphic>
          <a:graphicData uri="http://schemas.openxmlformats.org/drawingml/2006/table">
            <a:tbl>
              <a:tblPr/>
              <a:tblGrid>
                <a:gridCol w="1185840"/>
                <a:gridCol w="4678200"/>
                <a:gridCol w="1387440"/>
                <a:gridCol w="1389240"/>
              </a:tblGrid>
              <a:tr h="308160"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№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труктурные части проекта и параметры их оцен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алл (3,2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амооц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учител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ценка преподавателя НИ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843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Наличие общих сведений о проекте и соблюдение правил оформления зачетной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561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пределение исходного уровня сформированности ЗУ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842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равильность формулировки темы и задач урока, наличие сведений об оборудовании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281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облюдение требований к плану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28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Качество теоретического обосн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843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Адекватность самоанализа урока (объективность выставления учителем баллов за свой конспек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</a:tbl>
          </a:graphicData>
        </a:graphic>
      </p:graphicFrame>
      <p:sp>
        <p:nvSpPr>
          <p:cNvPr id="446" name="Rectangle 1"/>
          <p:cNvSpPr/>
          <p:nvPr/>
        </p:nvSpPr>
        <p:spPr>
          <a:xfrm>
            <a:off x="250920" y="5479920"/>
            <a:ext cx="8532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ценивания используется следующая шкала: 3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ответствует требованиям, 2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астично соответствует, 1 - минимально соответствует, 0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ностью не соответствует. Максимальная сумм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8 баллов, минимальн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 бал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оценка проекта урока и структурных частей проекта урока в сумме может составить 63 балла максима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ки зачетной работы преподавателем НИР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ее 31 балл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зачте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5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чтено с замеча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 - 63  - зачте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ТЕХНИЧЕСКИЕ ТРЕБ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выполняется на листах формата Ф-4, вложенных в папк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риф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s New Roma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размер шрифта 14, межстрочный интервал 1,5; все поля 2 с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ницы пронумерованы, на титульном листе номер не ставитс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598d9"/>
                </a:solidFill>
                <a:latin typeface="Century Schoolbook"/>
              </a:rPr>
              <a:t>ЛИТЕРАТУР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казываете дополнительную литературу (источники) , которые были использованы при подготовке проекта уро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ЛИТЕРАТУРА  (В ПОМОЩЬ УЧИТЕЛЮ):</a:t>
            </a:r>
            <a:br>
              <a:rPr sz="1400"/>
            </a:br>
            <a:r>
              <a:rPr b="0" lang="en-US" sz="1600" spc="-1" strike="noStrike">
                <a:solidFill>
                  <a:srgbClr val="575f6d"/>
                </a:solidFill>
                <a:latin typeface="Arial"/>
              </a:rPr>
              <a:t>СОВРЕМЕННЫЕ ТЕХНОЛОГИИ ПРОВЕДЕНИЯ УРОКА В НАЧАЛЬНОЙ ШКОЛЕ С УЧЕТОМ ТРЕБОВАНИЙ ФГОС» ПОД РЕД. ДЕМЕНЕВОЙ Н. Н., ИЗДАТЕЛЬСТВО «АРКТИ», 2014 Г. </a:t>
            </a: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21128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В пособии раскрываются особенности построения современного урока в начальной школе с учетом требования Федерального государственного стандарта. Сопоставлены характеристики традиционного урока, не соответствующего стандарту, и развивающего урока, соответствующего ФГОС НОО. Приводятся примеры из вариативных учебников для начальной школы по различным учебным предметам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Пособие адресовано учителям начальных классов, директорам и завучам общеобразовательных учреждений, студентам педагогических вузов и колледже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53" name="Picture 5" descr="image007"/>
          <p:cNvPicPr/>
          <p:nvPr/>
        </p:nvPicPr>
        <p:blipFill>
          <a:blip r:embed="rId1"/>
          <a:stretch/>
        </p:blipFill>
        <p:spPr>
          <a:xfrm>
            <a:off x="395280" y="1268280"/>
            <a:ext cx="3309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ЛЕНИНСКИЙ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РАЙО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2611c"/>
                </a:solidFill>
                <a:latin typeface="Arial"/>
              </a:rPr>
              <a:t>Проект урока отправляется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на электронную почту</a:t>
            </a: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planurokal@mail.ru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– Ленинский район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не позднее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11 июня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Требования к оформлению письм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(математика, русский язык, литературное чтение, окружающий мир, обучение грамоте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При повторной отправке 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+ «исправленное»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СОРМОВСКИЙ 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РАЙО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2611c"/>
                </a:solidFill>
                <a:latin typeface="Arial"/>
              </a:rPr>
              <a:t>Проект урока отправляется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на электронную почту</a:t>
            </a: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planurokas@mail.ru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ормовский район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не позднее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11</a:t>
            </a: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июня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Требования к оформлению письм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(математика, русский язык, литературное чтение, окружающий мир, обучение грамоте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При повторной отправке 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+ «исправленное»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ПРИОКСКИЙ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РАЙО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2611c"/>
                </a:solidFill>
                <a:latin typeface="Arial"/>
              </a:rPr>
              <a:t>Проект урока отправляется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на электронную почту</a:t>
            </a: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planurokap@mail.ru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– Приокский район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не позднее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11</a:t>
            </a: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июня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Требования к оформлению письм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(математика, русский язык, литературное чтение, окружающий мир, обучение грамоте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При повторной отправке 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+ «исправленное»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АВТОЗАВОДСКИЙ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РАЙО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2611c"/>
                </a:solidFill>
                <a:latin typeface="Arial"/>
              </a:rPr>
              <a:t>Проект урока отправляется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на электронную почту</a:t>
            </a: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planurokaa@mail.ru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Автозаводский район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не позднее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11</a:t>
            </a: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июня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Требования к оформлению письм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(математика, русский язык, литературное чтение, окружающий мир, обучение грамоте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При повторной отправке 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+ «исправленное»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0" y="-243000"/>
            <a:ext cx="9901080" cy="6915240"/>
          </a:xfrm>
          <a:prstGeom prst="rect">
            <a:avLst/>
          </a:prstGeom>
          <a:ln w="0">
            <a:noFill/>
          </a:ln>
        </p:spPr>
      </p:pic>
      <p:sp>
        <p:nvSpPr>
          <p:cNvPr id="411" name="TextBox 2"/>
          <p:cNvSpPr/>
          <p:nvPr/>
        </p:nvSpPr>
        <p:spPr>
          <a:xfrm>
            <a:off x="2916360" y="220500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для </a:t>
            </a: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Сормовского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рай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3"/>
          <p:cNvSpPr/>
          <p:nvPr/>
        </p:nvSpPr>
        <p:spPr>
          <a:xfrm>
            <a:off x="3995640" y="191628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Пример оформ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260280"/>
            <a:ext cx="453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7643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В ПРИКРЕПЛЕННОМ  К ПИСЬМУ ФАЙЛЕ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04920" y="2060280"/>
            <a:ext cx="82296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Проект урока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Бланки самоанализа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Дополнительный материал: презентация;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      </a:t>
            </a: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сканкопии страниц учебника; тетради и т.д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entury Schoolbook"/>
              </a:rPr>
              <a:t>ПРЕДМЕТЫ: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Математика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Русский язык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Литературное чтение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Окружающий мир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Обучение грамоте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9T19:00:30Z</dcterms:created>
  <dc:creator>Александр</dc:creator>
  <dc:description/>
  <dc:language>en-US</dc:language>
  <cp:lastModifiedBy>*</cp:lastModifiedBy>
  <dcterms:modified xsi:type="dcterms:W3CDTF">2018-05-29T08:12:19Z</dcterms:modified>
  <cp:revision>147</cp:revision>
  <dc:subject/>
  <dc:title>Требования к итоговой работе</dc:title>
</cp:coreProperties>
</file>