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</p:sldIdLst>
  <p:sldSz cx="6858000" cy="5145088"/>
  <p:notesSz cx="9144000" cy="5145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51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625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9"/>
          </p:nvPr>
        </p:nvSpPr>
        <p:spPr>
          <a:xfrm>
            <a:off x="5179680" y="0"/>
            <a:ext cx="39625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20"/>
          </p:nvPr>
        </p:nvSpPr>
        <p:spPr>
          <a:xfrm>
            <a:off x="-360" y="4885920"/>
            <a:ext cx="39625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21"/>
          </p:nvPr>
        </p:nvSpPr>
        <p:spPr>
          <a:xfrm>
            <a:off x="5179680" y="4885920"/>
            <a:ext cx="39625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54F5-6EC7-43F8-B9F6-DAAE1F20D3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BE57-88D7-4B11-A3E3-1C5DA38234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EE23-9F62-47DE-9E0C-2EFF779040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AB3B-9373-43DF-B903-80A9AD8D40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A8A6-7542-41A9-AFA7-FF1B77C681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21A0-6C34-449D-87C8-1A16BF41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4348-3B11-4FCD-966A-1893A17D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71C7-9133-4F67-B54B-8A9E967C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536-9923-4535-8727-850EDD47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A0FB-BB49-435F-AB6C-2ACC799E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A723-A2A8-4853-9EE4-1350308D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869C-1BF3-4744-816B-89E0B185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D61E-AA1A-4B8A-93F2-BBC2020B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9C3B-A54A-4E42-B864-100C3B57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F6D6-3E62-4744-A949-CCE141FE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6FF1-A608-4CE7-A7FD-20939063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6959-FA2E-4471-B80E-291E58DA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EFAD-1E81-4E95-BC1A-035D86F8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67A4-5CE8-449E-AAA2-DAA121DA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5FC6-0B08-494E-8474-649BB141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4C77-F9AF-4566-B0C3-8D0695EB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38B5-EB80-4A0E-8782-3F991519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337F6-8B4D-4A0C-A0EC-29C89D16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063B5-9786-417C-B866-1D847832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6FFFB-B127-4FC1-A72C-E5C002A5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1C41E-3862-4DE1-98A8-1FB77607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560A2-3708-41CE-A4E5-A29834B6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3A04-723B-49DD-98FE-8C9E8E90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CFBFD-3E2D-4B4B-9B4E-3D10A6AC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C0F00-2164-4D84-BFF5-0B4E2B75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D1A9A-DF46-42F2-A8F5-FF9E2E34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CF0E9-C62A-44FB-BA7D-49661AA5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C2B23-7B5D-46C8-9F04-06A03A1C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39E86-339F-44C1-A991-BED13BF9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1C2AF-9077-4F8D-ABCE-094C09E0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7E00A-826E-4C0A-9238-87B2E107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465F1-F370-4C53-BA78-7C27316B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AA32E-98DF-4E4B-9AB6-DC6D2478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9BDC-3544-4275-8CB4-E4359249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1C553-76A8-4812-B8D8-E063DAF2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01A9A-24D4-4020-9886-7EDAA232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D34EE-9765-431C-B594-910239F2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70C12-AAD7-44E2-951A-60F3065A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6065D-F843-48BC-94B2-D8340986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13686-5C79-42A7-A59B-157FE644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F6E12-E5F0-4A88-B5BE-BF06DD0C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9F93D-D773-4F79-A8C6-434C064F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68DDC-0297-48DC-9F7A-E25218CE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8BDA2-60D1-4F81-8596-2AED4BAD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B208-793D-420F-A91A-84B77E61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E3F94-B20E-4163-A190-2D6F8EC6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8BC48-8F3D-46CD-8B17-4AD5B65E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BC806-4B10-4BE9-ABF9-969A2329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93260-AAE5-4BEC-B2C5-8E190C3C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40785-DE6F-4B4A-A6A3-B37B08D4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02BE8-88A7-493E-A6F4-052EEE83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DA189-C9C1-4909-B8C0-237CDB48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BD30E-A09D-4987-8B32-CE2A1C4B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3F2FE-2FCA-4BE9-9843-93E956AC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D97D4-9FD9-49D6-AF69-CEF47594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022E-103F-4465-A774-96D3EAB9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29093-6336-4D90-803F-3466AD94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6EF03-5617-4603-B5BB-45787A37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7A8FB-2CC3-4680-98A6-5C926163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6DC5B-0CD7-4F3B-A901-2F1C2CD5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31555-26C3-4FE0-9937-7E38F8E1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1FA2B-A232-4F48-A2A4-4247CD10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6FFCC-50F0-4C02-9E95-1AD4845C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72011-36E5-47E5-A2A9-2E82DC14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EA3C0-36E4-4DB0-BF95-C7CF0503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E6810-07A2-49DF-B20E-BDD54990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D997-6D60-4444-80D2-172A23AA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281C1-684E-432C-A1E2-CB2DC54D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07CC4-21F2-4AA0-BF06-82E7739B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42452-13C4-4DB6-97EB-E9CF175C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3981-A578-423A-9A8B-A0FA1A05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7AAB-29CC-4B14-A565-640C1C4E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k object 16"/>
          <p:cNvSpPr/>
          <p:nvPr/>
        </p:nvSpPr>
        <p:spPr>
          <a:xfrm>
            <a:off x="0" y="0"/>
            <a:ext cx="6858000" cy="514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E103-B0EC-4D2B-B7B4-AA7309AA10E1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3190-0F34-4143-B830-1F3F6CE2C08C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8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A5BF-D178-426C-BE5B-8272B43B5B98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0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1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6120-108C-482D-8559-57ACDA7C60E6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bk object 16"/>
          <p:cNvSpPr/>
          <p:nvPr/>
        </p:nvSpPr>
        <p:spPr>
          <a:xfrm>
            <a:off x="0" y="0"/>
            <a:ext cx="6858000" cy="514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3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14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AEB4-AF19-4F72-A0E4-4599050656BA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6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17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2C94-BBD9-4ACE-A18C-C4772F863455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2240" y="1906560"/>
            <a:ext cx="6549840" cy="563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0" rIns="0" tIns="1008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Рабочая программа дисциплины (Б1.В.ДВ.3) </a:t>
            </a:r>
            <a:br>
              <a:rPr sz="1800"/>
            </a:br>
            <a:r>
              <a:rPr b="0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«Педагогическая инноватика»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2371680" y="115920"/>
            <a:ext cx="1943280" cy="1790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5"/>
          <p:cNvSpPr/>
          <p:nvPr/>
        </p:nvSpPr>
        <p:spPr>
          <a:xfrm>
            <a:off x="2371680" y="2470320"/>
            <a:ext cx="1943280" cy="18396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Рисунок 2" descr=""/>
          <p:cNvPicPr/>
          <p:nvPr/>
        </p:nvPicPr>
        <p:blipFill>
          <a:blip r:embed="rId1"/>
          <a:stretch/>
        </p:blipFill>
        <p:spPr>
          <a:xfrm>
            <a:off x="2951280" y="2560680"/>
            <a:ext cx="779400" cy="9637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6"/>
          <p:cNvSpPr/>
          <p:nvPr/>
        </p:nvSpPr>
        <p:spPr>
          <a:xfrm>
            <a:off x="2293920" y="3614760"/>
            <a:ext cx="20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ffff"/>
                </a:solidFill>
                <a:latin typeface="Calibri"/>
              </a:rPr>
              <a:t>Г.А. Игнатьева, доктор пед. наук, профессор, зав. кафедрой педагог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ffff"/>
                </a:solidFill>
                <a:latin typeface="Calibri"/>
              </a:rPr>
              <a:t>и андрагогики ГБОУ ДПО НИР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7"/>
          <p:cNvSpPr/>
          <p:nvPr/>
        </p:nvSpPr>
        <p:spPr>
          <a:xfrm>
            <a:off x="985680" y="1376280"/>
            <a:ext cx="1406520" cy="28116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www.niro.nnov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Рисунок 13" descr=""/>
          <p:cNvPicPr/>
          <p:nvPr/>
        </p:nvPicPr>
        <p:blipFill>
          <a:blip r:embed="rId2"/>
          <a:stretch/>
        </p:blipFill>
        <p:spPr>
          <a:xfrm>
            <a:off x="184320" y="763560"/>
            <a:ext cx="801360" cy="64944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9"/>
          <p:cNvSpPr/>
          <p:nvPr/>
        </p:nvSpPr>
        <p:spPr>
          <a:xfrm>
            <a:off x="4314960" y="3728880"/>
            <a:ext cx="1780920" cy="28116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e-mail: innov-nn@mail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Рисунок 10" descr=""/>
          <p:cNvPicPr/>
          <p:nvPr/>
        </p:nvPicPr>
        <p:blipFill>
          <a:blip r:embed="rId3"/>
          <a:stretch/>
        </p:blipFill>
        <p:spPr>
          <a:xfrm>
            <a:off x="2425680" y="500040"/>
            <a:ext cx="1828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09160"/>
            <a:ext cx="6858000" cy="276120"/>
          </a:xfrm>
          <a:prstGeom prst="rect">
            <a:avLst/>
          </a:prstGeom>
          <a:solidFill>
            <a:srgbClr val="95b3d7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Педагогическая инноватика 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5" name="Схема 4" descr=""/>
          <p:cNvPicPr/>
          <p:nvPr/>
        </p:nvPicPr>
        <p:blipFill>
          <a:blip r:embed="rId1"/>
          <a:stretch/>
        </p:blipFill>
        <p:spPr>
          <a:xfrm>
            <a:off x="-23760" y="853920"/>
            <a:ext cx="6881760" cy="32608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1595520" y="3181320"/>
            <a:ext cx="5257800" cy="9169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Хуторской А.В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: учебное пособие для вузов. – Издательский центр «Академия», 2008. – 256 с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Лазарев В.С., Мартиросян Б.П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. Учебник для студентов высших учебных заведений, обучающихся по направлению 540600 (050700) «Педагогика». – М.: Просвещение, 2006. – 217 с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Рисунок 5" descr=""/>
          <p:cNvPicPr/>
          <p:nvPr/>
        </p:nvPicPr>
        <p:blipFill>
          <a:blip r:embed="rId2"/>
          <a:stretch/>
        </p:blipFill>
        <p:spPr>
          <a:xfrm>
            <a:off x="304920" y="2036880"/>
            <a:ext cx="11523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9480" y="173160"/>
            <a:ext cx="6751800" cy="645840"/>
          </a:xfrm>
          <a:prstGeom prst="rect">
            <a:avLst/>
          </a:prstGeom>
          <a:solidFill>
            <a:srgbClr val="8eb4e3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ПЕДАГОГИЧЕСКАЯ ИННОВАТИКА:</a:t>
            </a:r>
            <a:br>
              <a:rPr sz="1400"/>
            </a:br>
            <a:r>
              <a:rPr b="1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понятие, объект, предмет</a:t>
            </a:r>
            <a:br>
              <a:rPr sz="1400"/>
            </a:br>
            <a:endParaRPr b="0" lang="en-US" sz="1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9" name="Схема 4" descr=""/>
          <p:cNvPicPr/>
          <p:nvPr/>
        </p:nvPicPr>
        <p:blipFill>
          <a:blip r:embed="rId1"/>
          <a:stretch/>
        </p:blipFill>
        <p:spPr>
          <a:xfrm>
            <a:off x="36360" y="1103400"/>
            <a:ext cx="6755040" cy="317016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5" descr=""/>
          <p:cNvPicPr/>
          <p:nvPr/>
        </p:nvPicPr>
        <p:blipFill>
          <a:blip r:embed="rId2"/>
          <a:stretch/>
        </p:blipFill>
        <p:spPr>
          <a:xfrm>
            <a:off x="304920" y="182520"/>
            <a:ext cx="115236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6880" y="249120"/>
            <a:ext cx="6629400" cy="432000"/>
          </a:xfrm>
          <a:prstGeom prst="rect">
            <a:avLst/>
          </a:prstGeom>
          <a:solidFill>
            <a:srgbClr val="b9cde5"/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31320" bIns="0" anchor="t">
            <a:noAutofit/>
          </a:bodyPr>
          <a:p>
            <a:pPr marL="61920" indent="0" algn="ctr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4a7b"/>
                </a:solidFill>
                <a:latin typeface="Trebuchet MS"/>
                <a:ea typeface="Trebuchet MS"/>
              </a:rPr>
              <a:t>ПЕДАГОГИЧЕСКАЯ ИННОВАТИКА</a:t>
            </a:r>
            <a:br>
              <a:rPr sz="1300"/>
            </a:br>
            <a:r>
              <a:rPr b="1" lang="ru-RU" sz="1300" spc="-1" strike="noStrike">
                <a:solidFill>
                  <a:srgbClr val="604a7b"/>
                </a:solidFill>
                <a:latin typeface="Trebuchet MS"/>
                <a:ea typeface="Trebuchet MS"/>
              </a:rPr>
              <a:t>Основная литература</a:t>
            </a:r>
            <a:endParaRPr b="0" lang="en-US" sz="1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2" name="object 4"/>
          <p:cNvSpPr/>
          <p:nvPr/>
        </p:nvSpPr>
        <p:spPr>
          <a:xfrm>
            <a:off x="950760" y="1320840"/>
            <a:ext cx="5712120" cy="55872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530351"/>
                </a:moveTo>
                <a:lnTo>
                  <a:pt x="265176" y="530351"/>
                </a:lnTo>
                <a:lnTo>
                  <a:pt x="0" y="265175"/>
                </a:lnTo>
                <a:lnTo>
                  <a:pt x="265176" y="0"/>
                </a:lnTo>
                <a:lnTo>
                  <a:pt x="7176515" y="0"/>
                </a:lnTo>
                <a:lnTo>
                  <a:pt x="7176515" y="530351"/>
                </a:lnTo>
                <a:close/>
              </a:path>
            </a:pathLst>
          </a:custGeom>
          <a:noFill/>
          <a:ln w="25920">
            <a:solidFill>
              <a:srgbClr val="2540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object 6"/>
          <p:cNvSpPr/>
          <p:nvPr/>
        </p:nvSpPr>
        <p:spPr>
          <a:xfrm>
            <a:off x="966960" y="2616120"/>
            <a:ext cx="5703840" cy="57168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0"/>
                </a:moveTo>
                <a:lnTo>
                  <a:pt x="265176" y="0"/>
                </a:lnTo>
                <a:lnTo>
                  <a:pt x="0" y="265175"/>
                </a:lnTo>
                <a:lnTo>
                  <a:pt x="265176" y="530351"/>
                </a:lnTo>
                <a:lnTo>
                  <a:pt x="7176515" y="530351"/>
                </a:lnTo>
                <a:lnTo>
                  <a:pt x="71765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object 7"/>
          <p:cNvSpPr/>
          <p:nvPr/>
        </p:nvSpPr>
        <p:spPr>
          <a:xfrm>
            <a:off x="933480" y="2017800"/>
            <a:ext cx="5740200" cy="45072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530351"/>
                </a:moveTo>
                <a:lnTo>
                  <a:pt x="265176" y="530351"/>
                </a:lnTo>
                <a:lnTo>
                  <a:pt x="0" y="265175"/>
                </a:lnTo>
                <a:lnTo>
                  <a:pt x="265176" y="0"/>
                </a:lnTo>
                <a:lnTo>
                  <a:pt x="7176515" y="0"/>
                </a:lnTo>
                <a:lnTo>
                  <a:pt x="7176515" y="530351"/>
                </a:lnTo>
                <a:close/>
              </a:path>
            </a:pathLst>
          </a:custGeom>
          <a:noFill/>
          <a:ln w="25920">
            <a:solidFill>
              <a:srgbClr val="2540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object 13"/>
          <p:cNvSpPr/>
          <p:nvPr/>
        </p:nvSpPr>
        <p:spPr>
          <a:xfrm>
            <a:off x="936720" y="2676600"/>
            <a:ext cx="5734080" cy="57132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530351"/>
                </a:moveTo>
                <a:lnTo>
                  <a:pt x="265176" y="530351"/>
                </a:lnTo>
                <a:lnTo>
                  <a:pt x="0" y="265175"/>
                </a:lnTo>
                <a:lnTo>
                  <a:pt x="265176" y="0"/>
                </a:lnTo>
                <a:lnTo>
                  <a:pt x="7176515" y="0"/>
                </a:lnTo>
                <a:lnTo>
                  <a:pt x="7176515" y="530351"/>
                </a:lnTo>
                <a:close/>
              </a:path>
            </a:pathLst>
          </a:custGeom>
          <a:noFill/>
          <a:ln w="25920">
            <a:solidFill>
              <a:srgbClr val="2540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19"/>
          <p:cNvSpPr/>
          <p:nvPr/>
        </p:nvSpPr>
        <p:spPr>
          <a:xfrm>
            <a:off x="46080" y="1231920"/>
            <a:ext cx="865080" cy="23972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Рисунок 23" descr=""/>
          <p:cNvPicPr/>
          <p:nvPr/>
        </p:nvPicPr>
        <p:blipFill>
          <a:blip r:embed="rId1"/>
          <a:stretch/>
        </p:blipFill>
        <p:spPr>
          <a:xfrm>
            <a:off x="228600" y="1946160"/>
            <a:ext cx="500040" cy="69372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2" descr=""/>
          <p:cNvPicPr/>
          <p:nvPr/>
        </p:nvPicPr>
        <p:blipFill>
          <a:blip r:embed="rId2"/>
          <a:stretch/>
        </p:blipFill>
        <p:spPr>
          <a:xfrm>
            <a:off x="214200" y="1206360"/>
            <a:ext cx="528840" cy="69876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4"/>
          <p:cNvSpPr/>
          <p:nvPr/>
        </p:nvSpPr>
        <p:spPr>
          <a:xfrm>
            <a:off x="1106640" y="2085840"/>
            <a:ext cx="5446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Хуторской А.В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Дидактика: Учебник для вузов. Стандарт третьего поколения. СПб.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итер, 2017.- 720 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1066680" y="2709720"/>
            <a:ext cx="5316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Хуторской А.В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: учебное пособие для вузов. – Издательский центр «Академия», 2008. – 256 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Рисунок 6" descr=""/>
          <p:cNvPicPr/>
          <p:nvPr/>
        </p:nvPicPr>
        <p:blipFill>
          <a:blip r:embed="rId3"/>
          <a:stretch/>
        </p:blipFill>
        <p:spPr>
          <a:xfrm>
            <a:off x="201600" y="2771640"/>
            <a:ext cx="527040" cy="6750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29"/>
          <p:cNvSpPr/>
          <p:nvPr/>
        </p:nvSpPr>
        <p:spPr>
          <a:xfrm>
            <a:off x="88920" y="4132440"/>
            <a:ext cx="6629400" cy="2966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254061"/>
                </a:solidFill>
                <a:latin typeface="Calibri"/>
                <a:ea typeface="Calibri"/>
              </a:rPr>
              <a:t>             </a:t>
            </a:r>
            <a:r>
              <a:rPr b="1" i="1" lang="ru-RU" sz="1100" spc="-1" strike="noStrike">
                <a:solidFill>
                  <a:srgbClr val="254061"/>
                </a:solidFill>
                <a:latin typeface="Calibri"/>
                <a:ea typeface="Calibri"/>
              </a:rPr>
              <a:t>КОНТАКТНАЯ ИНФОРМАЦ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Прямоугольник 8"/>
          <p:cNvSpPr/>
          <p:nvPr/>
        </p:nvSpPr>
        <p:spPr>
          <a:xfrm>
            <a:off x="3873600" y="4165560"/>
            <a:ext cx="281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254061"/>
                </a:solidFill>
                <a:latin typeface="Arial"/>
                <a:ea typeface="Arial"/>
              </a:rPr>
              <a:t>Тел</a:t>
            </a:r>
            <a:r>
              <a:rPr b="1" lang="en-US" sz="900" spc="-1" strike="noStrike">
                <a:solidFill>
                  <a:srgbClr val="254061"/>
                </a:solidFill>
                <a:latin typeface="Arial"/>
                <a:ea typeface="Arial"/>
              </a:rPr>
              <a:t>.: (831) 468-10-75</a:t>
            </a:r>
            <a:r>
              <a:rPr b="1" lang="ru-RU" sz="900" spc="-1" strike="noStrike">
                <a:solidFill>
                  <a:srgbClr val="254061"/>
                </a:solidFill>
                <a:latin typeface="Arial"/>
                <a:ea typeface="Arial"/>
              </a:rPr>
              <a:t>,</a:t>
            </a:r>
            <a:r>
              <a:rPr b="1" lang="en-US" sz="900" spc="-1" strike="noStrike">
                <a:solidFill>
                  <a:srgbClr val="254061"/>
                </a:solidFill>
                <a:latin typeface="Arial"/>
                <a:ea typeface="Arial"/>
              </a:rPr>
              <a:t> e-mail: innov-nn@mail.r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Прямоугольник 4"/>
          <p:cNvSpPr/>
          <p:nvPr/>
        </p:nvSpPr>
        <p:spPr>
          <a:xfrm>
            <a:off x="1160640" y="1325520"/>
            <a:ext cx="525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Лазарев В.С., Мартиросян Б.П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. Учебник для студентов высших учебных заведений, обучающихся по направлению 540600 (050700) «Педагогика». – М.: Просвещение, 2006. – 217 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Рисунок 17" descr=""/>
          <p:cNvPicPr/>
          <p:nvPr/>
        </p:nvPicPr>
        <p:blipFill>
          <a:blip r:embed="rId4"/>
          <a:stretch/>
        </p:blipFill>
        <p:spPr>
          <a:xfrm>
            <a:off x="2670120" y="3859200"/>
            <a:ext cx="12794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8T12:29:05Z</dcterms:created>
  <dc:creator>danilov@halfbudget.com</dc:creator>
  <dc:description/>
  <dc:language>en-US</dc:language>
  <cp:lastModifiedBy>Kafedra</cp:lastModifiedBy>
  <dcterms:modified xsi:type="dcterms:W3CDTF">2018-06-04T11:20:43Z</dcterms:modified>
  <cp:revision>1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6-01-26T00:00:00Z</vt:filetime>
  </property>
  <property fmtid="{D5CDD505-2E9C-101B-9397-08002B2CF9AE}" pid="3" name="Creator">
    <vt:lpwstr>Microsoft® PowerPoint® 2013</vt:lpwstr>
  </property>
  <property fmtid="{D5CDD505-2E9C-101B-9397-08002B2CF9AE}" pid="4" name="LastSaved">
    <vt:filetime>2018-02-08T00:00:00Z</vt:filetime>
  </property>
</Properties>
</file>